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j0074852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D47CB-E9A9-4019-9878-B929929051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game takes no time to prepare! Just gather questions you want to review with the kids, a worksheet they worked on or questions in your head and go. Divide your class into 4 groups and designate each team a car. Whoever gets the questions right, click on their car and it’ll drive 1/4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f the way around the track. First team to make a lap A) wins. B) gets the point. C) gets a prize. You then need to restart a new lap by clicking on new lap. This will reset all the cars. There are 15 laps in the game, but you don’t have to play them 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FAAD-29E7-42EC-8D7F-D0D0CB6E3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381D-5C08-4ABA-B623-516E0640C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F5BF-C7A7-4D4D-87D3-DFB596559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5816-5C99-4443-B444-5B80283F9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C049-45D3-4017-BD54-9ECF8D433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E050-C5B1-4502-96DA-19B83AA4E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8390-C101-4B10-8CD3-F0FB477C4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875A-48C7-4D8D-99A4-6CC6CEEDC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CC81-E966-48DF-B9BD-978789F1A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61B0-1B75-4457-9AB1-1235AF9B6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DC37-B74D-4282-A6CB-7BC6EB898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0488-AD38-4495-8FBA-746411716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AE5EF-7748-48C7-927C-F29BDF118F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audio" Target="../media/j0074852.wav"/><Relationship Id="rId6" Type="http://schemas.openxmlformats.org/officeDocument/2006/relationships/audio" Target="../media/j0074852.wav"/><Relationship Id="rId7" Type="http://schemas.openxmlformats.org/officeDocument/2006/relationships/audio" Target="../media/j0074852.wav"/><Relationship Id="rId8" Type="http://schemas.openxmlformats.org/officeDocument/2006/relationships/audio" Target="../media/j0074852.wav"/><Relationship Id="rId9" Type="http://schemas.openxmlformats.org/officeDocument/2006/relationships/audio" Target="../media/j0074852.wav"/><Relationship Id="rId10" Type="http://schemas.openxmlformats.org/officeDocument/2006/relationships/audio" Target="../media/j0074852.wav"/><Relationship Id="rId11" Type="http://schemas.openxmlformats.org/officeDocument/2006/relationships/audio" Target="../media/j0074852.wav"/><Relationship Id="rId12" Type="http://schemas.openxmlformats.org/officeDocument/2006/relationships/audio" Target="../media/j0074852.wav"/><Relationship Id="rId13" Type="http://schemas.openxmlformats.org/officeDocument/2006/relationships/audio" Target="../media/j0074852.wav"/><Relationship Id="rId14" Type="http://schemas.openxmlformats.org/officeDocument/2006/relationships/audio" Target="../media/j0074852.wav"/><Relationship Id="rId15" Type="http://schemas.openxmlformats.org/officeDocument/2006/relationships/audio" Target="../media/j0074852.wav"/><Relationship Id="rId16" Type="http://schemas.openxmlformats.org/officeDocument/2006/relationships/audio" Target="../media/j0074852.wav"/><Relationship Id="rId17" Type="http://schemas.openxmlformats.org/officeDocument/2006/relationships/audio" Target="../media/j0074852.wav"/><Relationship Id="rId18" Type="http://schemas.openxmlformats.org/officeDocument/2006/relationships/audio" Target="../media/j0074852.wav"/><Relationship Id="rId19" Type="http://schemas.openxmlformats.org/officeDocument/2006/relationships/audio" Target="../media/j0074852.wav"/><Relationship Id="rId20" Type="http://schemas.openxmlformats.org/officeDocument/2006/relationships/audio" Target="../media/j0074852.wav"/><Relationship Id="rId2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audio" Target="../media/j0074852.wav"/><Relationship Id="rId6" Type="http://schemas.openxmlformats.org/officeDocument/2006/relationships/audio" Target="../media/j0074852.wav"/><Relationship Id="rId7" Type="http://schemas.openxmlformats.org/officeDocument/2006/relationships/audio" Target="../media/j0074852.wav"/><Relationship Id="rId8" Type="http://schemas.openxmlformats.org/officeDocument/2006/relationships/audio" Target="../media/j0074852.wav"/><Relationship Id="rId9" Type="http://schemas.openxmlformats.org/officeDocument/2006/relationships/audio" Target="../media/j0074852.wav"/><Relationship Id="rId10" Type="http://schemas.openxmlformats.org/officeDocument/2006/relationships/audio" Target="../media/j0074852.wav"/><Relationship Id="rId11" Type="http://schemas.openxmlformats.org/officeDocument/2006/relationships/audio" Target="../media/j0074852.wav"/><Relationship Id="rId12" Type="http://schemas.openxmlformats.org/officeDocument/2006/relationships/audio" Target="../media/j0074852.wav"/><Relationship Id="rId13" Type="http://schemas.openxmlformats.org/officeDocument/2006/relationships/audio" Target="../media/j0074852.wav"/><Relationship Id="rId14" Type="http://schemas.openxmlformats.org/officeDocument/2006/relationships/audio" Target="../media/j0074852.wav"/><Relationship Id="rId15" Type="http://schemas.openxmlformats.org/officeDocument/2006/relationships/audio" Target="../media/j0074852.wav"/><Relationship Id="rId16" Type="http://schemas.openxmlformats.org/officeDocument/2006/relationships/audio" Target="../media/j0074852.wav"/><Relationship Id="rId17" Type="http://schemas.openxmlformats.org/officeDocument/2006/relationships/audio" Target="../media/j0074852.wav"/><Relationship Id="rId18" Type="http://schemas.openxmlformats.org/officeDocument/2006/relationships/audio" Target="../media/j0074852.wav"/><Relationship Id="rId19" Type="http://schemas.openxmlformats.org/officeDocument/2006/relationships/audio" Target="../media/j0074852.wav"/><Relationship Id="rId20" Type="http://schemas.openxmlformats.org/officeDocument/2006/relationships/audio" Target="../media/j0074852.wav"/><Relationship Id="rId2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audio" Target="../media/j0074852.wav"/><Relationship Id="rId6" Type="http://schemas.openxmlformats.org/officeDocument/2006/relationships/audio" Target="../media/j0074852.wav"/><Relationship Id="rId7" Type="http://schemas.openxmlformats.org/officeDocument/2006/relationships/audio" Target="../media/j0074852.wav"/><Relationship Id="rId8" Type="http://schemas.openxmlformats.org/officeDocument/2006/relationships/audio" Target="../media/j0074852.wav"/><Relationship Id="rId9" Type="http://schemas.openxmlformats.org/officeDocument/2006/relationships/audio" Target="../media/j0074852.wav"/><Relationship Id="rId10" Type="http://schemas.openxmlformats.org/officeDocument/2006/relationships/audio" Target="../media/j0074852.wav"/><Relationship Id="rId11" Type="http://schemas.openxmlformats.org/officeDocument/2006/relationships/audio" Target="../media/j0074852.wav"/><Relationship Id="rId12" Type="http://schemas.openxmlformats.org/officeDocument/2006/relationships/audio" Target="../media/j0074852.wav"/><Relationship Id="rId13" Type="http://schemas.openxmlformats.org/officeDocument/2006/relationships/audio" Target="../media/j0074852.wav"/><Relationship Id="rId14" Type="http://schemas.openxmlformats.org/officeDocument/2006/relationships/audio" Target="../media/j0074852.wav"/><Relationship Id="rId15" Type="http://schemas.openxmlformats.org/officeDocument/2006/relationships/audio" Target="../media/j0074852.wav"/><Relationship Id="rId16" Type="http://schemas.openxmlformats.org/officeDocument/2006/relationships/audio" Target="../media/j0074852.wav"/><Relationship Id="rId17" Type="http://schemas.openxmlformats.org/officeDocument/2006/relationships/audio" Target="../media/j0074852.wav"/><Relationship Id="rId18" Type="http://schemas.openxmlformats.org/officeDocument/2006/relationships/audio" Target="../media/j0074852.wav"/><Relationship Id="rId19" Type="http://schemas.openxmlformats.org/officeDocument/2006/relationships/audio" Target="../media/j0074852.wav"/><Relationship Id="rId20" Type="http://schemas.openxmlformats.org/officeDocument/2006/relationships/audio" Target="../media/j0074852.wav"/><Relationship Id="rId2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audio" Target="../media/j0074852.wav"/><Relationship Id="rId6" Type="http://schemas.openxmlformats.org/officeDocument/2006/relationships/audio" Target="../media/j0074852.wav"/><Relationship Id="rId7" Type="http://schemas.openxmlformats.org/officeDocument/2006/relationships/audio" Target="../media/j0074852.wav"/><Relationship Id="rId8" Type="http://schemas.openxmlformats.org/officeDocument/2006/relationships/audio" Target="../media/j0074852.wav"/><Relationship Id="rId9" Type="http://schemas.openxmlformats.org/officeDocument/2006/relationships/audio" Target="../media/j0074852.wav"/><Relationship Id="rId10" Type="http://schemas.openxmlformats.org/officeDocument/2006/relationships/audio" Target="../media/j0074852.wav"/><Relationship Id="rId11" Type="http://schemas.openxmlformats.org/officeDocument/2006/relationships/audio" Target="../media/j0074852.wav"/><Relationship Id="rId12" Type="http://schemas.openxmlformats.org/officeDocument/2006/relationships/audio" Target="../media/j0074852.wav"/><Relationship Id="rId13" Type="http://schemas.openxmlformats.org/officeDocument/2006/relationships/audio" Target="../media/j0074852.wav"/><Relationship Id="rId14" Type="http://schemas.openxmlformats.org/officeDocument/2006/relationships/audio" Target="../media/j0074852.wav"/><Relationship Id="rId15" Type="http://schemas.openxmlformats.org/officeDocument/2006/relationships/audio" Target="../media/j0074852.wav"/><Relationship Id="rId16" Type="http://schemas.openxmlformats.org/officeDocument/2006/relationships/audio" Target="../media/j0074852.wav"/><Relationship Id="rId17" Type="http://schemas.openxmlformats.org/officeDocument/2006/relationships/audio" Target="../media/j0074852.wav"/><Relationship Id="rId18" Type="http://schemas.openxmlformats.org/officeDocument/2006/relationships/audio" Target="../media/j0074852.wav"/><Relationship Id="rId19" Type="http://schemas.openxmlformats.org/officeDocument/2006/relationships/audio" Target="../media/j0074852.wav"/><Relationship Id="rId20" Type="http://schemas.openxmlformats.org/officeDocument/2006/relationships/audio" Target="../media/j0074852.wav"/><Relationship Id="rId2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audio" Target="../media/j0074852.wav"/><Relationship Id="rId6" Type="http://schemas.openxmlformats.org/officeDocument/2006/relationships/audio" Target="../media/j0074852.wav"/><Relationship Id="rId7" Type="http://schemas.openxmlformats.org/officeDocument/2006/relationships/audio" Target="../media/j0074852.wav"/><Relationship Id="rId8" Type="http://schemas.openxmlformats.org/officeDocument/2006/relationships/audio" Target="../media/j0074852.wav"/><Relationship Id="rId9" Type="http://schemas.openxmlformats.org/officeDocument/2006/relationships/audio" Target="../media/j0074852.wav"/><Relationship Id="rId10" Type="http://schemas.openxmlformats.org/officeDocument/2006/relationships/audio" Target="../media/j0074852.wav"/><Relationship Id="rId11" Type="http://schemas.openxmlformats.org/officeDocument/2006/relationships/audio" Target="../media/j0074852.wav"/><Relationship Id="rId12" Type="http://schemas.openxmlformats.org/officeDocument/2006/relationships/audio" Target="../media/j0074852.wav"/><Relationship Id="rId13" Type="http://schemas.openxmlformats.org/officeDocument/2006/relationships/audio" Target="../media/j0074852.wav"/><Relationship Id="rId14" Type="http://schemas.openxmlformats.org/officeDocument/2006/relationships/audio" Target="../media/j0074852.wav"/><Relationship Id="rId15" Type="http://schemas.openxmlformats.org/officeDocument/2006/relationships/audio" Target="../media/j0074852.wav"/><Relationship Id="rId16" Type="http://schemas.openxmlformats.org/officeDocument/2006/relationships/audio" Target="../media/j0074852.wav"/><Relationship Id="rId17" Type="http://schemas.openxmlformats.org/officeDocument/2006/relationships/audio" Target="../media/j0074852.wav"/><Relationship Id="rId18" Type="http://schemas.openxmlformats.org/officeDocument/2006/relationships/audio" Target="../media/j0074852.wav"/><Relationship Id="rId19" Type="http://schemas.openxmlformats.org/officeDocument/2006/relationships/audio" Target="../media/j0074852.wav"/><Relationship Id="rId20" Type="http://schemas.openxmlformats.org/officeDocument/2006/relationships/audio" Target="../media/j0074852.wav"/><Relationship Id="rId2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audio" Target="../media/j0074852.wav"/><Relationship Id="rId6" Type="http://schemas.openxmlformats.org/officeDocument/2006/relationships/audio" Target="../media/j0074852.wav"/><Relationship Id="rId7" Type="http://schemas.openxmlformats.org/officeDocument/2006/relationships/audio" Target="../media/j0074852.wav"/><Relationship Id="rId8" Type="http://schemas.openxmlformats.org/officeDocument/2006/relationships/audio" Target="../media/j0074852.wav"/><Relationship Id="rId9" Type="http://schemas.openxmlformats.org/officeDocument/2006/relationships/audio" Target="../media/j0074852.wav"/><Relationship Id="rId10" Type="http://schemas.openxmlformats.org/officeDocument/2006/relationships/audio" Target="../media/j0074852.wav"/><Relationship Id="rId11" Type="http://schemas.openxmlformats.org/officeDocument/2006/relationships/audio" Target="../media/j0074852.wav"/><Relationship Id="rId12" Type="http://schemas.openxmlformats.org/officeDocument/2006/relationships/audio" Target="../media/j0074852.wav"/><Relationship Id="rId13" Type="http://schemas.openxmlformats.org/officeDocument/2006/relationships/audio" Target="../media/j0074852.wav"/><Relationship Id="rId14" Type="http://schemas.openxmlformats.org/officeDocument/2006/relationships/audio" Target="../media/j0074852.wav"/><Relationship Id="rId15" Type="http://schemas.openxmlformats.org/officeDocument/2006/relationships/audio" Target="../media/j0074852.wav"/><Relationship Id="rId16" Type="http://schemas.openxmlformats.org/officeDocument/2006/relationships/audio" Target="../media/j0074852.wav"/><Relationship Id="rId17" Type="http://schemas.openxmlformats.org/officeDocument/2006/relationships/audio" Target="../media/j0074852.wav"/><Relationship Id="rId18" Type="http://schemas.openxmlformats.org/officeDocument/2006/relationships/audio" Target="../media/j0074852.wav"/><Relationship Id="rId19" Type="http://schemas.openxmlformats.org/officeDocument/2006/relationships/audio" Target="../media/j0074852.wav"/><Relationship Id="rId20" Type="http://schemas.openxmlformats.org/officeDocument/2006/relationships/audio" Target="../media/j0074852.wav"/><Relationship Id="rId2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audio" Target="../media/j0074852.wav"/><Relationship Id="rId6" Type="http://schemas.openxmlformats.org/officeDocument/2006/relationships/audio" Target="../media/j0074852.wav"/><Relationship Id="rId7" Type="http://schemas.openxmlformats.org/officeDocument/2006/relationships/audio" Target="../media/j0074852.wav"/><Relationship Id="rId8" Type="http://schemas.openxmlformats.org/officeDocument/2006/relationships/audio" Target="../media/j0074852.wav"/><Relationship Id="rId9" Type="http://schemas.openxmlformats.org/officeDocument/2006/relationships/audio" Target="../media/j0074852.wav"/><Relationship Id="rId10" Type="http://schemas.openxmlformats.org/officeDocument/2006/relationships/audio" Target="../media/j0074852.wav"/><Relationship Id="rId11" Type="http://schemas.openxmlformats.org/officeDocument/2006/relationships/audio" Target="../media/j0074852.wav"/><Relationship Id="rId12" Type="http://schemas.openxmlformats.org/officeDocument/2006/relationships/audio" Target="../media/j0074852.wav"/><Relationship Id="rId13" Type="http://schemas.openxmlformats.org/officeDocument/2006/relationships/audio" Target="../media/j0074852.wav"/><Relationship Id="rId14" Type="http://schemas.openxmlformats.org/officeDocument/2006/relationships/audio" Target="../media/j0074852.wav"/><Relationship Id="rId15" Type="http://schemas.openxmlformats.org/officeDocument/2006/relationships/audio" Target="../media/j0074852.wav"/><Relationship Id="rId16" Type="http://schemas.openxmlformats.org/officeDocument/2006/relationships/audio" Target="../media/j0074852.wav"/><Relationship Id="rId17" Type="http://schemas.openxmlformats.org/officeDocument/2006/relationships/audio" Target="../media/j0074852.wav"/><Relationship Id="rId18" Type="http://schemas.openxmlformats.org/officeDocument/2006/relationships/audio" Target="../media/j0074852.wav"/><Relationship Id="rId19" Type="http://schemas.openxmlformats.org/officeDocument/2006/relationships/audio" Target="../media/j0074852.wav"/><Relationship Id="rId20" Type="http://schemas.openxmlformats.org/officeDocument/2006/relationships/audio" Target="../media/j0074852.wav"/><Relationship Id="rId2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audio" Target="../media/j0074852.wav"/><Relationship Id="rId6" Type="http://schemas.openxmlformats.org/officeDocument/2006/relationships/audio" Target="../media/j0074852.wav"/><Relationship Id="rId7" Type="http://schemas.openxmlformats.org/officeDocument/2006/relationships/audio" Target="../media/j0074852.wav"/><Relationship Id="rId8" Type="http://schemas.openxmlformats.org/officeDocument/2006/relationships/audio" Target="../media/j0074852.wav"/><Relationship Id="rId9" Type="http://schemas.openxmlformats.org/officeDocument/2006/relationships/audio" Target="../media/j0074852.wav"/><Relationship Id="rId10" Type="http://schemas.openxmlformats.org/officeDocument/2006/relationships/audio" Target="../media/j0074852.wav"/><Relationship Id="rId11" Type="http://schemas.openxmlformats.org/officeDocument/2006/relationships/audio" Target="../media/j0074852.wav"/><Relationship Id="rId12" Type="http://schemas.openxmlformats.org/officeDocument/2006/relationships/audio" Target="../media/j0074852.wav"/><Relationship Id="rId13" Type="http://schemas.openxmlformats.org/officeDocument/2006/relationships/audio" Target="../media/j0074852.wav"/><Relationship Id="rId14" Type="http://schemas.openxmlformats.org/officeDocument/2006/relationships/audio" Target="../media/j0074852.wav"/><Relationship Id="rId15" Type="http://schemas.openxmlformats.org/officeDocument/2006/relationships/audio" Target="../media/j0074852.wav"/><Relationship Id="rId16" Type="http://schemas.openxmlformats.org/officeDocument/2006/relationships/audio" Target="../media/j0074852.wav"/><Relationship Id="rId17" Type="http://schemas.openxmlformats.org/officeDocument/2006/relationships/audio" Target="../media/j0074852.wav"/><Relationship Id="rId18" Type="http://schemas.openxmlformats.org/officeDocument/2006/relationships/audio" Target="../media/j0074852.wav"/><Relationship Id="rId19" Type="http://schemas.openxmlformats.org/officeDocument/2006/relationships/audio" Target="../media/j0074852.wav"/><Relationship Id="rId20" Type="http://schemas.openxmlformats.org/officeDocument/2006/relationships/audio" Target="../media/j0074852.wav"/><Relationship Id="rId2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audio" Target="../media/j0074852.wav"/><Relationship Id="rId6" Type="http://schemas.openxmlformats.org/officeDocument/2006/relationships/audio" Target="../media/j0074852.wav"/><Relationship Id="rId7" Type="http://schemas.openxmlformats.org/officeDocument/2006/relationships/audio" Target="../media/j0074852.wav"/><Relationship Id="rId8" Type="http://schemas.openxmlformats.org/officeDocument/2006/relationships/audio" Target="../media/j0074852.wav"/><Relationship Id="rId9" Type="http://schemas.openxmlformats.org/officeDocument/2006/relationships/audio" Target="../media/j0074852.wav"/><Relationship Id="rId10" Type="http://schemas.openxmlformats.org/officeDocument/2006/relationships/audio" Target="../media/j0074852.wav"/><Relationship Id="rId11" Type="http://schemas.openxmlformats.org/officeDocument/2006/relationships/audio" Target="../media/j0074852.wav"/><Relationship Id="rId12" Type="http://schemas.openxmlformats.org/officeDocument/2006/relationships/audio" Target="../media/j0074852.wav"/><Relationship Id="rId13" Type="http://schemas.openxmlformats.org/officeDocument/2006/relationships/audio" Target="../media/j0074852.wav"/><Relationship Id="rId14" Type="http://schemas.openxmlformats.org/officeDocument/2006/relationships/audio" Target="../media/j0074852.wav"/><Relationship Id="rId15" Type="http://schemas.openxmlformats.org/officeDocument/2006/relationships/audio" Target="../media/j0074852.wav"/><Relationship Id="rId16" Type="http://schemas.openxmlformats.org/officeDocument/2006/relationships/audio" Target="../media/j0074852.wav"/><Relationship Id="rId17" Type="http://schemas.openxmlformats.org/officeDocument/2006/relationships/audio" Target="../media/j0074852.wav"/><Relationship Id="rId18" Type="http://schemas.openxmlformats.org/officeDocument/2006/relationships/audio" Target="../media/j0074852.wav"/><Relationship Id="rId19" Type="http://schemas.openxmlformats.org/officeDocument/2006/relationships/audio" Target="../media/j0074852.wav"/><Relationship Id="rId20" Type="http://schemas.openxmlformats.org/officeDocument/2006/relationships/audio" Target="../media/j0074852.wav"/><Relationship Id="rId2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audio" Target="../media/j0074852.wav"/><Relationship Id="rId6" Type="http://schemas.openxmlformats.org/officeDocument/2006/relationships/audio" Target="../media/j0074852.wav"/><Relationship Id="rId7" Type="http://schemas.openxmlformats.org/officeDocument/2006/relationships/audio" Target="../media/j0074852.wav"/><Relationship Id="rId8" Type="http://schemas.openxmlformats.org/officeDocument/2006/relationships/audio" Target="../media/j0074852.wav"/><Relationship Id="rId9" Type="http://schemas.openxmlformats.org/officeDocument/2006/relationships/audio" Target="../media/j0074852.wav"/><Relationship Id="rId10" Type="http://schemas.openxmlformats.org/officeDocument/2006/relationships/audio" Target="../media/j0074852.wav"/><Relationship Id="rId11" Type="http://schemas.openxmlformats.org/officeDocument/2006/relationships/audio" Target="../media/j0074852.wav"/><Relationship Id="rId12" Type="http://schemas.openxmlformats.org/officeDocument/2006/relationships/audio" Target="../media/j0074852.wav"/><Relationship Id="rId13" Type="http://schemas.openxmlformats.org/officeDocument/2006/relationships/audio" Target="../media/j0074852.wav"/><Relationship Id="rId14" Type="http://schemas.openxmlformats.org/officeDocument/2006/relationships/audio" Target="../media/j0074852.wav"/><Relationship Id="rId15" Type="http://schemas.openxmlformats.org/officeDocument/2006/relationships/audio" Target="../media/j0074852.wav"/><Relationship Id="rId16" Type="http://schemas.openxmlformats.org/officeDocument/2006/relationships/audio" Target="../media/j0074852.wav"/><Relationship Id="rId17" Type="http://schemas.openxmlformats.org/officeDocument/2006/relationships/audio" Target="../media/j0074852.wav"/><Relationship Id="rId18" Type="http://schemas.openxmlformats.org/officeDocument/2006/relationships/audio" Target="../media/j0074852.wav"/><Relationship Id="rId19" Type="http://schemas.openxmlformats.org/officeDocument/2006/relationships/audio" Target="../media/j0074852.wav"/><Relationship Id="rId20" Type="http://schemas.openxmlformats.org/officeDocument/2006/relationships/audio" Target="../media/j0074852.wav"/><Relationship Id="rId2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audio" Target="../media/j0074852.wav"/><Relationship Id="rId6" Type="http://schemas.openxmlformats.org/officeDocument/2006/relationships/audio" Target="../media/j0074852.wav"/><Relationship Id="rId7" Type="http://schemas.openxmlformats.org/officeDocument/2006/relationships/audio" Target="../media/j0074852.wav"/><Relationship Id="rId8" Type="http://schemas.openxmlformats.org/officeDocument/2006/relationships/audio" Target="../media/j0074852.wav"/><Relationship Id="rId9" Type="http://schemas.openxmlformats.org/officeDocument/2006/relationships/audio" Target="../media/j0074852.wav"/><Relationship Id="rId10" Type="http://schemas.openxmlformats.org/officeDocument/2006/relationships/audio" Target="../media/j0074852.wav"/><Relationship Id="rId11" Type="http://schemas.openxmlformats.org/officeDocument/2006/relationships/audio" Target="../media/j0074852.wav"/><Relationship Id="rId12" Type="http://schemas.openxmlformats.org/officeDocument/2006/relationships/audio" Target="../media/j0074852.wav"/><Relationship Id="rId13" Type="http://schemas.openxmlformats.org/officeDocument/2006/relationships/audio" Target="../media/j0074852.wav"/><Relationship Id="rId14" Type="http://schemas.openxmlformats.org/officeDocument/2006/relationships/audio" Target="../media/j0074852.wav"/><Relationship Id="rId15" Type="http://schemas.openxmlformats.org/officeDocument/2006/relationships/audio" Target="../media/j0074852.wav"/><Relationship Id="rId16" Type="http://schemas.openxmlformats.org/officeDocument/2006/relationships/audio" Target="../media/j0074852.wav"/><Relationship Id="rId17" Type="http://schemas.openxmlformats.org/officeDocument/2006/relationships/audio" Target="../media/j0074852.wav"/><Relationship Id="rId18" Type="http://schemas.openxmlformats.org/officeDocument/2006/relationships/audio" Target="../media/j0074852.wav"/><Relationship Id="rId19" Type="http://schemas.openxmlformats.org/officeDocument/2006/relationships/audio" Target="../media/j0074852.wav"/><Relationship Id="rId20" Type="http://schemas.openxmlformats.org/officeDocument/2006/relationships/audio" Target="../media/j0074852.wav"/><Relationship Id="rId2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audio" Target="../media/j0074852.wav"/><Relationship Id="rId6" Type="http://schemas.openxmlformats.org/officeDocument/2006/relationships/audio" Target="../media/j0074852.wav"/><Relationship Id="rId7" Type="http://schemas.openxmlformats.org/officeDocument/2006/relationships/audio" Target="../media/j0074852.wav"/><Relationship Id="rId8" Type="http://schemas.openxmlformats.org/officeDocument/2006/relationships/audio" Target="../media/j0074852.wav"/><Relationship Id="rId9" Type="http://schemas.openxmlformats.org/officeDocument/2006/relationships/audio" Target="../media/j0074852.wav"/><Relationship Id="rId10" Type="http://schemas.openxmlformats.org/officeDocument/2006/relationships/audio" Target="../media/j0074852.wav"/><Relationship Id="rId11" Type="http://schemas.openxmlformats.org/officeDocument/2006/relationships/audio" Target="../media/j0074852.wav"/><Relationship Id="rId12" Type="http://schemas.openxmlformats.org/officeDocument/2006/relationships/audio" Target="../media/j0074852.wav"/><Relationship Id="rId13" Type="http://schemas.openxmlformats.org/officeDocument/2006/relationships/audio" Target="../media/j0074852.wav"/><Relationship Id="rId14" Type="http://schemas.openxmlformats.org/officeDocument/2006/relationships/audio" Target="../media/j0074852.wav"/><Relationship Id="rId15" Type="http://schemas.openxmlformats.org/officeDocument/2006/relationships/audio" Target="../media/j0074852.wav"/><Relationship Id="rId16" Type="http://schemas.openxmlformats.org/officeDocument/2006/relationships/audio" Target="../media/j0074852.wav"/><Relationship Id="rId17" Type="http://schemas.openxmlformats.org/officeDocument/2006/relationships/audio" Target="../media/j0074852.wav"/><Relationship Id="rId18" Type="http://schemas.openxmlformats.org/officeDocument/2006/relationships/audio" Target="../media/j0074852.wav"/><Relationship Id="rId19" Type="http://schemas.openxmlformats.org/officeDocument/2006/relationships/audio" Target="../media/j0074852.wav"/><Relationship Id="rId20" Type="http://schemas.openxmlformats.org/officeDocument/2006/relationships/audio" Target="../media/j0074852.wav"/><Relationship Id="rId2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audio" Target="../media/j0074852.wav"/><Relationship Id="rId6" Type="http://schemas.openxmlformats.org/officeDocument/2006/relationships/audio" Target="../media/j0074852.wav"/><Relationship Id="rId7" Type="http://schemas.openxmlformats.org/officeDocument/2006/relationships/audio" Target="../media/j0074852.wav"/><Relationship Id="rId8" Type="http://schemas.openxmlformats.org/officeDocument/2006/relationships/audio" Target="../media/j0074852.wav"/><Relationship Id="rId9" Type="http://schemas.openxmlformats.org/officeDocument/2006/relationships/audio" Target="../media/j0074852.wav"/><Relationship Id="rId10" Type="http://schemas.openxmlformats.org/officeDocument/2006/relationships/audio" Target="../media/j0074852.wav"/><Relationship Id="rId11" Type="http://schemas.openxmlformats.org/officeDocument/2006/relationships/audio" Target="../media/j0074852.wav"/><Relationship Id="rId12" Type="http://schemas.openxmlformats.org/officeDocument/2006/relationships/audio" Target="../media/j0074852.wav"/><Relationship Id="rId13" Type="http://schemas.openxmlformats.org/officeDocument/2006/relationships/audio" Target="../media/j0074852.wav"/><Relationship Id="rId14" Type="http://schemas.openxmlformats.org/officeDocument/2006/relationships/audio" Target="../media/j0074852.wav"/><Relationship Id="rId15" Type="http://schemas.openxmlformats.org/officeDocument/2006/relationships/audio" Target="../media/j0074852.wav"/><Relationship Id="rId16" Type="http://schemas.openxmlformats.org/officeDocument/2006/relationships/audio" Target="../media/j0074852.wav"/><Relationship Id="rId17" Type="http://schemas.openxmlformats.org/officeDocument/2006/relationships/audio" Target="../media/j0074852.wav"/><Relationship Id="rId18" Type="http://schemas.openxmlformats.org/officeDocument/2006/relationships/audio" Target="../media/j0074852.wav"/><Relationship Id="rId19" Type="http://schemas.openxmlformats.org/officeDocument/2006/relationships/audio" Target="../media/j0074852.wav"/><Relationship Id="rId20" Type="http://schemas.openxmlformats.org/officeDocument/2006/relationships/audio" Target="../media/j0074852.wav"/><Relationship Id="rId2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audio" Target="../media/j0074852.wav"/><Relationship Id="rId6" Type="http://schemas.openxmlformats.org/officeDocument/2006/relationships/audio" Target="../media/j0074852.wav"/><Relationship Id="rId7" Type="http://schemas.openxmlformats.org/officeDocument/2006/relationships/audio" Target="../media/j0074852.wav"/><Relationship Id="rId8" Type="http://schemas.openxmlformats.org/officeDocument/2006/relationships/audio" Target="../media/j0074852.wav"/><Relationship Id="rId9" Type="http://schemas.openxmlformats.org/officeDocument/2006/relationships/audio" Target="../media/j0074852.wav"/><Relationship Id="rId10" Type="http://schemas.openxmlformats.org/officeDocument/2006/relationships/audio" Target="../media/j0074852.wav"/><Relationship Id="rId11" Type="http://schemas.openxmlformats.org/officeDocument/2006/relationships/audio" Target="../media/j0074852.wav"/><Relationship Id="rId12" Type="http://schemas.openxmlformats.org/officeDocument/2006/relationships/audio" Target="../media/j0074852.wav"/><Relationship Id="rId13" Type="http://schemas.openxmlformats.org/officeDocument/2006/relationships/audio" Target="../media/j0074852.wav"/><Relationship Id="rId14" Type="http://schemas.openxmlformats.org/officeDocument/2006/relationships/audio" Target="../media/j0074852.wav"/><Relationship Id="rId15" Type="http://schemas.openxmlformats.org/officeDocument/2006/relationships/audio" Target="../media/j0074852.wav"/><Relationship Id="rId16" Type="http://schemas.openxmlformats.org/officeDocument/2006/relationships/audio" Target="../media/j0074852.wav"/><Relationship Id="rId17" Type="http://schemas.openxmlformats.org/officeDocument/2006/relationships/audio" Target="../media/j0074852.wav"/><Relationship Id="rId18" Type="http://schemas.openxmlformats.org/officeDocument/2006/relationships/audio" Target="../media/j0074852.wav"/><Relationship Id="rId19" Type="http://schemas.openxmlformats.org/officeDocument/2006/relationships/audio" Target="../media/j0074852.wav"/><Relationship Id="rId20" Type="http://schemas.openxmlformats.org/officeDocument/2006/relationships/audio" Target="../media/j0074852.wav"/><Relationship Id="rId2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audio" Target="../media/j0074852.wav"/><Relationship Id="rId6" Type="http://schemas.openxmlformats.org/officeDocument/2006/relationships/audio" Target="../media/j0074852.wav"/><Relationship Id="rId7" Type="http://schemas.openxmlformats.org/officeDocument/2006/relationships/audio" Target="../media/j0074852.wav"/><Relationship Id="rId8" Type="http://schemas.openxmlformats.org/officeDocument/2006/relationships/audio" Target="../media/j0074852.wav"/><Relationship Id="rId9" Type="http://schemas.openxmlformats.org/officeDocument/2006/relationships/audio" Target="../media/j0074852.wav"/><Relationship Id="rId10" Type="http://schemas.openxmlformats.org/officeDocument/2006/relationships/audio" Target="../media/j0074852.wav"/><Relationship Id="rId11" Type="http://schemas.openxmlformats.org/officeDocument/2006/relationships/audio" Target="../media/j0074852.wav"/><Relationship Id="rId12" Type="http://schemas.openxmlformats.org/officeDocument/2006/relationships/audio" Target="../media/j0074852.wav"/><Relationship Id="rId13" Type="http://schemas.openxmlformats.org/officeDocument/2006/relationships/audio" Target="../media/j0074852.wav"/><Relationship Id="rId14" Type="http://schemas.openxmlformats.org/officeDocument/2006/relationships/audio" Target="../media/j0074852.wav"/><Relationship Id="rId15" Type="http://schemas.openxmlformats.org/officeDocument/2006/relationships/audio" Target="../media/j0074852.wav"/><Relationship Id="rId16" Type="http://schemas.openxmlformats.org/officeDocument/2006/relationships/audio" Target="../media/j0074852.wav"/><Relationship Id="rId17" Type="http://schemas.openxmlformats.org/officeDocument/2006/relationships/audio" Target="../media/j0074852.wav"/><Relationship Id="rId18" Type="http://schemas.openxmlformats.org/officeDocument/2006/relationships/audio" Target="../media/j0074852.wav"/><Relationship Id="rId19" Type="http://schemas.openxmlformats.org/officeDocument/2006/relationships/audio" Target="../media/j0074852.wav"/><Relationship Id="rId20" Type="http://schemas.openxmlformats.org/officeDocument/2006/relationships/audio" Target="../media/j0074852.wav"/><Relationship Id="rId2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9144000" cy="6858000"/>
            </a:xfrm>
            <a:prstGeom prst="roundRect">
              <a:avLst>
                <a:gd name="adj" fmla="val 33449"/>
              </a:avLst>
            </a:prstGeom>
            <a:solidFill>
              <a:srgbClr val="c0c0c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981080" y="1676520"/>
              <a:ext cx="4876920" cy="3352680"/>
            </a:xfrm>
            <a:prstGeom prst="roundRect">
              <a:avLst>
                <a:gd name="adj" fmla="val 33449"/>
              </a:avLst>
            </a:prstGeom>
            <a:gradFill rotWithShape="0">
              <a:gsLst>
                <a:gs pos="0">
                  <a:srgbClr val="008000"/>
                </a:gs>
                <a:gs pos="50000">
                  <a:srgbClr val="009900"/>
                </a:gs>
                <a:gs pos="100000">
                  <a:srgbClr val="008000"/>
                </a:gs>
              </a:gsLst>
              <a:lin ang="135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990720" y="762120"/>
              <a:ext cx="6781680" cy="5105160"/>
            </a:xfrm>
            <a:prstGeom prst="roundRect">
              <a:avLst>
                <a:gd name="adj" fmla="val 33449"/>
              </a:avLst>
            </a:prstGeom>
            <a:noFill/>
            <a:ln w="572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 txBox="1"/>
          <p:nvPr/>
        </p:nvSpPr>
        <p:spPr>
          <a:xfrm>
            <a:off x="1143000" y="685800"/>
            <a:ext cx="335268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Ravie"/>
              </a:rPr>
              <a:t>Rac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Ravie"/>
              <a:ea typeface="Ravie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962520" y="4038480"/>
            <a:ext cx="4267080" cy="19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Ravie"/>
              </a:rPr>
              <a:t>Review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Ravie"/>
              <a:ea typeface="Ravie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048120" y="2971800"/>
            <a:ext cx="18288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Ravie"/>
              </a:rPr>
              <a:t>-N-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Ravie"/>
              <a:ea typeface="Ravie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-304920" y="3276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705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3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5">
                                  <p:stCondLst>
                                    <p:cond delay="2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mph" presetID="6">
                                  <p:stCondLst>
                                    <p:cond delay="4500"/>
                                  </p:stCondLst>
                                  <p:childTnLst>
                                    <p:animScale>
                                      <p:cBhvr>
                                        <p:cTn id="25" dur="2000" fill="hold"/>
                                        <p:tgtEl>
                                          <p:spTgt spid="5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6" nodeType="withEffect" fill="hold" presetClass="emph" presetID="6">
                                  <p:stCondLst>
                                    <p:cond delay="4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27" dur="2000" fill="hold"/>
                                        <p:tgtEl>
                                          <p:spTgt spid="5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8" nodeType="withEffect" fill="hold" presetClass="emph" presetID="6">
                                  <p:stCondLst>
                                    <p:cond delay="4500"/>
                                  </p:stCondLst>
                                  <p:childTnLst>
                                    <p:animScale>
                                      <p:cBhvr>
                                        <p:cTn id="29" dur="2000" fill="hold"/>
                                        <p:tgtEl>
                                          <p:spTgt spid="5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0" nodeType="withEffect" fill="hold" presetClass="exit" presetID="35">
                                  <p:stCondLst>
                                    <p:cond delay="7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2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xit" presetID="35">
                                  <p:stCondLst>
                                    <p:cond delay="7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2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xit" presetID="35">
                                  <p:stCondLst>
                                    <p:cond delay="7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2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65" name=""/>
            <p:cNvSpPr/>
            <p:nvPr/>
          </p:nvSpPr>
          <p:spPr>
            <a:xfrm>
              <a:off x="0" y="0"/>
              <a:ext cx="9144000" cy="6858000"/>
            </a:xfrm>
            <a:prstGeom prst="roundRect">
              <a:avLst>
                <a:gd name="adj" fmla="val 33449"/>
              </a:avLst>
            </a:prstGeom>
            <a:solidFill>
              <a:srgbClr val="c0c0c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981080" y="1676520"/>
              <a:ext cx="4876920" cy="3352680"/>
            </a:xfrm>
            <a:prstGeom prst="roundRect">
              <a:avLst>
                <a:gd name="adj" fmla="val 33449"/>
              </a:avLst>
            </a:prstGeom>
            <a:gradFill rotWithShape="0">
              <a:gsLst>
                <a:gs pos="0">
                  <a:srgbClr val="008000"/>
                </a:gs>
                <a:gs pos="50000">
                  <a:srgbClr val="009900"/>
                </a:gs>
                <a:gs pos="100000">
                  <a:srgbClr val="008000"/>
                </a:gs>
              </a:gsLst>
              <a:lin ang="135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990720" y="762120"/>
              <a:ext cx="6781680" cy="5105160"/>
            </a:xfrm>
            <a:prstGeom prst="roundRect">
              <a:avLst>
                <a:gd name="adj" fmla="val 33449"/>
              </a:avLst>
            </a:prstGeom>
            <a:noFill/>
            <a:ln w="572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4343400" y="502920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3286080" y="5011560"/>
            <a:ext cx="914400" cy="39852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3286080" y="5475240"/>
            <a:ext cx="914400" cy="39204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3"/>
          <a:stretch/>
        </p:blipFill>
        <p:spPr>
          <a:xfrm>
            <a:off x="3276720" y="5992920"/>
            <a:ext cx="923760" cy="40788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4"/>
          <a:stretch/>
        </p:blipFill>
        <p:spPr>
          <a:xfrm>
            <a:off x="3286080" y="6470640"/>
            <a:ext cx="914400" cy="38736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3200400" y="5105520"/>
            <a:ext cx="990720" cy="30456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276720" y="5562720"/>
            <a:ext cx="990360" cy="30456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276720" y="6019920"/>
            <a:ext cx="990360" cy="3808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276720" y="6553080"/>
            <a:ext cx="990360" cy="30492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010280" y="2971800"/>
            <a:ext cx="53352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772400" y="2971800"/>
            <a:ext cx="53352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7620120" y="3733920"/>
            <a:ext cx="53316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8381880" y="2743200"/>
            <a:ext cx="53352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114800" y="457200"/>
            <a:ext cx="609480" cy="3808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267080" y="1143000"/>
            <a:ext cx="609840" cy="3808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343400" y="0"/>
            <a:ext cx="609480" cy="3808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191120" y="838080"/>
            <a:ext cx="609480" cy="30492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523880" y="3048120"/>
            <a:ext cx="60984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990720" y="2819520"/>
            <a:ext cx="60948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80880" y="2819520"/>
            <a:ext cx="60984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2438280"/>
            <a:ext cx="609480" cy="60984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3200400" y="4343400"/>
            <a:ext cx="24098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Next Lap!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952" dur="indefinite" restart="never" nodeType="tmRoot">
          <p:childTnLst>
            <p:seq>
              <p:cTn id="953" restart="whenNotActive" nodeType="interactiveSeq" fill="hold">
                <p:stCondLst>
                  <p:cond evt="onClick">
                    <p:tgtEl>
                      <p:spTgt spid="273"/>
                    </p:tgtEl>
                  </p:cond>
                </p:stCondLst>
                <p:childTnLst>
                  <p:par>
                    <p:cTn id="954" fill="hold">
                      <p:stCondLst>
                        <p:cond evt="onClick">
                          <p:tgtEl>
                            <p:spTgt spid="273"/>
                          </p:tgtEl>
                        </p:cond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j0074852.wav"/>
                                        </p:tgtEl>
                                      </p:cMediaNode>
                                    </p:audio>
                                    <p:animMotion origin="layout" path="M 0.0573 -0.00046 C 0.11181 -0.00162 0.33004 0.03403 0.3849 -0.00764 C 0.43976 -0.0493 0.3856 -0.20694 0.38664 -0.25 C 0.38768 -0.29305 0.38959 -0.2794 0.39167 -0.26551 E">
                                      <p:cBhvr>
                                        <p:cTn id="957" dur="2000" fill="hold"/>
                                        <p:tgtEl>
                                          <p:spTgt spid="2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8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5400000">
                                      <p:cBhvr>
                                        <p:cTn id="959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0" restart="whenNotActive" nodeType="interactiveSeq" fill="hold">
                <p:stCondLst>
                  <p:cond evt="onClick">
                    <p:tgtEl>
                      <p:spTgt spid="274"/>
                    </p:tgtEl>
                  </p:cond>
                </p:stCondLst>
                <p:childTnLst>
                  <p:par>
                    <p:cTn id="961" fill="hold">
                      <p:stCondLst>
                        <p:cond evt="onClick">
                          <p:tgtEl>
                            <p:spTgt spid="274"/>
                          </p:tgtEl>
                        </p:cond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j0074852.wav"/>
                                        </p:tgtEl>
                                      </p:cMediaNode>
                                    </p:audio>
                                    <p:animMotion origin="layout" path="M 0.05504 0.00116 C 0.10973 0.00046 0.17049 0.02824 0.21927 -0.00856 C 0.22466 -0.0125 0.22691 -0.01782 0.23264 -0.02106 C 0.23941 -0.03055 0.24723 -0.03912 0.25625 -0.04329 C 0.26407 -0.05139 0.2698 -0.05463 0.27795 -0.06088 C 0.28507 -0.06597 0.29028 -0.07616 0.29636 -0.0831 C 0.29948 -0.0868 0.30365 -0.08866 0.30643 -0.09305 C 0.31198 -0.10116 0.31389 -0.10926 0.32153 -0.11296 C 0.32969 -0.13148 0.34289 -0.14768 0.35504 -0.16018 C 0.35938 -0.16458 0.36407 -0.16852 0.36858 -0.17268 C 0.37275 -0.17662 0.38195 -0.18241 0.38195 -0.18217 C 0.38976 -0.19421 0.38507 -0.18819 0.39705 -0.19977 C 0.39879 -0.20139 0.40035 -0.20324 0.40209 -0.20486 C 0.40382 -0.20648 0.40712 -0.20995 0.40712 -0.20972 C 0.41164 -0.22014 0.4191 -0.22477 0.42552 -0.23217 C 0.43594 -0.24467 0.44618 -0.25856 0.45747 -0.26944 C 0.475 -0.30903 0.47084 -0.31041 0.47084 -0.37129 E">
                                      <p:cBhvr>
                                        <p:cTn id="964" dur="2000" fill="hold"/>
                                        <p:tgtEl>
                                          <p:spTgt spid="2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65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5400000">
                                      <p:cBhvr>
                                        <p:cTn id="966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7" restart="whenNotActive" nodeType="interactiveSeq" fill="hold">
                <p:stCondLst>
                  <p:cond evt="onClick">
                    <p:tgtEl>
                      <p:spTgt spid="275"/>
                    </p:tgtEl>
                  </p:cond>
                </p:stCondLst>
                <p:childTnLst>
                  <p:par>
                    <p:cTn id="968" fill="hold">
                      <p:stCondLst>
                        <p:cond evt="onClick">
                          <p:tgtEl>
                            <p:spTgt spid="275"/>
                          </p:tgtEl>
                        </p:cond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j0074852.wav"/>
                                        </p:tgtEl>
                                      </p:cMediaNode>
                                    </p:audio>
                                    <p:animMotion origin="layout" path="M 0.06858 -0.01366 C 0.13681 -0.01481 0.20712 -0.0162 0.27553 -0.02338 C 0.2816 -0.02546 0.28785 -0.02592 0.29393 -0.02801 C 0.30521 -0.03217 0.31598 -0.04097 0.32726 -0.0456 C 0.33421 -0.05231 0.34237 -0.06018 0.35053 -0.06342 C 0.36459 -0.07569 0.38091 -0.08379 0.39549 -0.09467 C 0.41407 -0.10833 0.43125 -0.12523 0.44879 -0.1412 C 0.45469 -0.15254 0.46146 -0.16296 0.46719 -0.17453 C 0.4724 -0.18518 0.47309 -0.20231 0.47553 -0.21458 C 0.475 -0.2331 0.47518 -0.25162 0.47379 -0.27014 C 0.47292 -0.28217 0.4625 -0.30486 0.45556 -0.31227 C 0.43507 -0.33379 0.46407 -0.29653 0.44723 -0.31898 E">
                                      <p:cBhvr>
                                        <p:cTn id="971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72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5400000">
                                      <p:cBhvr>
                                        <p:cTn id="97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4" restart="whenNotActive" nodeType="interactiveSeq" fill="hold">
                <p:stCondLst>
                  <p:cond evt="onClick">
                    <p:tgtEl>
                      <p:spTgt spid="276"/>
                    </p:tgtEl>
                  </p:cond>
                </p:stCondLst>
                <p:childTnLst>
                  <p:par>
                    <p:cTn id="975" fill="hold">
                      <p:stCondLst>
                        <p:cond evt="onClick">
                          <p:tgtEl>
                            <p:spTgt spid="276"/>
                          </p:tgtEl>
                        </p:cond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j0074852.wav"/>
                                        </p:tgtEl>
                                      </p:cMediaNode>
                                    </p:audio>
                                    <p:animMotion origin="layout" path="M 0.05417 -0.00509 C 0.06007 -0.00394 0.07709 -0.00162 0.09028 -0.00046 C 0.10348 0.00069 0.11563 0.00231 0.13334 0.00162 C 0.16511 -0.00324 0.1408 0.00023 0.19671 -0.00509 C 0.20452 -0.00579 0.21997 -0.00741 0.21997 -0.00718 C 0.24271 -0.01204 0.26563 -0.01204 0.28837 -0.0162 C 0.304 -0.01921 0.28941 -0.01736 0.30504 -0.02292 C 0.31719 -0.02732 0.33091 -0.02778 0.34341 -0.02963 C 0.35296 -0.03264 0.36025 -0.03843 0.36997 -0.04074 C 0.38091 -0.04792 0.39323 -0.05347 0.40504 -0.05833 C 0.41233 -0.06505 0.41962 -0.07153 0.42674 -0.07847 C 0.4408 -0.09236 0.43126 -0.0875 0.44167 -0.09167 C 0.44966 -0.10278 0.43907 -0.08912 0.45174 -0.1007 C 0.45834 -0.10671 0.46823 -0.12153 0.47674 -0.125 C 0.47969 -0.1375 0.48941 -0.14421 0.49671 -0.15185 C 0.50382 -0.15926 0.50712 -0.17014 0.51337 -0.17847 C 0.51771 -0.19722 0.51146 -0.17431 0.51841 -0.18958 C 0.52101 -0.19514 0.52275 -0.20139 0.52501 -0.20741 C 0.52674 -0.21204 0.5316 -0.2206 0.5316 -0.22037 C 0.55608 -0.34745 0.53994 -0.20093 0.53994 -0.54282 E">
                                      <p:cBhvr>
                                        <p:cTn id="978" dur="2000" fill="hold"/>
                                        <p:tgtEl>
                                          <p:spTgt spid="2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79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5400000">
                                      <p:cBhvr>
                                        <p:cTn id="98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1" restart="whenNotActive" nodeType="interactiveSeq" fill="hold">
                <p:stCondLst>
                  <p:cond evt="onClick">
                    <p:tgtEl>
                      <p:spTgt spid="277"/>
                    </p:tgtEl>
                  </p:cond>
                </p:stCondLst>
                <p:childTnLst>
                  <p:par>
                    <p:cTn id="982" fill="hold">
                      <p:stCondLst>
                        <p:cond evt="onClick">
                          <p:tgtEl>
                            <p:spTgt spid="277"/>
                          </p:tgtEl>
                        </p:cond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j0074852.wav"/>
                                        </p:tgtEl>
                                      </p:cMediaNode>
                                    </p:audio>
                                    <p:animMotion origin="layout" path="M 0.39167 -0.29305 C 0.39237 -0.33657 0.38664 -0.38889 0.39844 -0.43287 C 0.39757 -0.46366 0.40296 -0.48241 0.39167 -0.50416 C 0.38837 -0.51991 0.38403 -0.52893 0.37848 -0.54398 C 0.37674 -0.54838 0.37119 -0.54907 0.36841 -0.55069 C 0.35886 -0.55602 0.35105 -0.56805 0.34011 -0.56852 C 0.30296 -0.56991 0.26563 -0.57014 0.22848 -0.57083 C 0.22032 -0.57291 0.21719 -0.575 0.21007 -0.57963 C 0.20573 -0.58241 0.20087 -0.58333 0.19671 -0.58634 C 0.18976 -0.59143 0.18403 -0.59768 0.17674 -0.60185 C 0.17466 -0.60301 0.16546 -0.60555 0.16337 -0.60625 C 0.15313 -0.61018 0.1474 -0.61319 0.13681 -0.61528 C 0.12744 -0.62338 0.11563 -0.62592 0.10504 -0.63078 C 0.10278 -0.6331 0.10035 -0.63495 0.09844 -0.6375 C 0.09705 -0.63935 0.09671 -0.64236 0.09513 -0.64398 C 0.09376 -0.64537 0.09323 -0.6493 0.09167 -0.65046 C 0.0882 -0.65301 0.08525 -0.65486 0.08195 -0.65787 C 0.08039 -0.65926 0.08264 -0.65509 0.07501 -0.65717 E">
                                      <p:cBhvr>
                                        <p:cTn id="985" dur="2000" fill="hold"/>
                                        <p:tgtEl>
                                          <p:spTgt spid="2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86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98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8" restart="whenNotActive" nodeType="interactiveSeq" fill="hold">
                <p:stCondLst>
                  <p:cond evt="onClick">
                    <p:tgtEl>
                      <p:spTgt spid="278"/>
                    </p:tgtEl>
                  </p:cond>
                </p:stCondLst>
                <p:childTnLst>
                  <p:par>
                    <p:cTn id="989" fill="hold">
                      <p:stCondLst>
                        <p:cond evt="onClick">
                          <p:tgtEl>
                            <p:spTgt spid="278"/>
                          </p:tgtEl>
                        </p:cond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j0074852.wav"/>
                                        </p:tgtEl>
                                      </p:cMediaNode>
                                    </p:audio>
                                    <p:animMotion origin="layout" path="M 0.47084 -0.37129 C 0.4724 -0.44166 0.48525 -0.53009 0.45417 -0.59352 C 0.45139 -0.60972 0.45469 -0.5956 0.44914 -0.60903 C 0.43716 -0.63842 0.43004 -0.65833 0.40417 -0.66898 C 0.39827 -0.67731 0.404 -0.67106 0.39428 -0.67569 C 0.38317 -0.68102 0.38577 -0.68403 0.37257 -0.6868 C 0.32639 -0.68518 0.32674 -0.68541 0.29584 -0.68009 C 0.27362 -0.66829 0.25157 -0.65648 0.22917 -0.64467 C 0.21806 -0.63889 0.20469 -0.6294 0.19254 -0.62916 C 0.15591 -0.62847 0.1191 -0.62916 0.08247 -0.62916 E">
                                      <p:cBhvr>
                                        <p:cTn id="992" dur="2000" fill="hold"/>
                                        <p:tgtEl>
                                          <p:spTgt spid="2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3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99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5" restart="whenNotActive" nodeType="interactiveSeq" fill="hold">
                <p:stCondLst>
                  <p:cond evt="onClick">
                    <p:tgtEl>
                      <p:spTgt spid="279"/>
                    </p:tgtEl>
                  </p:cond>
                </p:stCondLst>
                <p:childTnLst>
                  <p:par>
                    <p:cTn id="996" fill="hold">
                      <p:stCondLst>
                        <p:cond evt="onClick">
                          <p:tgtEl>
                            <p:spTgt spid="279"/>
                          </p:tgtEl>
                        </p:cond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j0074852.wav"/>
                                        </p:tgtEl>
                                      </p:cMediaNode>
                                    </p:audio>
                                    <p:animMotion origin="layout" path="M 0.44723 -0.31898 C 0.44132 -0.32685 0.44427 -0.32152 0.44046 -0.3368 C 0.43941 -0.3412 0.43716 -0.35023 0.43716 -0.35023 C 0.43872 -0.39004 0.43455 -0.41157 0.46216 -0.43032 C 0.46823 -0.43865 0.47743 -0.44027 0.48386 -0.44791 C 0.49671 -0.46342 0.50521 -0.47939 0.51042 -0.50138 C 0.51302 -0.52731 0.51719 -0.55231 0.50209 -0.57245 C 0.50157 -0.57546 0.50191 -0.57916 0.50052 -0.58125 C 0.49983 -0.58263 0.48907 -0.58564 0.48889 -0.58564 C 0.47639 -0.59027 0.46771 -0.59097 0.45382 -0.59236 C 0.43855 -0.59583 0.43629 -0.60254 0.42379 -0.6125 C 0.42275 -0.61551 0.42223 -0.61898 0.42049 -0.62129 C 0.41927 -0.62291 0.41667 -0.62199 0.41546 -0.62361 C 0.41372 -0.62592 0.41355 -0.62963 0.41216 -0.6324 C 0.40921 -0.63796 0.40625 -0.64004 0.40209 -0.64351 C 0.39948 -0.64884 0.39618 -0.65347 0.39375 -0.65902 C 0.39289 -0.66111 0.39289 -0.66365 0.39219 -0.66574 C 0.38941 -0.67338 0.38559 -0.68101 0.38212 -0.68796 C 0.37709 -0.70995 0.37171 -0.73611 0.35886 -0.75231 C 0.35504 -0.76713 0.36007 -0.74976 0.35209 -0.76805 C 0.34966 -0.77361 0.34896 -0.78125 0.34549 -0.78564 C 0.33629 -0.79791 0.32691 -0.81481 0.31389 -0.81898 C 0.31059 -0.82199 0.30764 -0.82638 0.30382 -0.82801 C 0.29792 -0.83055 0.2908 -0.83287 0.28542 -0.8368 C 0.2783 -0.84213 0.27014 -0.85138 0.26216 -0.85463 C 0.24584 -0.86134 0.22743 -0.86319 0.21042 -0.86574 C 0.19514 -0.87106 0.21355 -0.86527 0.18542 -0.87013 C 0.17396 -0.87222 0.16181 -0.87685 0.15052 -0.87916 C 0.13021 -0.8831 0.10938 -0.87916 0.08889 -0.87916 E">
                                      <p:cBhvr>
                                        <p:cTn id="999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00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00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2" restart="whenNotActive" nodeType="interactiveSeq" fill="hold">
                <p:stCondLst>
                  <p:cond evt="onClick">
                    <p:tgtEl>
                      <p:spTgt spid="280"/>
                    </p:tgtEl>
                  </p:cond>
                </p:stCondLst>
                <p:childTnLst>
                  <p:par>
                    <p:cTn id="1003" fill="hold">
                      <p:stCondLst>
                        <p:cond evt="onClick">
                          <p:tgtEl>
                            <p:spTgt spid="280"/>
                          </p:tgtEl>
                        </p:cond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j0074852.wav"/>
                                        </p:tgtEl>
                                      </p:cMediaNode>
                                    </p:audio>
                                    <p:animMotion origin="layout" path="M 0.53993 -0.54283 C 0.53924 -0.58334 0.54323 -0.64908 0.52483 -0.68959 C 0.52274 -0.71065 0.51754 -0.72986 0.51163 -0.74954 C 0.50816 -0.76088 0.50642 -0.77431 0.50156 -0.78496 C 0.49965 -0.78889 0.49688 -0.79213 0.49497 -0.79607 C 0.49149 -0.81389 0.49636 -0.79699 0.48663 -0.81181 C 0.47674 -0.82709 0.49063 -0.81574 0.47656 -0.825 C 0.47153 -0.83426 0.46684 -0.8463 0.4599 -0.85394 C 0.45295 -0.86158 0.45712 -0.85556 0.44983 -0.86065 C 0.4467 -0.86274 0.44479 -0.86783 0.44149 -0.86945 C 0.43663 -0.87199 0.42708 -0.87431 0.42153 -0.87616 C 0.41823 -0.87709 0.41493 -0.87778 0.41163 -0.87848 C 0.40434 -0.8801 0.38993 -0.88287 0.38993 -0.88287 C 0.37986 -0.88704 0.37031 -0.88982 0.3599 -0.89167 C 0.33767 -0.90186 0.30799 -0.90486 0.2849 -0.90718 C 0.26997 -0.90649 0.25486 -0.90672 0.23993 -0.9051 C 0.23038 -0.90394 0.22118 -0.89977 0.21163 -0.89838 C 0.19948 -0.89306 0.20504 -0.89514 0.19497 -0.89167 C 0.18507 -0.88311 0.18281 -0.88125 0.17153 -0.87848 C 0.16597 -0.87454 0.16024 -0.87315 0.15486 -0.86945 C 0.1434 -0.86181 0.1559 -0.8676 0.14497 -0.86274 C 0.13993 -0.86042 0.12986 -0.85625 0.12986 -0.85625 C 0.12396 -0.84792 0.12969 -0.85417 0.11997 -0.84954 C 0.10243 -0.84098 0.09219 -0.83403 0.07326 -0.83403 E">
                                      <p:cBhvr>
                                        <p:cTn id="1006" dur="2000" fill="hold"/>
                                        <p:tgtEl>
                                          <p:spTgt spid="2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07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008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9" restart="whenNotActive" nodeType="interactiveSeq" fill="hold">
                <p:stCondLst>
                  <p:cond evt="onClick">
                    <p:tgtEl>
                      <p:spTgt spid="281"/>
                    </p:tgtEl>
                  </p:cond>
                </p:stCondLst>
                <p:childTnLst>
                  <p:par>
                    <p:cTn id="1010" fill="hold">
                      <p:stCondLst>
                        <p:cond evt="onClick">
                          <p:tgtEl>
                            <p:spTgt spid="281"/>
                          </p:tgtEl>
                        </p:cond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j0074852.wav"/>
                                        </p:tgtEl>
                                      </p:cMediaNode>
                                    </p:audio>
                                    <p:animMotion origin="layout" path="M 0.07396 -0.65879 C 0.04757 -0.65463 0.05521 -0.66666 0.00452 -0.66991 C -0.01822 -0.67315 -0.04045 -0.66018 -0.06371 -0.6618 C -0.12674 -0.66088 -0.19289 -0.68009 -0.2533 -0.65509 C -0.25365 -0.65463 -0.26216 -0.64653 -0.26337 -0.64398 C -0.27084 -0.62731 -0.27657 -0.60856 -0.2816 -0.59051 C -0.28299 -0.58541 -0.28386 -0.58009 -0.2849 -0.575 C -0.28612 -0.56898 -0.28837 -0.55717 -0.28837 -0.55694 C -0.2908 -0.52384 -0.29428 -0.48842 -0.28004 -0.45949 C -0.27761 -0.44676 -0.27257 -0.44004 -0.26667 -0.43055 C -0.26546 -0.42847 -0.26424 -0.42616 -0.26337 -0.42384 C -0.26268 -0.42176 -0.26268 -0.41921 -0.26164 -0.41736 C -0.25747 -0.41041 -0.25278 -0.40393 -0.24827 -0.39722 C -0.2441 -0.39097 -0.23941 -0.38541 -0.2349 -0.3794 C -0.23334 -0.37731 -0.23004 -0.37291 -0.23004 -0.37268 C -0.2283 -0.3662 -0.22726 -0.35926 -0.225 -0.35278 C -0.22414 -0.35046 -0.22257 -0.34861 -0.22171 -0.34606 C -0.22032 -0.3419 -0.21823 -0.33287 -0.21823 -0.33264 C -0.21771 -0.32778 -0.21737 -0.32245 -0.21667 -0.31736 C -0.21546 -0.30856 -0.2099 -0.2993 -0.2099 -0.29051 C -0.2099 -0.28171 -0.2099 -0.27268 -0.2099 -0.26389 E">
                                      <p:cBhvr>
                                        <p:cTn id="1013" dur="2000" fill="hold"/>
                                        <p:tgtEl>
                                          <p:spTgt spid="2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14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01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6" restart="whenNotActive" nodeType="interactiveSeq" fill="hold">
                <p:stCondLst>
                  <p:cond evt="onClick">
                    <p:tgtEl>
                      <p:spTgt spid="282"/>
                    </p:tgtEl>
                  </p:cond>
                </p:stCondLst>
                <p:childTnLst>
                  <p:par>
                    <p:cTn id="1017" fill="hold">
                      <p:stCondLst>
                        <p:cond evt="onClick">
                          <p:tgtEl>
                            <p:spTgt spid="282"/>
                          </p:tgtEl>
                        </p:cond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j0074852.wav"/>
                                        </p:tgtEl>
                                      </p:cMediaNode>
                                    </p:audio>
                                    <p:animMotion origin="layout" path="M 0.08247 -0.62917 C 0.07587 -0.62986 0.0691 -0.62986 0.06251 -0.63148 C 0.05678 -0.63287 0.05018 -0.63843 0.04428 -0.64028 C 0.03594 -0.65093 0.02674 -0.65139 0.01754 -0.6581 C 0.00139 -0.66991 0.01407 -0.66505 -0.00086 -0.66921 C -0.00815 -0.6757 -0.01562 -0.67801 -0.02413 -0.68033 C -0.03229 -0.68588 -0.0401 -0.69121 -0.04913 -0.69375 C -0.05885 -0.70023 -0.06874 -0.70301 -0.07916 -0.70695 C -0.08836 -0.71042 -0.0802 -0.70764 -0.08906 -0.71366 C -0.09392 -0.7169 -0.10034 -0.71829 -0.10572 -0.72037 C -0.12847 -0.72894 -0.1526 -0.73125 -0.17586 -0.73588 C -0.21041 -0.74283 -0.24427 -0.75185 -0.27916 -0.75579 C -0.28854 -0.75509 -0.29808 -0.75556 -0.30746 -0.75371 C -0.31545 -0.75208 -0.31909 -0.7382 -0.32413 -0.73148 C -0.32552 -0.72963 -0.3276 -0.72871 -0.32916 -0.72708 C -0.33038 -0.7257 -0.33142 -0.72408 -0.33246 -0.72246 C -0.33454 -0.71435 -0.33732 -0.70741 -0.34079 -0.70023 C -0.34357 -0.68634 -0.34583 -0.67222 -0.34739 -0.6581 C -0.346 -0.64306 -0.34548 -0.6375 -0.34079 -0.62477 C -0.3394 -0.61111 -0.33749 -0.59583 -0.3342 -0.58264 C -0.33124 -0.5706 -0.32499 -0.5625 -0.32083 -0.55139 C -0.31527 -0.53658 -0.3092 -0.52315 -0.30243 -0.50926 C -0.29895 -0.50232 -0.29288 -0.5 -0.28906 -0.49375 C -0.28437 -0.48611 -0.28194 -0.47708 -0.27743 -0.46921 C -0.27552 -0.46134 -0.27361 -0.45046 -0.27083 -0.44259 C -0.26909 -0.43773 -0.26597 -0.43496 -0.26579 -0.42917 C -0.26527 -0.40625 -0.26579 -0.38333 -0.26579 -0.36042 E">
                                      <p:cBhvr>
                                        <p:cTn id="1020" dur="2000" fill="hold"/>
                                        <p:tgtEl>
                                          <p:spTgt spid="2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21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02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3" restart="whenNotActive" nodeType="interactiveSeq" fill="hold">
                <p:stCondLst>
                  <p:cond evt="onClick">
                    <p:tgtEl>
                      <p:spTgt spid="283"/>
                    </p:tgtEl>
                  </p:cond>
                </p:stCondLst>
                <p:childTnLst>
                  <p:par>
                    <p:cTn id="1024" fill="hold">
                      <p:stCondLst>
                        <p:cond evt="onClick">
                          <p:tgtEl>
                            <p:spTgt spid="283"/>
                          </p:tgtEl>
                        </p:cond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j0074852.wav"/>
                                        </p:tgtEl>
                                      </p:cMediaNode>
                                    </p:audio>
                                    <p:animMotion origin="layout" path="M 0.08889 -0.87917 C 0.0198 -0.87801 -0.03698 -0.88195 -0.10121 -0.87037 C -0.10312 -0.86968 -0.10468 -0.86921 -0.10625 -0.86806 C -0.10798 -0.8669 -0.10954 -0.86482 -0.11111 -0.86366 C -0.11441 -0.86181 -0.12118 -0.85926 -0.12118 -0.85926 C -0.1276 -0.85023 -0.14392 -0.84236 -0.15277 -0.83912 C -0.15816 -0.83449 -0.16441 -0.83148 -0.16944 -0.82593 C -0.18281 -0.81134 -0.19652 -0.79653 -0.20954 -0.78148 C -0.21666 -0.77315 -0.22187 -0.76158 -0.22951 -0.75463 C -0.23767 -0.73287 -0.22569 -0.76227 -0.24288 -0.73241 C -0.24739 -0.72454 -0.25104 -0.71713 -0.25625 -0.71019 C -0.25972 -0.69607 -0.25486 -0.70995 -0.26284 -0.70139 C -0.26441 -0.69977 -0.26475 -0.69653 -0.26614 -0.69468 C -0.26927 -0.69051 -0.27309 -0.68773 -0.27621 -0.68357 C -0.27882 -0.67269 -0.2809 -0.66713 -0.28611 -0.65695 C -0.28732 -0.65463 -0.28958 -0.65023 -0.28958 -0.65023 C -0.29149 -0.6419 -0.29427 -0.63519 -0.29791 -0.62801 C -0.29965 -0.6206 -0.3026 -0.61528 -0.30451 -0.6081 C -0.30555 -0.58773 -0.3059 -0.56366 -0.31111 -0.54352 C -0.31232 -0.53912 -0.31354 -0.53472 -0.31458 -0.53033 C -0.31562 -0.52593 -0.31788 -0.5169 -0.31788 -0.5169 C -0.31909 -0.5037 -0.31805 -0.49699 -0.32448 -0.48796 C -0.3302 -0.46644 -0.32951 -0.4632 -0.32951 -0.43704 E">
                                      <p:cBhvr>
                                        <p:cTn id="1027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28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02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0" restart="whenNotActive" nodeType="interactiveSeq" fill="hold">
                <p:stCondLst>
                  <p:cond evt="onClick">
                    <p:tgtEl>
                      <p:spTgt spid="284"/>
                    </p:tgtEl>
                  </p:cond>
                </p:stCondLst>
                <p:childTnLst>
                  <p:par>
                    <p:cTn id="1031" fill="hold">
                      <p:stCondLst>
                        <p:cond evt="onClick">
                          <p:tgtEl>
                            <p:spTgt spid="284"/>
                          </p:tgtEl>
                        </p:cond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j0074852.wav"/>
                                        </p:tgtEl>
                                      </p:cMediaNode>
                                    </p:audio>
                                    <p:animMotion origin="layout" path="M 0.07292 -0.83472 C 0.05244 -0.83796 0.04879 -0.8537 0.0349 -0.85347 C -0.06736 -0.85208 -0.16945 -0.85208 -0.27171 -0.85139 C -0.28056 -0.84722 -0.28733 -0.84028 -0.29497 -0.83357 C -0.29983 -0.82917 -0.30157 -0.82245 -0.30678 -0.81806 C -0.30782 -0.81574 -0.30921 -0.81366 -0.31007 -0.81134 C -0.31077 -0.80926 -0.31077 -0.80671 -0.31164 -0.80463 C -0.3125 -0.80278 -0.31407 -0.80185 -0.31511 -0.80023 C -0.32014 -0.7919 -0.32639 -0.78079 -0.33004 -0.7713 C -0.33542 -0.75695 -0.33941 -0.74051 -0.34844 -0.72917 C -0.3507 -0.71945 -0.35487 -0.71134 -0.35834 -0.70255 C -0.36233 -0.69236 -0.36441 -0.68426 -0.37171 -0.67801 C -0.38073 -0.63218 -0.3783 -0.62407 -0.3783 -0.5581 E">
                                      <p:cBhvr>
                                        <p:cTn id="1034" dur="2000" fill="hold"/>
                                        <p:tgtEl>
                                          <p:spTgt spid="2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35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03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7" restart="whenNotActive" nodeType="interactiveSeq" fill="hold">
                <p:stCondLst>
                  <p:cond evt="onClick">
                    <p:tgtEl>
                      <p:spTgt spid="285"/>
                    </p:tgtEl>
                  </p:cond>
                </p:stCondLst>
                <p:childTnLst>
                  <p:par>
                    <p:cTn id="1038" fill="hold">
                      <p:stCondLst>
                        <p:cond evt="onClick">
                          <p:tgtEl>
                            <p:spTgt spid="285"/>
                          </p:tgtEl>
                        </p:cond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j0074852.wav"/>
                                        </p:tgtEl>
                                      </p:cMediaNode>
                                    </p:audio>
                                    <p:animMotion origin="layout" path="M -0.2099 -0.26389 C -0.20122 -0.2287 -0.21007 -0.26736 -0.20573 -0.17708 C -0.20539 -0.17037 -0.20226 -0.16389 -0.20139 -0.15717 C -0.19636 -0.11643 -0.1875 -0.0919 -0.16285 -0.05926 C -0.15244 -0.04583 -0.13803 -0.02893 -0.12188 -0.02384 C -0.11494 -0.01898 -0.10851 -0.01528 -0.10035 -0.01273 C -0.08732 -0.00347 -0.08124 -0.00208 -0.06631 0.00278 C -0.04236 0.00486 0.000869999999999999 -0.00046 0.02153 -0.00092 C 0.04219 -0.00139 0.04983 0.00023 0.0573 0.00047 E">
                                      <p:cBhvr>
                                        <p:cTn id="1041" dur="2000" fill="hold"/>
                                        <p:tgtEl>
                                          <p:spTgt spid="2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42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04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4" restart="whenNotActive" nodeType="interactiveSeq" fill="hold">
                <p:stCondLst>
                  <p:cond evt="onClick">
                    <p:tgtEl>
                      <p:spTgt spid="286"/>
                    </p:tgtEl>
                  </p:cond>
                </p:stCondLst>
                <p:childTnLst>
                  <p:par>
                    <p:cTn id="1045" fill="hold">
                      <p:stCondLst>
                        <p:cond evt="onClick">
                          <p:tgtEl>
                            <p:spTgt spid="286"/>
                          </p:tgtEl>
                        </p:cond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j0074852.wav"/>
                                        </p:tgtEl>
                                      </p:cMediaNode>
                                    </p:audio>
                                    <p:animMotion origin="layout" path="M -0.26579 -0.36041 C -0.26562 -0.34699 -0.28107 -0.2162 -0.25572 -0.16712 C -0.25381 -0.15902 -0.25034 -0.15254 -0.24739 -0.1449 C -0.246 -0.13449 -0.24479 -0.128 -0.23906 -0.12037 C -0.23663 -0.11018 -0.23263 -0.09976 -0.22586 -0.09374 C -0.21163 -0.06597 -0.19444 -0.04606 -0.17239 -0.02939 C -0.16562 -0.0243 -0.15781 -0.02268 -0.15086 -0.01828 C -0.14479 -0.01435 -0.13836 -0.01319 -0.13246 -0.00925 C -0.12152 -0.00185 -0.13402 -0.00694 -0.12083 -0.00277 C -0.0644 0.03588 -0.11666 0.00186 0.05417 0.00186 E">
                                      <p:cBhvr>
                                        <p:cTn id="1048" dur="2000" fill="hold"/>
                                        <p:tgtEl>
                                          <p:spTgt spid="2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49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05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1" restart="whenNotActive" nodeType="interactiveSeq" fill="hold">
                <p:stCondLst>
                  <p:cond evt="onClick">
                    <p:tgtEl>
                      <p:spTgt spid="287"/>
                    </p:tgtEl>
                  </p:cond>
                </p:stCondLst>
                <p:childTnLst>
                  <p:par>
                    <p:cTn id="1052" fill="hold">
                      <p:stCondLst>
                        <p:cond evt="onClick">
                          <p:tgtEl>
                            <p:spTgt spid="287"/>
                          </p:tgtEl>
                        </p:cond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j0074852.wav"/>
                                        </p:tgtEl>
                                      </p:cMediaNode>
                                    </p:audio>
                                    <p:animMotion origin="layout" path="M -0.32951 -0.43703 C -0.34409 -0.39837 -0.33767 -0.29166 -0.33784 -0.28587 C -0.33611 -0.23587 -0.33524 -0.18981 -0.32621 -0.14143 C -0.32517 -0.13564 -0.32152 -0.13124 -0.31944 -0.12592 C -0.31198 -0.1074 -0.3059 -0.08865 -0.29791 -0.07036 C -0.28906 -0.04999 -0.27621 -0.02036 -0.25781 -0.01273 C -0.24965 -0.00439 -0.23941 -0.00069 -0.23125 0.00741 C -0.22899 0.00973 -0.22708 0.01251 -0.22448 0.01413 C -0.22239 0.01551 -0.22013 0.01528 -0.21788 0.01621 C -0.21614 0.0169 -0.21441 0.01737 -0.21284 0.01852 C -0.19722 0.02894 -0.22309 0.01598 -0.19791 0.02732 C -0.19618 0.02801 -0.19288 0.02964 -0.19288 0.02964 C -0.17569 0.02894 -0.15833 0.02871 -0.14114 0.02732 C -0.13125 0.02663 -0.12378 0.02107 -0.11284 0.02061 C -0.08576 0.01945 -0.0585 0.01922 -0.03125 0.01852 C -0.01024 0.01436 0.01094 0.01251 0.03212 0.0095 C 0.03837 0.00764 0.04445 0.00579 0.05052 0.00301 C 0.05382 0.00163 0.06042 -0.00161 0.06042 -0.00161 C 0.06285 -0.00462 0.06563 -0.01273 0.06875 -0.01273 E">
                                      <p:cBhvr>
                                        <p:cTn id="1055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56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05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8" restart="whenNotActive" nodeType="interactiveSeq" fill="hold">
                <p:stCondLst>
                  <p:cond evt="onClick">
                    <p:tgtEl>
                      <p:spTgt spid="288"/>
                    </p:tgtEl>
                  </p:cond>
                </p:stCondLst>
                <p:childTnLst>
                  <p:par>
                    <p:cTn id="1059" fill="hold">
                      <p:stCondLst>
                        <p:cond evt="onClick">
                          <p:tgtEl>
                            <p:spTgt spid="288"/>
                          </p:tgtEl>
                        </p:cond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j0074852.wav"/>
                                        </p:tgtEl>
                                      </p:cMediaNode>
                                    </p:audio>
                                    <p:animMotion origin="layout" path="M -0.3783 -0.5581 C -0.37534 -0.49028 -0.37812 -0.42222 -0.375 -0.3544 C -0.37465 -0.34792 -0.36961 -0.34306 -0.3684 -0.33681 C -0.36527 -0.32083 -0.36059 -0.30671 -0.35503 -0.2919 C -0.35208 -0.2838 -0.35121 -0.27315 -0.34826 -0.26482 C -0.3408 -0.24491 -0.34357 -0.25833 -0.33663 -0.24259 C -0.32413 -0.21343 -0.30573 -0.17222 -0.28333 -0.15532 C -0.26076 -0.13843 -0.2875 -0.16204 -0.26857 -0.14653 C -0.25416 -0.13495 -0.26354 -0.13958 -0.2533 -0.13519 C -0.24392 -0.12662 -0.25034 -0.13148 -0.2335 -0.12407 C -0.19722 -0.10833 -0.15104 -0.06713 -0.10833 -0.05232 C -0.10086 -0.04583 -0.09305 -0.04653 -0.08524 -0.0412 C -0.075 -0.03403 -0.06319 -0.02847 -0.05173 -0.02546 C -0.03645 -0.01551 -0.01857 -0.01921 -0.00173 -0.01667 C 0.01407 -0.01134 0.03039 -0.00926 0.0467 -0.00764 C 0.05209 -0.00509 0.05 -0.00556 0.05313 -0.00556 E">
                                      <p:cBhvr>
                                        <p:cTn id="1062" dur="2000" fill="hold"/>
                                        <p:tgtEl>
                                          <p:spTgt spid="2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63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06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91" name=""/>
            <p:cNvSpPr/>
            <p:nvPr/>
          </p:nvSpPr>
          <p:spPr>
            <a:xfrm>
              <a:off x="0" y="0"/>
              <a:ext cx="9144000" cy="6858000"/>
            </a:xfrm>
            <a:prstGeom prst="roundRect">
              <a:avLst>
                <a:gd name="adj" fmla="val 33449"/>
              </a:avLst>
            </a:prstGeom>
            <a:solidFill>
              <a:srgbClr val="c0c0c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981080" y="1676520"/>
              <a:ext cx="4876920" cy="3352680"/>
            </a:xfrm>
            <a:prstGeom prst="roundRect">
              <a:avLst>
                <a:gd name="adj" fmla="val 33449"/>
              </a:avLst>
            </a:prstGeom>
            <a:gradFill rotWithShape="0">
              <a:gsLst>
                <a:gs pos="0">
                  <a:srgbClr val="008000"/>
                </a:gs>
                <a:gs pos="50000">
                  <a:srgbClr val="009900"/>
                </a:gs>
                <a:gs pos="100000">
                  <a:srgbClr val="008000"/>
                </a:gs>
              </a:gsLst>
              <a:lin ang="135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990720" y="762120"/>
              <a:ext cx="6781680" cy="5105160"/>
            </a:xfrm>
            <a:prstGeom prst="roundRect">
              <a:avLst>
                <a:gd name="adj" fmla="val 33449"/>
              </a:avLst>
            </a:prstGeom>
            <a:noFill/>
            <a:ln w="572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"/>
          <p:cNvSpPr/>
          <p:nvPr/>
        </p:nvSpPr>
        <p:spPr>
          <a:xfrm>
            <a:off x="4343400" y="502920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3286080" y="5011560"/>
            <a:ext cx="914400" cy="39852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2"/>
          <a:stretch/>
        </p:blipFill>
        <p:spPr>
          <a:xfrm>
            <a:off x="3286080" y="5475240"/>
            <a:ext cx="914400" cy="39204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3"/>
          <a:stretch/>
        </p:blipFill>
        <p:spPr>
          <a:xfrm>
            <a:off x="3276720" y="5992920"/>
            <a:ext cx="923760" cy="40788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4"/>
          <a:stretch/>
        </p:blipFill>
        <p:spPr>
          <a:xfrm>
            <a:off x="3286080" y="6470640"/>
            <a:ext cx="914400" cy="38736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3200400" y="5105520"/>
            <a:ext cx="990720" cy="30456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276720" y="5562720"/>
            <a:ext cx="990360" cy="30456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276720" y="6019920"/>
            <a:ext cx="990360" cy="3808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276720" y="6553080"/>
            <a:ext cx="990360" cy="30492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7010280" y="2971800"/>
            <a:ext cx="53352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772400" y="2971800"/>
            <a:ext cx="53352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620120" y="3733920"/>
            <a:ext cx="53316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8381880" y="2743200"/>
            <a:ext cx="53352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114800" y="457200"/>
            <a:ext cx="609480" cy="3808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267080" y="1143000"/>
            <a:ext cx="609840" cy="3808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343400" y="0"/>
            <a:ext cx="609480" cy="3808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191120" y="838080"/>
            <a:ext cx="609480" cy="30492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523880" y="3048120"/>
            <a:ext cx="60984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990720" y="2819520"/>
            <a:ext cx="60948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80880" y="2819520"/>
            <a:ext cx="60984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0" y="2438280"/>
            <a:ext cx="609480" cy="60984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3200400" y="4343400"/>
            <a:ext cx="24098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Next Lap!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1065" dur="indefinite" restart="never" nodeType="tmRoot">
          <p:childTnLst>
            <p:seq>
              <p:cTn id="1066" restart="whenNotActive" nodeType="interactiveSeq" fill="hold">
                <p:stCondLst>
                  <p:cond evt="onClick">
                    <p:tgtEl>
                      <p:spTgt spid="299"/>
                    </p:tgtEl>
                  </p:cond>
                </p:stCondLst>
                <p:childTnLst>
                  <p:par>
                    <p:cTn id="1067" fill="hold">
                      <p:stCondLst>
                        <p:cond evt="onClick">
                          <p:tgtEl>
                            <p:spTgt spid="299"/>
                          </p:tgtEl>
                        </p:cond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j0074852.wav"/>
                                        </p:tgtEl>
                                      </p:cMediaNode>
                                    </p:audio>
                                    <p:animMotion origin="layout" path="M 0.0573 -0.00046 C 0.11181 -0.00162 0.33004 0.03403 0.3849 -0.00764 C 0.43976 -0.0493 0.3856 -0.20694 0.38664 -0.25 C 0.38768 -0.29305 0.38959 -0.2794 0.39167 -0.26551 E">
                                      <p:cBhvr>
                                        <p:cTn id="1070" dur="2000" fill="hold"/>
                                        <p:tgtEl>
                                          <p:spTgt spid="2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71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5400000">
                                      <p:cBhvr>
                                        <p:cTn id="107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3" restart="whenNotActive" nodeType="interactiveSeq" fill="hold">
                <p:stCondLst>
                  <p:cond evt="onClick">
                    <p:tgtEl>
                      <p:spTgt spid="300"/>
                    </p:tgtEl>
                  </p:cond>
                </p:stCondLst>
                <p:childTnLst>
                  <p:par>
                    <p:cTn id="1074" fill="hold">
                      <p:stCondLst>
                        <p:cond evt="onClick">
                          <p:tgtEl>
                            <p:spTgt spid="300"/>
                          </p:tgtEl>
                        </p:cond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j0074852.wav"/>
                                        </p:tgtEl>
                                      </p:cMediaNode>
                                    </p:audio>
                                    <p:animMotion origin="layout" path="M 0.05504 0.00116 C 0.10973 0.00046 0.17049 0.02824 0.21927 -0.00856 C 0.22466 -0.0125 0.22691 -0.01782 0.23264 -0.02106 C 0.23941 -0.03055 0.24723 -0.03912 0.25625 -0.04329 C 0.26407 -0.05139 0.2698 -0.05463 0.27795 -0.06088 C 0.28507 -0.06597 0.29028 -0.07616 0.29636 -0.0831 C 0.29948 -0.0868 0.30365 -0.08866 0.30643 -0.09305 C 0.31198 -0.10116 0.31389 -0.10926 0.32153 -0.11296 C 0.32969 -0.13148 0.34289 -0.14768 0.35504 -0.16018 C 0.35938 -0.16458 0.36407 -0.16852 0.36858 -0.17268 C 0.37275 -0.17662 0.38195 -0.18241 0.38195 -0.18217 C 0.38976 -0.19421 0.38507 -0.18819 0.39705 -0.19977 C 0.39879 -0.20139 0.40035 -0.20324 0.40209 -0.20486 C 0.40382 -0.20648 0.40712 -0.20995 0.40712 -0.20972 C 0.41164 -0.22014 0.4191 -0.22477 0.42552 -0.23217 C 0.43594 -0.24467 0.44618 -0.25856 0.45747 -0.26944 C 0.475 -0.30903 0.47084 -0.31041 0.47084 -0.37129 E">
                                      <p:cBhvr>
                                        <p:cTn id="1077" dur="2000" fill="hold"/>
                                        <p:tgtEl>
                                          <p:spTgt spid="2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78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5400000">
                                      <p:cBhvr>
                                        <p:cTn id="1079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0" restart="whenNotActive" nodeType="interactiveSeq" fill="hold">
                <p:stCondLst>
                  <p:cond evt="onClick">
                    <p:tgtEl>
                      <p:spTgt spid="301"/>
                    </p:tgtEl>
                  </p:cond>
                </p:stCondLst>
                <p:childTnLst>
                  <p:par>
                    <p:cTn id="1081" fill="hold">
                      <p:stCondLst>
                        <p:cond evt="onClick">
                          <p:tgtEl>
                            <p:spTgt spid="301"/>
                          </p:tgtEl>
                        </p:cond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j0074852.wav"/>
                                        </p:tgtEl>
                                      </p:cMediaNode>
                                    </p:audio>
                                    <p:animMotion origin="layout" path="M 0.06858 -0.01366 C 0.13681 -0.01481 0.20712 -0.0162 0.27553 -0.02338 C 0.2816 -0.02546 0.28785 -0.02592 0.29393 -0.02801 C 0.30521 -0.03217 0.31598 -0.04097 0.32726 -0.0456 C 0.33421 -0.05231 0.34237 -0.06018 0.35053 -0.06342 C 0.36459 -0.07569 0.38091 -0.08379 0.39549 -0.09467 C 0.41407 -0.10833 0.43125 -0.12523 0.44879 -0.1412 C 0.45469 -0.15254 0.46146 -0.16296 0.46719 -0.17453 C 0.4724 -0.18518 0.47309 -0.20231 0.47553 -0.21458 C 0.475 -0.2331 0.47518 -0.25162 0.47379 -0.27014 C 0.47292 -0.28217 0.4625 -0.30486 0.45556 -0.31227 C 0.43507 -0.33379 0.46407 -0.29653 0.44723 -0.31898 E">
                                      <p:cBhvr>
                                        <p:cTn id="1084" dur="2000" fill="hold"/>
                                        <p:tgtEl>
                                          <p:spTgt spid="2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85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5400000">
                                      <p:cBhvr>
                                        <p:cTn id="1086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7" restart="whenNotActive" nodeType="interactiveSeq" fill="hold">
                <p:stCondLst>
                  <p:cond evt="onClick">
                    <p:tgtEl>
                      <p:spTgt spid="302"/>
                    </p:tgtEl>
                  </p:cond>
                </p:stCondLst>
                <p:childTnLst>
                  <p:par>
                    <p:cTn id="1088" fill="hold">
                      <p:stCondLst>
                        <p:cond evt="onClick">
                          <p:tgtEl>
                            <p:spTgt spid="302"/>
                          </p:tgtEl>
                        </p:cond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j0074852.wav"/>
                                        </p:tgtEl>
                                      </p:cMediaNode>
                                    </p:audio>
                                    <p:animMotion origin="layout" path="M 0.05417 -0.00509 C 0.06007 -0.00394 0.07709 -0.00162 0.09028 -0.00046 C 0.10348 0.00069 0.11563 0.00231 0.13334 0.00162 C 0.16511 -0.00324 0.1408 0.00023 0.19671 -0.00509 C 0.20452 -0.00579 0.21997 -0.00741 0.21997 -0.00718 C 0.24271 -0.01204 0.26563 -0.01204 0.28837 -0.0162 C 0.304 -0.01921 0.28941 -0.01736 0.30504 -0.02292 C 0.31719 -0.02732 0.33091 -0.02778 0.34341 -0.02963 C 0.35296 -0.03264 0.36025 -0.03843 0.36997 -0.04074 C 0.38091 -0.04792 0.39323 -0.05347 0.40504 -0.05833 C 0.41233 -0.06505 0.41962 -0.07153 0.42674 -0.07847 C 0.4408 -0.09236 0.43126 -0.0875 0.44167 -0.09167 C 0.44966 -0.10278 0.43907 -0.08912 0.45174 -0.1007 C 0.45834 -0.10671 0.46823 -0.12153 0.47674 -0.125 C 0.47969 -0.1375 0.48941 -0.14421 0.49671 -0.15185 C 0.50382 -0.15926 0.50712 -0.17014 0.51337 -0.17847 C 0.51771 -0.19722 0.51146 -0.17431 0.51841 -0.18958 C 0.52101 -0.19514 0.52275 -0.20139 0.52501 -0.20741 C 0.52674 -0.21204 0.5316 -0.2206 0.5316 -0.22037 C 0.55608 -0.34745 0.53994 -0.20093 0.53994 -0.54282 E">
                                      <p:cBhvr>
                                        <p:cTn id="1091" dur="2000" fill="hold"/>
                                        <p:tgtEl>
                                          <p:spTgt spid="2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92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5400000">
                                      <p:cBhvr>
                                        <p:cTn id="109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4" restart="whenNotActive" nodeType="interactiveSeq" fill="hold">
                <p:stCondLst>
                  <p:cond evt="onClick">
                    <p:tgtEl>
                      <p:spTgt spid="303"/>
                    </p:tgtEl>
                  </p:cond>
                </p:stCondLst>
                <p:childTnLst>
                  <p:par>
                    <p:cTn id="1095" fill="hold">
                      <p:stCondLst>
                        <p:cond evt="onClick">
                          <p:tgtEl>
                            <p:spTgt spid="303"/>
                          </p:tgtEl>
                        </p:cond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j0074852.wav"/>
                                        </p:tgtEl>
                                      </p:cMediaNode>
                                    </p:audio>
                                    <p:animMotion origin="layout" path="M 0.39167 -0.29305 C 0.39237 -0.33657 0.38664 -0.38889 0.39844 -0.43287 C 0.39757 -0.46366 0.40296 -0.48241 0.39167 -0.50416 C 0.38837 -0.51991 0.38403 -0.52893 0.37848 -0.54398 C 0.37674 -0.54838 0.37119 -0.54907 0.36841 -0.55069 C 0.35886 -0.55602 0.35105 -0.56805 0.34011 -0.56852 C 0.30296 -0.56991 0.26563 -0.57014 0.22848 -0.57083 C 0.22032 -0.57291 0.21719 -0.575 0.21007 -0.57963 C 0.20573 -0.58241 0.20087 -0.58333 0.19671 -0.58634 C 0.18976 -0.59143 0.18403 -0.59768 0.17674 -0.60185 C 0.17466 -0.60301 0.16546 -0.60555 0.16337 -0.60625 C 0.15313 -0.61018 0.1474 -0.61319 0.13681 -0.61528 C 0.12744 -0.62338 0.11563 -0.62592 0.10504 -0.63078 C 0.10278 -0.6331 0.10035 -0.63495 0.09844 -0.6375 C 0.09705 -0.63935 0.09671 -0.64236 0.09513 -0.64398 C 0.09376 -0.64537 0.09323 -0.6493 0.09167 -0.65046 C 0.0882 -0.65301 0.08525 -0.65486 0.08195 -0.65787 C 0.08039 -0.65926 0.08264 -0.65509 0.07501 -0.65717 E">
                                      <p:cBhvr>
                                        <p:cTn id="1098" dur="2000" fill="hold"/>
                                        <p:tgtEl>
                                          <p:spTgt spid="2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99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10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1" restart="whenNotActive" nodeType="interactiveSeq" fill="hold">
                <p:stCondLst>
                  <p:cond evt="onClick">
                    <p:tgtEl>
                      <p:spTgt spid="304"/>
                    </p:tgtEl>
                  </p:cond>
                </p:stCondLst>
                <p:childTnLst>
                  <p:par>
                    <p:cTn id="1102" fill="hold">
                      <p:stCondLst>
                        <p:cond evt="onClick">
                          <p:tgtEl>
                            <p:spTgt spid="304"/>
                          </p:tgtEl>
                        </p:cond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j0074852.wav"/>
                                        </p:tgtEl>
                                      </p:cMediaNode>
                                    </p:audio>
                                    <p:animMotion origin="layout" path="M 0.47084 -0.37129 C 0.4724 -0.44166 0.48525 -0.53009 0.45417 -0.59352 C 0.45139 -0.60972 0.45469 -0.5956 0.44914 -0.60903 C 0.43716 -0.63842 0.43004 -0.65833 0.40417 -0.66898 C 0.39827 -0.67731 0.404 -0.67106 0.39428 -0.67569 C 0.38317 -0.68102 0.38577 -0.68403 0.37257 -0.6868 C 0.32639 -0.68518 0.32674 -0.68541 0.29584 -0.68009 C 0.27362 -0.66829 0.25157 -0.65648 0.22917 -0.64467 C 0.21806 -0.63889 0.20469 -0.6294 0.19254 -0.62916 C 0.15591 -0.62847 0.1191 -0.62916 0.08247 -0.62916 E">
                                      <p:cBhvr>
                                        <p:cTn id="1105" dur="2000" fill="hold"/>
                                        <p:tgtEl>
                                          <p:spTgt spid="2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06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107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8" restart="whenNotActive" nodeType="interactiveSeq" fill="hold">
                <p:stCondLst>
                  <p:cond evt="onClick">
                    <p:tgtEl>
                      <p:spTgt spid="305"/>
                    </p:tgtEl>
                  </p:cond>
                </p:stCondLst>
                <p:childTnLst>
                  <p:par>
                    <p:cTn id="1109" fill="hold">
                      <p:stCondLst>
                        <p:cond evt="onClick">
                          <p:tgtEl>
                            <p:spTgt spid="305"/>
                          </p:tgtEl>
                        </p:cond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j0074852.wav"/>
                                        </p:tgtEl>
                                      </p:cMediaNode>
                                    </p:audio>
                                    <p:animMotion origin="layout" path="M 0.44723 -0.31898 C 0.44132 -0.32685 0.44427 -0.32152 0.44046 -0.3368 C 0.43941 -0.3412 0.43716 -0.35023 0.43716 -0.35023 C 0.43872 -0.39004 0.43455 -0.41157 0.46216 -0.43032 C 0.46823 -0.43865 0.47743 -0.44027 0.48386 -0.44791 C 0.49671 -0.46342 0.50521 -0.47939 0.51042 -0.50138 C 0.51302 -0.52731 0.51719 -0.55231 0.50209 -0.57245 C 0.50157 -0.57546 0.50191 -0.57916 0.50052 -0.58125 C 0.49983 -0.58263 0.48907 -0.58564 0.48889 -0.58564 C 0.47639 -0.59027 0.46771 -0.59097 0.45382 -0.59236 C 0.43855 -0.59583 0.43629 -0.60254 0.42379 -0.6125 C 0.42275 -0.61551 0.42223 -0.61898 0.42049 -0.62129 C 0.41927 -0.62291 0.41667 -0.62199 0.41546 -0.62361 C 0.41372 -0.62592 0.41355 -0.62963 0.41216 -0.6324 C 0.40921 -0.63796 0.40625 -0.64004 0.40209 -0.64351 C 0.39948 -0.64884 0.39618 -0.65347 0.39375 -0.65902 C 0.39289 -0.66111 0.39289 -0.66365 0.39219 -0.66574 C 0.38941 -0.67338 0.38559 -0.68101 0.38212 -0.68796 C 0.37709 -0.70995 0.37171 -0.73611 0.35886 -0.75231 C 0.35504 -0.76713 0.36007 -0.74976 0.35209 -0.76805 C 0.34966 -0.77361 0.34896 -0.78125 0.34549 -0.78564 C 0.33629 -0.79791 0.32691 -0.81481 0.31389 -0.81898 C 0.31059 -0.82199 0.30764 -0.82638 0.30382 -0.82801 C 0.29792 -0.83055 0.2908 -0.83287 0.28542 -0.8368 C 0.2783 -0.84213 0.27014 -0.85138 0.26216 -0.85463 C 0.24584 -0.86134 0.22743 -0.86319 0.21042 -0.86574 C 0.19514 -0.87106 0.21355 -0.86527 0.18542 -0.87013 C 0.17396 -0.87222 0.16181 -0.87685 0.15052 -0.87916 C 0.13021 -0.8831 0.10938 -0.87916 0.08889 -0.87916 E">
                                      <p:cBhvr>
                                        <p:cTn id="1112" dur="2000" fill="hold"/>
                                        <p:tgtEl>
                                          <p:spTgt spid="2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13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114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5" restart="whenNotActive" nodeType="interactiveSeq" fill="hold">
                <p:stCondLst>
                  <p:cond evt="onClick">
                    <p:tgtEl>
                      <p:spTgt spid="306"/>
                    </p:tgtEl>
                  </p:cond>
                </p:stCondLst>
                <p:childTnLst>
                  <p:par>
                    <p:cTn id="1116" fill="hold">
                      <p:stCondLst>
                        <p:cond evt="onClick">
                          <p:tgtEl>
                            <p:spTgt spid="306"/>
                          </p:tgtEl>
                        </p:cond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j0074852.wav"/>
                                        </p:tgtEl>
                                      </p:cMediaNode>
                                    </p:audio>
                                    <p:animMotion origin="layout" path="M 0.53993 -0.54283 C 0.53924 -0.58334 0.54323 -0.64908 0.52483 -0.68959 C 0.52274 -0.71065 0.51754 -0.72986 0.51163 -0.74954 C 0.50816 -0.76088 0.50642 -0.77431 0.50156 -0.78496 C 0.49965 -0.78889 0.49688 -0.79213 0.49497 -0.79607 C 0.49149 -0.81389 0.49636 -0.79699 0.48663 -0.81181 C 0.47674 -0.82709 0.49063 -0.81574 0.47656 -0.825 C 0.47153 -0.83426 0.46684 -0.8463 0.4599 -0.85394 C 0.45295 -0.86158 0.45712 -0.85556 0.44983 -0.86065 C 0.4467 -0.86274 0.44479 -0.86783 0.44149 -0.86945 C 0.43663 -0.87199 0.42708 -0.87431 0.42153 -0.87616 C 0.41823 -0.87709 0.41493 -0.87778 0.41163 -0.87848 C 0.40434 -0.8801 0.38993 -0.88287 0.38993 -0.88287 C 0.37986 -0.88704 0.37031 -0.88982 0.3599 -0.89167 C 0.33767 -0.90186 0.30799 -0.90486 0.2849 -0.90718 C 0.26997 -0.90649 0.25486 -0.90672 0.23993 -0.9051 C 0.23038 -0.90394 0.22118 -0.89977 0.21163 -0.89838 C 0.19948 -0.89306 0.20504 -0.89514 0.19497 -0.89167 C 0.18507 -0.88311 0.18281 -0.88125 0.17153 -0.87848 C 0.16597 -0.87454 0.16024 -0.87315 0.15486 -0.86945 C 0.1434 -0.86181 0.1559 -0.8676 0.14497 -0.86274 C 0.13993 -0.86042 0.12986 -0.85625 0.12986 -0.85625 C 0.12396 -0.84792 0.12969 -0.85417 0.11997 -0.84954 C 0.10243 -0.84098 0.09219 -0.83403 0.07326 -0.83403 E">
                                      <p:cBhvr>
                                        <p:cTn id="1119" dur="2000" fill="hold"/>
                                        <p:tgtEl>
                                          <p:spTgt spid="2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20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121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2" restart="whenNotActive" nodeType="interactiveSeq" fill="hold">
                <p:stCondLst>
                  <p:cond evt="onClick">
                    <p:tgtEl>
                      <p:spTgt spid="307"/>
                    </p:tgtEl>
                  </p:cond>
                </p:stCondLst>
                <p:childTnLst>
                  <p:par>
                    <p:cTn id="1123" fill="hold">
                      <p:stCondLst>
                        <p:cond evt="onClick">
                          <p:tgtEl>
                            <p:spTgt spid="307"/>
                          </p:tgtEl>
                        </p:cond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j0074852.wav"/>
                                        </p:tgtEl>
                                      </p:cMediaNode>
                                    </p:audio>
                                    <p:animMotion origin="layout" path="M 0.07396 -0.65879 C 0.04757 -0.65463 0.05521 -0.66666 0.00452 -0.66991 C -0.01822 -0.67315 -0.04045 -0.66018 -0.06371 -0.6618 C -0.12674 -0.66088 -0.19289 -0.68009 -0.2533 -0.65509 C -0.25365 -0.65463 -0.26216 -0.64653 -0.26337 -0.64398 C -0.27084 -0.62731 -0.27657 -0.60856 -0.2816 -0.59051 C -0.28299 -0.58541 -0.28386 -0.58009 -0.2849 -0.575 C -0.28612 -0.56898 -0.28837 -0.55717 -0.28837 -0.55694 C -0.2908 -0.52384 -0.29428 -0.48842 -0.28004 -0.45949 C -0.27761 -0.44676 -0.27257 -0.44004 -0.26667 -0.43055 C -0.26546 -0.42847 -0.26424 -0.42616 -0.26337 -0.42384 C -0.26268 -0.42176 -0.26268 -0.41921 -0.26164 -0.41736 C -0.25747 -0.41041 -0.25278 -0.40393 -0.24827 -0.39722 C -0.2441 -0.39097 -0.23941 -0.38541 -0.2349 -0.3794 C -0.23334 -0.37731 -0.23004 -0.37291 -0.23004 -0.37268 C -0.2283 -0.3662 -0.22726 -0.35926 -0.225 -0.35278 C -0.22414 -0.35046 -0.22257 -0.34861 -0.22171 -0.34606 C -0.22032 -0.3419 -0.21823 -0.33287 -0.21823 -0.33264 C -0.21771 -0.32778 -0.21737 -0.32245 -0.21667 -0.31736 C -0.21546 -0.30856 -0.2099 -0.2993 -0.2099 -0.29051 C -0.2099 -0.28171 -0.2099 -0.27268 -0.2099 -0.26389 E">
                                      <p:cBhvr>
                                        <p:cTn id="1126" dur="2000" fill="hold"/>
                                        <p:tgtEl>
                                          <p:spTgt spid="2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27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12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9" restart="whenNotActive" nodeType="interactiveSeq" fill="hold">
                <p:stCondLst>
                  <p:cond evt="onClick">
                    <p:tgtEl>
                      <p:spTgt spid="308"/>
                    </p:tgtEl>
                  </p:cond>
                </p:stCondLst>
                <p:childTnLst>
                  <p:par>
                    <p:cTn id="1130" fill="hold">
                      <p:stCondLst>
                        <p:cond evt="onClick">
                          <p:tgtEl>
                            <p:spTgt spid="308"/>
                          </p:tgtEl>
                        </p:cond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j0074852.wav"/>
                                        </p:tgtEl>
                                      </p:cMediaNode>
                                    </p:audio>
                                    <p:animMotion origin="layout" path="M 0.08247 -0.62917 C 0.07587 -0.62986 0.0691 -0.62986 0.06251 -0.63148 C 0.05678 -0.63287 0.05018 -0.63843 0.04428 -0.64028 C 0.03594 -0.65093 0.02674 -0.65139 0.01754 -0.6581 C 0.00139 -0.66991 0.01407 -0.66505 -0.00086 -0.66921 C -0.00815 -0.6757 -0.01562 -0.67801 -0.02413 -0.68033 C -0.03229 -0.68588 -0.0401 -0.69121 -0.04913 -0.69375 C -0.05885 -0.70023 -0.06874 -0.70301 -0.07916 -0.70695 C -0.08836 -0.71042 -0.0802 -0.70764 -0.08906 -0.71366 C -0.09392 -0.7169 -0.10034 -0.71829 -0.10572 -0.72037 C -0.12847 -0.72894 -0.1526 -0.73125 -0.17586 -0.73588 C -0.21041 -0.74283 -0.24427 -0.75185 -0.27916 -0.75579 C -0.28854 -0.75509 -0.29808 -0.75556 -0.30746 -0.75371 C -0.31545 -0.75208 -0.31909 -0.7382 -0.32413 -0.73148 C -0.32552 -0.72963 -0.3276 -0.72871 -0.32916 -0.72708 C -0.33038 -0.7257 -0.33142 -0.72408 -0.33246 -0.72246 C -0.33454 -0.71435 -0.33732 -0.70741 -0.34079 -0.70023 C -0.34357 -0.68634 -0.34583 -0.67222 -0.34739 -0.6581 C -0.346 -0.64306 -0.34548 -0.6375 -0.34079 -0.62477 C -0.3394 -0.61111 -0.33749 -0.59583 -0.3342 -0.58264 C -0.33124 -0.5706 -0.32499 -0.5625 -0.32083 -0.55139 C -0.31527 -0.53658 -0.3092 -0.52315 -0.30243 -0.50926 C -0.29895 -0.50232 -0.29288 -0.5 -0.28906 -0.49375 C -0.28437 -0.48611 -0.28194 -0.47708 -0.27743 -0.46921 C -0.27552 -0.46134 -0.27361 -0.45046 -0.27083 -0.44259 C -0.26909 -0.43773 -0.26597 -0.43496 -0.26579 -0.42917 C -0.26527 -0.40625 -0.26579 -0.38333 -0.26579 -0.36042 E">
                                      <p:cBhvr>
                                        <p:cTn id="1133" dur="2000" fill="hold"/>
                                        <p:tgtEl>
                                          <p:spTgt spid="2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34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135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6" restart="whenNotActive" nodeType="interactiveSeq" fill="hold">
                <p:stCondLst>
                  <p:cond evt="onClick">
                    <p:tgtEl>
                      <p:spTgt spid="309"/>
                    </p:tgtEl>
                  </p:cond>
                </p:stCondLst>
                <p:childTnLst>
                  <p:par>
                    <p:cTn id="1137" fill="hold">
                      <p:stCondLst>
                        <p:cond evt="onClick">
                          <p:tgtEl>
                            <p:spTgt spid="309"/>
                          </p:tgtEl>
                        </p:cond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j0074852.wav"/>
                                        </p:tgtEl>
                                      </p:cMediaNode>
                                    </p:audio>
                                    <p:animMotion origin="layout" path="M 0.08889 -0.87917 C 0.0198 -0.87801 -0.03698 -0.88195 -0.10121 -0.87037 C -0.10312 -0.86968 -0.10468 -0.86921 -0.10625 -0.86806 C -0.10798 -0.8669 -0.10954 -0.86482 -0.11111 -0.86366 C -0.11441 -0.86181 -0.12118 -0.85926 -0.12118 -0.85926 C -0.1276 -0.85023 -0.14392 -0.84236 -0.15277 -0.83912 C -0.15816 -0.83449 -0.16441 -0.83148 -0.16944 -0.82593 C -0.18281 -0.81134 -0.19652 -0.79653 -0.20954 -0.78148 C -0.21666 -0.77315 -0.22187 -0.76158 -0.22951 -0.75463 C -0.23767 -0.73287 -0.22569 -0.76227 -0.24288 -0.73241 C -0.24739 -0.72454 -0.25104 -0.71713 -0.25625 -0.71019 C -0.25972 -0.69607 -0.25486 -0.70995 -0.26284 -0.70139 C -0.26441 -0.69977 -0.26475 -0.69653 -0.26614 -0.69468 C -0.26927 -0.69051 -0.27309 -0.68773 -0.27621 -0.68357 C -0.27882 -0.67269 -0.2809 -0.66713 -0.28611 -0.65695 C -0.28732 -0.65463 -0.28958 -0.65023 -0.28958 -0.65023 C -0.29149 -0.6419 -0.29427 -0.63519 -0.29791 -0.62801 C -0.29965 -0.6206 -0.3026 -0.61528 -0.30451 -0.6081 C -0.30555 -0.58773 -0.3059 -0.56366 -0.31111 -0.54352 C -0.31232 -0.53912 -0.31354 -0.53472 -0.31458 -0.53033 C -0.31562 -0.52593 -0.31788 -0.5169 -0.31788 -0.5169 C -0.31909 -0.5037 -0.31805 -0.49699 -0.32448 -0.48796 C -0.3302 -0.46644 -0.32951 -0.4632 -0.32951 -0.43704 E">
                                      <p:cBhvr>
                                        <p:cTn id="1140" dur="2000" fill="hold"/>
                                        <p:tgtEl>
                                          <p:spTgt spid="2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41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142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3" restart="whenNotActive" nodeType="interactiveSeq" fill="hold">
                <p:stCondLst>
                  <p:cond evt="onClick">
                    <p:tgtEl>
                      <p:spTgt spid="310"/>
                    </p:tgtEl>
                  </p:cond>
                </p:stCondLst>
                <p:childTnLst>
                  <p:par>
                    <p:cTn id="1144" fill="hold">
                      <p:stCondLst>
                        <p:cond evt="onClick">
                          <p:tgtEl>
                            <p:spTgt spid="310"/>
                          </p:tgtEl>
                        </p:cond>
                      </p:stCondLst>
                      <p:childTnLst>
                        <p:par>
                          <p:cTn id="1145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j0074852.wav"/>
                                        </p:tgtEl>
                                      </p:cMediaNode>
                                    </p:audio>
                                    <p:animMotion origin="layout" path="M 0.07292 -0.83472 C 0.05244 -0.83796 0.04879 -0.8537 0.0349 -0.85347 C -0.06736 -0.85208 -0.16945 -0.85208 -0.27171 -0.85139 C -0.28056 -0.84722 -0.28733 -0.84028 -0.29497 -0.83357 C -0.29983 -0.82917 -0.30157 -0.82245 -0.30678 -0.81806 C -0.30782 -0.81574 -0.30921 -0.81366 -0.31007 -0.81134 C -0.31077 -0.80926 -0.31077 -0.80671 -0.31164 -0.80463 C -0.3125 -0.80278 -0.31407 -0.80185 -0.31511 -0.80023 C -0.32014 -0.7919 -0.32639 -0.78079 -0.33004 -0.7713 C -0.33542 -0.75695 -0.33941 -0.74051 -0.34844 -0.72917 C -0.3507 -0.71945 -0.35487 -0.71134 -0.35834 -0.70255 C -0.36233 -0.69236 -0.36441 -0.68426 -0.37171 -0.67801 C -0.38073 -0.63218 -0.3783 -0.62407 -0.3783 -0.5581 E">
                                      <p:cBhvr>
                                        <p:cTn id="1147" dur="2000" fill="hold"/>
                                        <p:tgtEl>
                                          <p:spTgt spid="2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48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149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0" restart="whenNotActive" nodeType="interactiveSeq" fill="hold">
                <p:stCondLst>
                  <p:cond evt="onClick">
                    <p:tgtEl>
                      <p:spTgt spid="311"/>
                    </p:tgtEl>
                  </p:cond>
                </p:stCondLst>
                <p:childTnLst>
                  <p:par>
                    <p:cTn id="1151" fill="hold">
                      <p:stCondLst>
                        <p:cond evt="onClick">
                          <p:tgtEl>
                            <p:spTgt spid="311"/>
                          </p:tgtEl>
                        </p:cond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j0074852.wav"/>
                                        </p:tgtEl>
                                      </p:cMediaNode>
                                    </p:audio>
                                    <p:animMotion origin="layout" path="M -0.2099 -0.26389 C -0.20122 -0.2287 -0.21007 -0.26736 -0.20573 -0.17708 C -0.20539 -0.17037 -0.20226 -0.16389 -0.20139 -0.15717 C -0.19636 -0.11643 -0.1875 -0.0919 -0.16285 -0.05926 C -0.15244 -0.04583 -0.13803 -0.02893 -0.12188 -0.02384 C -0.11494 -0.01898 -0.10851 -0.01528 -0.10035 -0.01273 C -0.08732 -0.00347 -0.08124 -0.00208 -0.06631 0.00278 C -0.04236 0.00486 0.000869999999999999 -0.00046 0.02153 -0.00092 C 0.04219 -0.00139 0.04983 0.00023 0.0573 0.00047 E">
                                      <p:cBhvr>
                                        <p:cTn id="1154" dur="2000" fill="hold"/>
                                        <p:tgtEl>
                                          <p:spTgt spid="2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5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156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7" restart="whenNotActive" nodeType="interactiveSeq" fill="hold">
                <p:stCondLst>
                  <p:cond evt="onClick">
                    <p:tgtEl>
                      <p:spTgt spid="312"/>
                    </p:tgtEl>
                  </p:cond>
                </p:stCondLst>
                <p:childTnLst>
                  <p:par>
                    <p:cTn id="1158" fill="hold">
                      <p:stCondLst>
                        <p:cond evt="onClick">
                          <p:tgtEl>
                            <p:spTgt spid="312"/>
                          </p:tgtEl>
                        </p:cond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j0074852.wav"/>
                                        </p:tgtEl>
                                      </p:cMediaNode>
                                    </p:audio>
                                    <p:animMotion origin="layout" path="M -0.26579 -0.36041 C -0.26562 -0.34699 -0.28107 -0.2162 -0.25572 -0.16712 C -0.25381 -0.15902 -0.25034 -0.15254 -0.24739 -0.1449 C -0.246 -0.13449 -0.24479 -0.128 -0.23906 -0.12037 C -0.23663 -0.11018 -0.23263 -0.09976 -0.22586 -0.09374 C -0.21163 -0.06597 -0.19444 -0.04606 -0.17239 -0.02939 C -0.16562 -0.0243 -0.15781 -0.02268 -0.15086 -0.01828 C -0.14479 -0.01435 -0.13836 -0.01319 -0.13246 -0.00925 C -0.12152 -0.00185 -0.13402 -0.00694 -0.12083 -0.00277 C -0.0644 0.03588 -0.11666 0.00186 0.05417 0.00186 E">
                                      <p:cBhvr>
                                        <p:cTn id="1161" dur="2000" fill="hold"/>
                                        <p:tgtEl>
                                          <p:spTgt spid="2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62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163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4" restart="whenNotActive" nodeType="interactiveSeq" fill="hold">
                <p:stCondLst>
                  <p:cond evt="onClick">
                    <p:tgtEl>
                      <p:spTgt spid="313"/>
                    </p:tgtEl>
                  </p:cond>
                </p:stCondLst>
                <p:childTnLst>
                  <p:par>
                    <p:cTn id="1165" fill="hold">
                      <p:stCondLst>
                        <p:cond evt="onClick">
                          <p:tgtEl>
                            <p:spTgt spid="313"/>
                          </p:tgtEl>
                        </p:cond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j0074852.wav"/>
                                        </p:tgtEl>
                                      </p:cMediaNode>
                                    </p:audio>
                                    <p:animMotion origin="layout" path="M -0.32951 -0.43703 C -0.34409 -0.39837 -0.33767 -0.29166 -0.33784 -0.28587 C -0.33611 -0.23587 -0.33524 -0.18981 -0.32621 -0.14143 C -0.32517 -0.13564 -0.32152 -0.13124 -0.31944 -0.12592 C -0.31198 -0.1074 -0.3059 -0.08865 -0.29791 -0.07036 C -0.28906 -0.04999 -0.27621 -0.02036 -0.25781 -0.01273 C -0.24965 -0.00439 -0.23941 -0.00069 -0.23125 0.00741 C -0.22899 0.00973 -0.22708 0.01251 -0.22448 0.01413 C -0.22239 0.01551 -0.22013 0.01528 -0.21788 0.01621 C -0.21614 0.0169 -0.21441 0.01737 -0.21284 0.01852 C -0.19722 0.02894 -0.22309 0.01598 -0.19791 0.02732 C -0.19618 0.02801 -0.19288 0.02964 -0.19288 0.02964 C -0.17569 0.02894 -0.15833 0.02871 -0.14114 0.02732 C -0.13125 0.02663 -0.12378 0.02107 -0.11284 0.02061 C -0.08576 0.01945 -0.0585 0.01922 -0.03125 0.01852 C -0.01024 0.01436 0.01094 0.01251 0.03212 0.0095 C 0.03837 0.00764 0.04445 0.00579 0.05052 0.00301 C 0.05382 0.00163 0.06042 -0.00161 0.06042 -0.00161 C 0.06285 -0.00462 0.06563 -0.01273 0.06875 -0.01273 E">
                                      <p:cBhvr>
                                        <p:cTn id="1168" dur="2000" fill="hold"/>
                                        <p:tgtEl>
                                          <p:spTgt spid="2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69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170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1" restart="whenNotActive" nodeType="interactiveSeq" fill="hold">
                <p:stCondLst>
                  <p:cond evt="onClick">
                    <p:tgtEl>
                      <p:spTgt spid="314"/>
                    </p:tgtEl>
                  </p:cond>
                </p:stCondLst>
                <p:childTnLst>
                  <p:par>
                    <p:cTn id="1172" fill="hold">
                      <p:stCondLst>
                        <p:cond evt="onClick">
                          <p:tgtEl>
                            <p:spTgt spid="314"/>
                          </p:tgtEl>
                        </p:cond>
                      </p:stCondLst>
                      <p:childTnLst>
                        <p:par>
                          <p:cTn id="1173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j0074852.wav"/>
                                        </p:tgtEl>
                                      </p:cMediaNode>
                                    </p:audio>
                                    <p:animMotion origin="layout" path="M -0.3783 -0.5581 C -0.37534 -0.49028 -0.37812 -0.42222 -0.375 -0.3544 C -0.37465 -0.34792 -0.36961 -0.34306 -0.3684 -0.33681 C -0.36527 -0.32083 -0.36059 -0.30671 -0.35503 -0.2919 C -0.35208 -0.2838 -0.35121 -0.27315 -0.34826 -0.26482 C -0.3408 -0.24491 -0.34357 -0.25833 -0.33663 -0.24259 C -0.32413 -0.21343 -0.30573 -0.17222 -0.28333 -0.15532 C -0.26076 -0.13843 -0.2875 -0.16204 -0.26857 -0.14653 C -0.25416 -0.13495 -0.26354 -0.13958 -0.2533 -0.13519 C -0.24392 -0.12662 -0.25034 -0.13148 -0.2335 -0.12407 C -0.19722 -0.10833 -0.15104 -0.06713 -0.10833 -0.05232 C -0.10086 -0.04583 -0.09305 -0.04653 -0.08524 -0.0412 C -0.075 -0.03403 -0.06319 -0.02847 -0.05173 -0.02546 C -0.03645 -0.01551 -0.01857 -0.01921 -0.00173 -0.01667 C 0.01407 -0.01134 0.03039 -0.00926 0.0467 -0.00764 C 0.05209 -0.00509 0.05 -0.00556 0.05313 -0.00556 E">
                                      <p:cBhvr>
                                        <p:cTn id="1175" dur="2000" fill="hold"/>
                                        <p:tgtEl>
                                          <p:spTgt spid="2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76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177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17" name=""/>
            <p:cNvSpPr/>
            <p:nvPr/>
          </p:nvSpPr>
          <p:spPr>
            <a:xfrm>
              <a:off x="0" y="0"/>
              <a:ext cx="9144000" cy="6858000"/>
            </a:xfrm>
            <a:prstGeom prst="roundRect">
              <a:avLst>
                <a:gd name="adj" fmla="val 33449"/>
              </a:avLst>
            </a:prstGeom>
            <a:solidFill>
              <a:srgbClr val="c0c0c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981080" y="1676520"/>
              <a:ext cx="4876920" cy="3352680"/>
            </a:xfrm>
            <a:prstGeom prst="roundRect">
              <a:avLst>
                <a:gd name="adj" fmla="val 33449"/>
              </a:avLst>
            </a:prstGeom>
            <a:gradFill rotWithShape="0">
              <a:gsLst>
                <a:gs pos="0">
                  <a:srgbClr val="008000"/>
                </a:gs>
                <a:gs pos="50000">
                  <a:srgbClr val="009900"/>
                </a:gs>
                <a:gs pos="100000">
                  <a:srgbClr val="008000"/>
                </a:gs>
              </a:gsLst>
              <a:lin ang="135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990720" y="762120"/>
              <a:ext cx="6781680" cy="5105160"/>
            </a:xfrm>
            <a:prstGeom prst="roundRect">
              <a:avLst>
                <a:gd name="adj" fmla="val 33449"/>
              </a:avLst>
            </a:prstGeom>
            <a:noFill/>
            <a:ln w="572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4343400" y="502920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3286080" y="5011560"/>
            <a:ext cx="914400" cy="398520"/>
          </a:xfrm>
          <a:prstGeom prst="rect">
            <a:avLst/>
          </a:prstGeom>
          <a:ln w="0">
            <a:noFill/>
          </a:ln>
        </p:spPr>
      </p:pic>
      <p:pic>
        <p:nvPicPr>
          <p:cNvPr id="322" name="" descr=""/>
          <p:cNvPicPr/>
          <p:nvPr/>
        </p:nvPicPr>
        <p:blipFill>
          <a:blip r:embed="rId2"/>
          <a:stretch/>
        </p:blipFill>
        <p:spPr>
          <a:xfrm>
            <a:off x="3286080" y="5475240"/>
            <a:ext cx="914400" cy="392040"/>
          </a:xfrm>
          <a:prstGeom prst="rect">
            <a:avLst/>
          </a:prstGeom>
          <a:ln w="0">
            <a:noFill/>
          </a:ln>
        </p:spPr>
      </p:pic>
      <p:pic>
        <p:nvPicPr>
          <p:cNvPr id="323" name="" descr=""/>
          <p:cNvPicPr/>
          <p:nvPr/>
        </p:nvPicPr>
        <p:blipFill>
          <a:blip r:embed="rId3"/>
          <a:stretch/>
        </p:blipFill>
        <p:spPr>
          <a:xfrm>
            <a:off x="3276720" y="5992920"/>
            <a:ext cx="923760" cy="40788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/>
          <p:cNvPicPr/>
          <p:nvPr/>
        </p:nvPicPr>
        <p:blipFill>
          <a:blip r:embed="rId4"/>
          <a:stretch/>
        </p:blipFill>
        <p:spPr>
          <a:xfrm>
            <a:off x="3286080" y="6470640"/>
            <a:ext cx="914400" cy="38736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3200400" y="5105520"/>
            <a:ext cx="990720" cy="30456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276720" y="5562720"/>
            <a:ext cx="990360" cy="30456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276720" y="6019920"/>
            <a:ext cx="990360" cy="3808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276720" y="6553080"/>
            <a:ext cx="990360" cy="30492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010280" y="2971800"/>
            <a:ext cx="53352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7772400" y="2971800"/>
            <a:ext cx="53352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7620120" y="3733920"/>
            <a:ext cx="53316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8381880" y="2743200"/>
            <a:ext cx="53352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114800" y="457200"/>
            <a:ext cx="609480" cy="3808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267080" y="1143000"/>
            <a:ext cx="609840" cy="3808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343400" y="0"/>
            <a:ext cx="609480" cy="3808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191120" y="838080"/>
            <a:ext cx="609480" cy="30492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523880" y="3048120"/>
            <a:ext cx="60984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990720" y="2819520"/>
            <a:ext cx="60948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80880" y="2819520"/>
            <a:ext cx="60984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0" y="2438280"/>
            <a:ext cx="609480" cy="60984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00400" y="4343400"/>
            <a:ext cx="24098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Next Lap!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1178" dur="indefinite" restart="never" nodeType="tmRoot">
          <p:childTnLst>
            <p:seq>
              <p:cTn id="1179" restart="whenNotActive" nodeType="interactiveSeq" fill="hold">
                <p:stCondLst>
                  <p:cond evt="onClick">
                    <p:tgtEl>
                      <p:spTgt spid="325"/>
                    </p:tgtEl>
                  </p:cond>
                </p:stCondLst>
                <p:childTnLst>
                  <p:par>
                    <p:cTn id="1180" fill="hold">
                      <p:stCondLst>
                        <p:cond evt="onClick">
                          <p:tgtEl>
                            <p:spTgt spid="325"/>
                          </p:tgtEl>
                        </p:cond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j0074852.wav"/>
                                        </p:tgtEl>
                                      </p:cMediaNode>
                                    </p:audio>
                                    <p:animMotion origin="layout" path="M 0.0573 -0.00046 C 0.11181 -0.00162 0.33004 0.03403 0.3849 -0.00764 C 0.43976 -0.0493 0.3856 -0.20694 0.38664 -0.25 C 0.38768 -0.29305 0.38959 -0.2794 0.39167 -0.26551 E">
                                      <p:cBhvr>
                                        <p:cTn id="1183" dur="2000" fill="hold"/>
                                        <p:tgtEl>
                                          <p:spTgt spid="3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84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5400000">
                                      <p:cBhvr>
                                        <p:cTn id="1185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86" restart="whenNotActive" nodeType="interactiveSeq" fill="hold">
                <p:stCondLst>
                  <p:cond evt="onClick">
                    <p:tgtEl>
                      <p:spTgt spid="326"/>
                    </p:tgtEl>
                  </p:cond>
                </p:stCondLst>
                <p:childTnLst>
                  <p:par>
                    <p:cTn id="1187" fill="hold">
                      <p:stCondLst>
                        <p:cond evt="onClick">
                          <p:tgtEl>
                            <p:spTgt spid="326"/>
                          </p:tgtEl>
                        </p:cond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j0074852.wav"/>
                                        </p:tgtEl>
                                      </p:cMediaNode>
                                    </p:audio>
                                    <p:animMotion origin="layout" path="M 0.05504 0.00116 C 0.10973 0.00046 0.17049 0.02824 0.21927 -0.00856 C 0.22466 -0.0125 0.22691 -0.01782 0.23264 -0.02106 C 0.23941 -0.03055 0.24723 -0.03912 0.25625 -0.04329 C 0.26407 -0.05139 0.2698 -0.05463 0.27795 -0.06088 C 0.28507 -0.06597 0.29028 -0.07616 0.29636 -0.0831 C 0.29948 -0.0868 0.30365 -0.08866 0.30643 -0.09305 C 0.31198 -0.10116 0.31389 -0.10926 0.32153 -0.11296 C 0.32969 -0.13148 0.34289 -0.14768 0.35504 -0.16018 C 0.35938 -0.16458 0.36407 -0.16852 0.36858 -0.17268 C 0.37275 -0.17662 0.38195 -0.18241 0.38195 -0.18217 C 0.38976 -0.19421 0.38507 -0.18819 0.39705 -0.19977 C 0.39879 -0.20139 0.40035 -0.20324 0.40209 -0.20486 C 0.40382 -0.20648 0.40712 -0.20995 0.40712 -0.20972 C 0.41164 -0.22014 0.4191 -0.22477 0.42552 -0.23217 C 0.43594 -0.24467 0.44618 -0.25856 0.45747 -0.26944 C 0.475 -0.30903 0.47084 -0.31041 0.47084 -0.37129 E">
                                      <p:cBhvr>
                                        <p:cTn id="1190" dur="2000" fill="hold"/>
                                        <p:tgtEl>
                                          <p:spTgt spid="3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91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5400000">
                                      <p:cBhvr>
                                        <p:cTn id="119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3" restart="whenNotActive" nodeType="interactiveSeq" fill="hold">
                <p:stCondLst>
                  <p:cond evt="onClick">
                    <p:tgtEl>
                      <p:spTgt spid="327"/>
                    </p:tgtEl>
                  </p:cond>
                </p:stCondLst>
                <p:childTnLst>
                  <p:par>
                    <p:cTn id="1194" fill="hold">
                      <p:stCondLst>
                        <p:cond evt="onClick">
                          <p:tgtEl>
                            <p:spTgt spid="327"/>
                          </p:tgtEl>
                        </p:cond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j0074852.wav"/>
                                        </p:tgtEl>
                                      </p:cMediaNode>
                                    </p:audio>
                                    <p:animMotion origin="layout" path="M 0.06858 -0.01366 C 0.13681 -0.01481 0.20712 -0.0162 0.27553 -0.02338 C 0.2816 -0.02546 0.28785 -0.02592 0.29393 -0.02801 C 0.30521 -0.03217 0.31598 -0.04097 0.32726 -0.0456 C 0.33421 -0.05231 0.34237 -0.06018 0.35053 -0.06342 C 0.36459 -0.07569 0.38091 -0.08379 0.39549 -0.09467 C 0.41407 -0.10833 0.43125 -0.12523 0.44879 -0.1412 C 0.45469 -0.15254 0.46146 -0.16296 0.46719 -0.17453 C 0.4724 -0.18518 0.47309 -0.20231 0.47553 -0.21458 C 0.475 -0.2331 0.47518 -0.25162 0.47379 -0.27014 C 0.47292 -0.28217 0.4625 -0.30486 0.45556 -0.31227 C 0.43507 -0.33379 0.46407 -0.29653 0.44723 -0.31898 E">
                                      <p:cBhvr>
                                        <p:cTn id="1197" dur="2000" fill="hold"/>
                                        <p:tgtEl>
                                          <p:spTgt spid="3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98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5400000">
                                      <p:cBhvr>
                                        <p:cTn id="119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0" restart="whenNotActive" nodeType="interactiveSeq" fill="hold">
                <p:stCondLst>
                  <p:cond evt="onClick">
                    <p:tgtEl>
                      <p:spTgt spid="328"/>
                    </p:tgtEl>
                  </p:cond>
                </p:stCondLst>
                <p:childTnLst>
                  <p:par>
                    <p:cTn id="1201" fill="hold">
                      <p:stCondLst>
                        <p:cond evt="onClick">
                          <p:tgtEl>
                            <p:spTgt spid="328"/>
                          </p:tgtEl>
                        </p:cond>
                      </p:stCondLst>
                      <p:childTnLst>
                        <p:par>
                          <p:cTn id="1202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j0074852.wav"/>
                                        </p:tgtEl>
                                      </p:cMediaNode>
                                    </p:audio>
                                    <p:animMotion origin="layout" path="M 0.05417 -0.00509 C 0.06007 -0.00394 0.07709 -0.00162 0.09028 -0.00046 C 0.10348 0.00069 0.11563 0.00231 0.13334 0.00162 C 0.16511 -0.00324 0.1408 0.00023 0.19671 -0.00509 C 0.20452 -0.00579 0.21997 -0.00741 0.21997 -0.00718 C 0.24271 -0.01204 0.26563 -0.01204 0.28837 -0.0162 C 0.304 -0.01921 0.28941 -0.01736 0.30504 -0.02292 C 0.31719 -0.02732 0.33091 -0.02778 0.34341 -0.02963 C 0.35296 -0.03264 0.36025 -0.03843 0.36997 -0.04074 C 0.38091 -0.04792 0.39323 -0.05347 0.40504 -0.05833 C 0.41233 -0.06505 0.41962 -0.07153 0.42674 -0.07847 C 0.4408 -0.09236 0.43126 -0.0875 0.44167 -0.09167 C 0.44966 -0.10278 0.43907 -0.08912 0.45174 -0.1007 C 0.45834 -0.10671 0.46823 -0.12153 0.47674 -0.125 C 0.47969 -0.1375 0.48941 -0.14421 0.49671 -0.15185 C 0.50382 -0.15926 0.50712 -0.17014 0.51337 -0.17847 C 0.51771 -0.19722 0.51146 -0.17431 0.51841 -0.18958 C 0.52101 -0.19514 0.52275 -0.20139 0.52501 -0.20741 C 0.52674 -0.21204 0.5316 -0.2206 0.5316 -0.22037 C 0.55608 -0.34745 0.53994 -0.20093 0.53994 -0.54282 E">
                                      <p:cBhvr>
                                        <p:cTn id="1204" dur="2000" fill="hold"/>
                                        <p:tgtEl>
                                          <p:spTgt spid="3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05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5400000">
                                      <p:cBhvr>
                                        <p:cTn id="120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7" restart="whenNotActive" nodeType="interactiveSeq" fill="hold">
                <p:stCondLst>
                  <p:cond evt="onClick">
                    <p:tgtEl>
                      <p:spTgt spid="329"/>
                    </p:tgtEl>
                  </p:cond>
                </p:stCondLst>
                <p:childTnLst>
                  <p:par>
                    <p:cTn id="1208" fill="hold">
                      <p:stCondLst>
                        <p:cond evt="onClick">
                          <p:tgtEl>
                            <p:spTgt spid="329"/>
                          </p:tgtEl>
                        </p:cond>
                      </p:stCondLst>
                      <p:childTnLst>
                        <p:par>
                          <p:cTn id="1209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j0074852.wav"/>
                                        </p:tgtEl>
                                      </p:cMediaNode>
                                    </p:audio>
                                    <p:animMotion origin="layout" path="M 0.39167 -0.29305 C 0.39237 -0.33657 0.38664 -0.38889 0.39844 -0.43287 C 0.39757 -0.46366 0.40296 -0.48241 0.39167 -0.50416 C 0.38837 -0.51991 0.38403 -0.52893 0.37848 -0.54398 C 0.37674 -0.54838 0.37119 -0.54907 0.36841 -0.55069 C 0.35886 -0.55602 0.35105 -0.56805 0.34011 -0.56852 C 0.30296 -0.56991 0.26563 -0.57014 0.22848 -0.57083 C 0.22032 -0.57291 0.21719 -0.575 0.21007 -0.57963 C 0.20573 -0.58241 0.20087 -0.58333 0.19671 -0.58634 C 0.18976 -0.59143 0.18403 -0.59768 0.17674 -0.60185 C 0.17466 -0.60301 0.16546 -0.60555 0.16337 -0.60625 C 0.15313 -0.61018 0.1474 -0.61319 0.13681 -0.61528 C 0.12744 -0.62338 0.11563 -0.62592 0.10504 -0.63078 C 0.10278 -0.6331 0.10035 -0.63495 0.09844 -0.6375 C 0.09705 -0.63935 0.09671 -0.64236 0.09513 -0.64398 C 0.09376 -0.64537 0.09323 -0.6493 0.09167 -0.65046 C 0.0882 -0.65301 0.08525 -0.65486 0.08195 -0.65787 C 0.08039 -0.65926 0.08264 -0.65509 0.07501 -0.65717 E">
                                      <p:cBhvr>
                                        <p:cTn id="1211" dur="2000" fill="hold"/>
                                        <p:tgtEl>
                                          <p:spTgt spid="3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12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213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4" restart="whenNotActive" nodeType="interactiveSeq" fill="hold">
                <p:stCondLst>
                  <p:cond evt="onClick">
                    <p:tgtEl>
                      <p:spTgt spid="330"/>
                    </p:tgtEl>
                  </p:cond>
                </p:stCondLst>
                <p:childTnLst>
                  <p:par>
                    <p:cTn id="1215" fill="hold">
                      <p:stCondLst>
                        <p:cond evt="onClick">
                          <p:tgtEl>
                            <p:spTgt spid="330"/>
                          </p:tgtEl>
                        </p:cond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j0074852.wav"/>
                                        </p:tgtEl>
                                      </p:cMediaNode>
                                    </p:audio>
                                    <p:animMotion origin="layout" path="M 0.47084 -0.37129 C 0.4724 -0.44166 0.48525 -0.53009 0.45417 -0.59352 C 0.45139 -0.60972 0.45469 -0.5956 0.44914 -0.60903 C 0.43716 -0.63842 0.43004 -0.65833 0.40417 -0.66898 C 0.39827 -0.67731 0.404 -0.67106 0.39428 -0.67569 C 0.38317 -0.68102 0.38577 -0.68403 0.37257 -0.6868 C 0.32639 -0.68518 0.32674 -0.68541 0.29584 -0.68009 C 0.27362 -0.66829 0.25157 -0.65648 0.22917 -0.64467 C 0.21806 -0.63889 0.20469 -0.6294 0.19254 -0.62916 C 0.15591 -0.62847 0.1191 -0.62916 0.08247 -0.62916 E">
                                      <p:cBhvr>
                                        <p:cTn id="1218" dur="2000" fill="hold"/>
                                        <p:tgtEl>
                                          <p:spTgt spid="3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19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220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1" restart="whenNotActive" nodeType="interactiveSeq" fill="hold">
                <p:stCondLst>
                  <p:cond evt="onClick">
                    <p:tgtEl>
                      <p:spTgt spid="331"/>
                    </p:tgtEl>
                  </p:cond>
                </p:stCondLst>
                <p:childTnLst>
                  <p:par>
                    <p:cTn id="1222" fill="hold">
                      <p:stCondLst>
                        <p:cond evt="onClick">
                          <p:tgtEl>
                            <p:spTgt spid="331"/>
                          </p:tgtEl>
                        </p:cond>
                      </p:stCondLst>
                      <p:childTnLst>
                        <p:par>
                          <p:cTn id="1223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j0074852.wav"/>
                                        </p:tgtEl>
                                      </p:cMediaNode>
                                    </p:audio>
                                    <p:animMotion origin="layout" path="M 0.44723 -0.31898 C 0.44132 -0.32685 0.44427 -0.32152 0.44046 -0.3368 C 0.43941 -0.3412 0.43716 -0.35023 0.43716 -0.35023 C 0.43872 -0.39004 0.43455 -0.41157 0.46216 -0.43032 C 0.46823 -0.43865 0.47743 -0.44027 0.48386 -0.44791 C 0.49671 -0.46342 0.50521 -0.47939 0.51042 -0.50138 C 0.51302 -0.52731 0.51719 -0.55231 0.50209 -0.57245 C 0.50157 -0.57546 0.50191 -0.57916 0.50052 -0.58125 C 0.49983 -0.58263 0.48907 -0.58564 0.48889 -0.58564 C 0.47639 -0.59027 0.46771 -0.59097 0.45382 -0.59236 C 0.43855 -0.59583 0.43629 -0.60254 0.42379 -0.6125 C 0.42275 -0.61551 0.42223 -0.61898 0.42049 -0.62129 C 0.41927 -0.62291 0.41667 -0.62199 0.41546 -0.62361 C 0.41372 -0.62592 0.41355 -0.62963 0.41216 -0.6324 C 0.40921 -0.63796 0.40625 -0.64004 0.40209 -0.64351 C 0.39948 -0.64884 0.39618 -0.65347 0.39375 -0.65902 C 0.39289 -0.66111 0.39289 -0.66365 0.39219 -0.66574 C 0.38941 -0.67338 0.38559 -0.68101 0.38212 -0.68796 C 0.37709 -0.70995 0.37171 -0.73611 0.35886 -0.75231 C 0.35504 -0.76713 0.36007 -0.74976 0.35209 -0.76805 C 0.34966 -0.77361 0.34896 -0.78125 0.34549 -0.78564 C 0.33629 -0.79791 0.32691 -0.81481 0.31389 -0.81898 C 0.31059 -0.82199 0.30764 -0.82638 0.30382 -0.82801 C 0.29792 -0.83055 0.2908 -0.83287 0.28542 -0.8368 C 0.2783 -0.84213 0.27014 -0.85138 0.26216 -0.85463 C 0.24584 -0.86134 0.22743 -0.86319 0.21042 -0.86574 C 0.19514 -0.87106 0.21355 -0.86527 0.18542 -0.87013 C 0.17396 -0.87222 0.16181 -0.87685 0.15052 -0.87916 C 0.13021 -0.8831 0.10938 -0.87916 0.08889 -0.87916 E">
                                      <p:cBhvr>
                                        <p:cTn id="1225" dur="2000" fill="hold"/>
                                        <p:tgtEl>
                                          <p:spTgt spid="3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26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227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8" restart="whenNotActive" nodeType="interactiveSeq" fill="hold">
                <p:stCondLst>
                  <p:cond evt="onClick">
                    <p:tgtEl>
                      <p:spTgt spid="332"/>
                    </p:tgtEl>
                  </p:cond>
                </p:stCondLst>
                <p:childTnLst>
                  <p:par>
                    <p:cTn id="1229" fill="hold">
                      <p:stCondLst>
                        <p:cond evt="onClick">
                          <p:tgtEl>
                            <p:spTgt spid="332"/>
                          </p:tgtEl>
                        </p:cond>
                      </p:stCondLst>
                      <p:childTnLst>
                        <p:par>
                          <p:cTn id="1230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j0074852.wav"/>
                                        </p:tgtEl>
                                      </p:cMediaNode>
                                    </p:audio>
                                    <p:animMotion origin="layout" path="M 0.53993 -0.54283 C 0.53924 -0.58334 0.54323 -0.64908 0.52483 -0.68959 C 0.52274 -0.71065 0.51754 -0.72986 0.51163 -0.74954 C 0.50816 -0.76088 0.50642 -0.77431 0.50156 -0.78496 C 0.49965 -0.78889 0.49688 -0.79213 0.49497 -0.79607 C 0.49149 -0.81389 0.49636 -0.79699 0.48663 -0.81181 C 0.47674 -0.82709 0.49063 -0.81574 0.47656 -0.825 C 0.47153 -0.83426 0.46684 -0.8463 0.4599 -0.85394 C 0.45295 -0.86158 0.45712 -0.85556 0.44983 -0.86065 C 0.4467 -0.86274 0.44479 -0.86783 0.44149 -0.86945 C 0.43663 -0.87199 0.42708 -0.87431 0.42153 -0.87616 C 0.41823 -0.87709 0.41493 -0.87778 0.41163 -0.87848 C 0.40434 -0.8801 0.38993 -0.88287 0.38993 -0.88287 C 0.37986 -0.88704 0.37031 -0.88982 0.3599 -0.89167 C 0.33767 -0.90186 0.30799 -0.90486 0.2849 -0.90718 C 0.26997 -0.90649 0.25486 -0.90672 0.23993 -0.9051 C 0.23038 -0.90394 0.22118 -0.89977 0.21163 -0.89838 C 0.19948 -0.89306 0.20504 -0.89514 0.19497 -0.89167 C 0.18507 -0.88311 0.18281 -0.88125 0.17153 -0.87848 C 0.16597 -0.87454 0.16024 -0.87315 0.15486 -0.86945 C 0.1434 -0.86181 0.1559 -0.8676 0.14497 -0.86274 C 0.13993 -0.86042 0.12986 -0.85625 0.12986 -0.85625 C 0.12396 -0.84792 0.12969 -0.85417 0.11997 -0.84954 C 0.10243 -0.84098 0.09219 -0.83403 0.07326 -0.83403 E">
                                      <p:cBhvr>
                                        <p:cTn id="1232" dur="2000" fill="hold"/>
                                        <p:tgtEl>
                                          <p:spTgt spid="3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33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234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5" restart="whenNotActive" nodeType="interactiveSeq" fill="hold">
                <p:stCondLst>
                  <p:cond evt="onClick">
                    <p:tgtEl>
                      <p:spTgt spid="333"/>
                    </p:tgtEl>
                  </p:cond>
                </p:stCondLst>
                <p:childTnLst>
                  <p:par>
                    <p:cTn id="1236" fill="hold">
                      <p:stCondLst>
                        <p:cond evt="onClick">
                          <p:tgtEl>
                            <p:spTgt spid="333"/>
                          </p:tgtEl>
                        </p:cond>
                      </p:stCondLst>
                      <p:childTnLst>
                        <p:par>
                          <p:cTn id="1237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j0074852.wav"/>
                                        </p:tgtEl>
                                      </p:cMediaNode>
                                    </p:audio>
                                    <p:animMotion origin="layout" path="M 0.07396 -0.65879 C 0.04757 -0.65463 0.05521 -0.66666 0.00452 -0.66991 C -0.01822 -0.67315 -0.04045 -0.66018 -0.06371 -0.6618 C -0.12674 -0.66088 -0.19289 -0.68009 -0.2533 -0.65509 C -0.25365 -0.65463 -0.26216 -0.64653 -0.26337 -0.64398 C -0.27084 -0.62731 -0.27657 -0.60856 -0.2816 -0.59051 C -0.28299 -0.58541 -0.28386 -0.58009 -0.2849 -0.575 C -0.28612 -0.56898 -0.28837 -0.55717 -0.28837 -0.55694 C -0.2908 -0.52384 -0.29428 -0.48842 -0.28004 -0.45949 C -0.27761 -0.44676 -0.27257 -0.44004 -0.26667 -0.43055 C -0.26546 -0.42847 -0.26424 -0.42616 -0.26337 -0.42384 C -0.26268 -0.42176 -0.26268 -0.41921 -0.26164 -0.41736 C -0.25747 -0.41041 -0.25278 -0.40393 -0.24827 -0.39722 C -0.2441 -0.39097 -0.23941 -0.38541 -0.2349 -0.3794 C -0.23334 -0.37731 -0.23004 -0.37291 -0.23004 -0.37268 C -0.2283 -0.3662 -0.22726 -0.35926 -0.225 -0.35278 C -0.22414 -0.35046 -0.22257 -0.34861 -0.22171 -0.34606 C -0.22032 -0.3419 -0.21823 -0.33287 -0.21823 -0.33264 C -0.21771 -0.32778 -0.21737 -0.32245 -0.21667 -0.31736 C -0.21546 -0.30856 -0.2099 -0.2993 -0.2099 -0.29051 C -0.2099 -0.28171 -0.2099 -0.27268 -0.2099 -0.26389 E">
                                      <p:cBhvr>
                                        <p:cTn id="1239" dur="2000" fill="hold"/>
                                        <p:tgtEl>
                                          <p:spTgt spid="3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40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241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2" restart="whenNotActive" nodeType="interactiveSeq" fill="hold">
                <p:stCondLst>
                  <p:cond evt="onClick">
                    <p:tgtEl>
                      <p:spTgt spid="334"/>
                    </p:tgtEl>
                  </p:cond>
                </p:stCondLst>
                <p:childTnLst>
                  <p:par>
                    <p:cTn id="1243" fill="hold">
                      <p:stCondLst>
                        <p:cond evt="onClick">
                          <p:tgtEl>
                            <p:spTgt spid="334"/>
                          </p:tgtEl>
                        </p:cond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j0074852.wav"/>
                                        </p:tgtEl>
                                      </p:cMediaNode>
                                    </p:audio>
                                    <p:animMotion origin="layout" path="M 0.08247 -0.62917 C 0.07587 -0.62986 0.0691 -0.62986 0.06251 -0.63148 C 0.05678 -0.63287 0.05018 -0.63843 0.04428 -0.64028 C 0.03594 -0.65093 0.02674 -0.65139 0.01754 -0.6581 C 0.00139 -0.66991 0.01407 -0.66505 -0.00086 -0.66921 C -0.00815 -0.6757 -0.01562 -0.67801 -0.02413 -0.68033 C -0.03229 -0.68588 -0.0401 -0.69121 -0.04913 -0.69375 C -0.05885 -0.70023 -0.06874 -0.70301 -0.07916 -0.70695 C -0.08836 -0.71042 -0.0802 -0.70764 -0.08906 -0.71366 C -0.09392 -0.7169 -0.10034 -0.71829 -0.10572 -0.72037 C -0.12847 -0.72894 -0.1526 -0.73125 -0.17586 -0.73588 C -0.21041 -0.74283 -0.24427 -0.75185 -0.27916 -0.75579 C -0.28854 -0.75509 -0.29808 -0.75556 -0.30746 -0.75371 C -0.31545 -0.75208 -0.31909 -0.7382 -0.32413 -0.73148 C -0.32552 -0.72963 -0.3276 -0.72871 -0.32916 -0.72708 C -0.33038 -0.7257 -0.33142 -0.72408 -0.33246 -0.72246 C -0.33454 -0.71435 -0.33732 -0.70741 -0.34079 -0.70023 C -0.34357 -0.68634 -0.34583 -0.67222 -0.34739 -0.6581 C -0.346 -0.64306 -0.34548 -0.6375 -0.34079 -0.62477 C -0.3394 -0.61111 -0.33749 -0.59583 -0.3342 -0.58264 C -0.33124 -0.5706 -0.32499 -0.5625 -0.32083 -0.55139 C -0.31527 -0.53658 -0.3092 -0.52315 -0.30243 -0.50926 C -0.29895 -0.50232 -0.29288 -0.5 -0.28906 -0.49375 C -0.28437 -0.48611 -0.28194 -0.47708 -0.27743 -0.46921 C -0.27552 -0.46134 -0.27361 -0.45046 -0.27083 -0.44259 C -0.26909 -0.43773 -0.26597 -0.43496 -0.26579 -0.42917 C -0.26527 -0.40625 -0.26579 -0.38333 -0.26579 -0.36042 E">
                                      <p:cBhvr>
                                        <p:cTn id="1246" dur="2000" fill="hold"/>
                                        <p:tgtEl>
                                          <p:spTgt spid="3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47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248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9" restart="whenNotActive" nodeType="interactiveSeq" fill="hold">
                <p:stCondLst>
                  <p:cond evt="onClick">
                    <p:tgtEl>
                      <p:spTgt spid="335"/>
                    </p:tgtEl>
                  </p:cond>
                </p:stCondLst>
                <p:childTnLst>
                  <p:par>
                    <p:cTn id="1250" fill="hold">
                      <p:stCondLst>
                        <p:cond evt="onClick">
                          <p:tgtEl>
                            <p:spTgt spid="335"/>
                          </p:tgtEl>
                        </p:cond>
                      </p:stCondLst>
                      <p:childTnLst>
                        <p:par>
                          <p:cTn id="1251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j0074852.wav"/>
                                        </p:tgtEl>
                                      </p:cMediaNode>
                                    </p:audio>
                                    <p:animMotion origin="layout" path="M 0.08889 -0.87917 C 0.0198 -0.87801 -0.03698 -0.88195 -0.10121 -0.87037 C -0.10312 -0.86968 -0.10468 -0.86921 -0.10625 -0.86806 C -0.10798 -0.8669 -0.10954 -0.86482 -0.11111 -0.86366 C -0.11441 -0.86181 -0.12118 -0.85926 -0.12118 -0.85926 C -0.1276 -0.85023 -0.14392 -0.84236 -0.15277 -0.83912 C -0.15816 -0.83449 -0.16441 -0.83148 -0.16944 -0.82593 C -0.18281 -0.81134 -0.19652 -0.79653 -0.20954 -0.78148 C -0.21666 -0.77315 -0.22187 -0.76158 -0.22951 -0.75463 C -0.23767 -0.73287 -0.22569 -0.76227 -0.24288 -0.73241 C -0.24739 -0.72454 -0.25104 -0.71713 -0.25625 -0.71019 C -0.25972 -0.69607 -0.25486 -0.70995 -0.26284 -0.70139 C -0.26441 -0.69977 -0.26475 -0.69653 -0.26614 -0.69468 C -0.26927 -0.69051 -0.27309 -0.68773 -0.27621 -0.68357 C -0.27882 -0.67269 -0.2809 -0.66713 -0.28611 -0.65695 C -0.28732 -0.65463 -0.28958 -0.65023 -0.28958 -0.65023 C -0.29149 -0.6419 -0.29427 -0.63519 -0.29791 -0.62801 C -0.29965 -0.6206 -0.3026 -0.61528 -0.30451 -0.6081 C -0.30555 -0.58773 -0.3059 -0.56366 -0.31111 -0.54352 C -0.31232 -0.53912 -0.31354 -0.53472 -0.31458 -0.53033 C -0.31562 -0.52593 -0.31788 -0.5169 -0.31788 -0.5169 C -0.31909 -0.5037 -0.31805 -0.49699 -0.32448 -0.48796 C -0.3302 -0.46644 -0.32951 -0.4632 -0.32951 -0.43704 E">
                                      <p:cBhvr>
                                        <p:cTn id="1253" dur="2000" fill="hold"/>
                                        <p:tgtEl>
                                          <p:spTgt spid="3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54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255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6" restart="whenNotActive" nodeType="interactiveSeq" fill="hold">
                <p:stCondLst>
                  <p:cond evt="onClick">
                    <p:tgtEl>
                      <p:spTgt spid="336"/>
                    </p:tgtEl>
                  </p:cond>
                </p:stCondLst>
                <p:childTnLst>
                  <p:par>
                    <p:cTn id="1257" fill="hold">
                      <p:stCondLst>
                        <p:cond evt="onClick">
                          <p:tgtEl>
                            <p:spTgt spid="336"/>
                          </p:tgtEl>
                        </p:cond>
                      </p:stCondLst>
                      <p:childTnLst>
                        <p:par>
                          <p:cTn id="1258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j0074852.wav"/>
                                        </p:tgtEl>
                                      </p:cMediaNode>
                                    </p:audio>
                                    <p:animMotion origin="layout" path="M 0.07292 -0.83472 C 0.05244 -0.83796 0.04879 -0.8537 0.0349 -0.85347 C -0.06736 -0.85208 -0.16945 -0.85208 -0.27171 -0.85139 C -0.28056 -0.84722 -0.28733 -0.84028 -0.29497 -0.83357 C -0.29983 -0.82917 -0.30157 -0.82245 -0.30678 -0.81806 C -0.30782 -0.81574 -0.30921 -0.81366 -0.31007 -0.81134 C -0.31077 -0.80926 -0.31077 -0.80671 -0.31164 -0.80463 C -0.3125 -0.80278 -0.31407 -0.80185 -0.31511 -0.80023 C -0.32014 -0.7919 -0.32639 -0.78079 -0.33004 -0.7713 C -0.33542 -0.75695 -0.33941 -0.74051 -0.34844 -0.72917 C -0.3507 -0.71945 -0.35487 -0.71134 -0.35834 -0.70255 C -0.36233 -0.69236 -0.36441 -0.68426 -0.37171 -0.67801 C -0.38073 -0.63218 -0.3783 -0.62407 -0.3783 -0.5581 E">
                                      <p:cBhvr>
                                        <p:cTn id="1260" dur="2000" fill="hold"/>
                                        <p:tgtEl>
                                          <p:spTgt spid="3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61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262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3" restart="whenNotActive" nodeType="interactiveSeq" fill="hold">
                <p:stCondLst>
                  <p:cond evt="onClick">
                    <p:tgtEl>
                      <p:spTgt spid="337"/>
                    </p:tgtEl>
                  </p:cond>
                </p:stCondLst>
                <p:childTnLst>
                  <p:par>
                    <p:cTn id="1264" fill="hold">
                      <p:stCondLst>
                        <p:cond evt="onClick">
                          <p:tgtEl>
                            <p:spTgt spid="337"/>
                          </p:tgtEl>
                        </p:cond>
                      </p:stCondLst>
                      <p:childTnLst>
                        <p:par>
                          <p:cTn id="1265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j0074852.wav"/>
                                        </p:tgtEl>
                                      </p:cMediaNode>
                                    </p:audio>
                                    <p:animMotion origin="layout" path="M -0.2099 -0.26389 C -0.20122 -0.2287 -0.21007 -0.26736 -0.20573 -0.17708 C -0.20539 -0.17037 -0.20226 -0.16389 -0.20139 -0.15717 C -0.19636 -0.11643 -0.1875 -0.0919 -0.16285 -0.05926 C -0.15244 -0.04583 -0.13803 -0.02893 -0.12188 -0.02384 C -0.11494 -0.01898 -0.10851 -0.01528 -0.10035 -0.01273 C -0.08732 -0.00347 -0.08124 -0.00208 -0.06631 0.00278 C -0.04236 0.00486 0.000869999999999999 -0.00046 0.02153 -0.00092 C 0.04219 -0.00139 0.04983 0.00023 0.0573 0.00047 E">
                                      <p:cBhvr>
                                        <p:cTn id="1267" dur="2000" fill="hold"/>
                                        <p:tgtEl>
                                          <p:spTgt spid="3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68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269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70" restart="whenNotActive" nodeType="interactiveSeq" fill="hold">
                <p:stCondLst>
                  <p:cond evt="onClick">
                    <p:tgtEl>
                      <p:spTgt spid="338"/>
                    </p:tgtEl>
                  </p:cond>
                </p:stCondLst>
                <p:childTnLst>
                  <p:par>
                    <p:cTn id="1271" fill="hold">
                      <p:stCondLst>
                        <p:cond evt="onClick">
                          <p:tgtEl>
                            <p:spTgt spid="338"/>
                          </p:tgtEl>
                        </p:cond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j0074852.wav"/>
                                        </p:tgtEl>
                                      </p:cMediaNode>
                                    </p:audio>
                                    <p:animMotion origin="layout" path="M -0.26579 -0.36041 C -0.26562 -0.34699 -0.28107 -0.2162 -0.25572 -0.16712 C -0.25381 -0.15902 -0.25034 -0.15254 -0.24739 -0.1449 C -0.246 -0.13449 -0.24479 -0.128 -0.23906 -0.12037 C -0.23663 -0.11018 -0.23263 -0.09976 -0.22586 -0.09374 C -0.21163 -0.06597 -0.19444 -0.04606 -0.17239 -0.02939 C -0.16562 -0.0243 -0.15781 -0.02268 -0.15086 -0.01828 C -0.14479 -0.01435 -0.13836 -0.01319 -0.13246 -0.00925 C -0.12152 -0.00185 -0.13402 -0.00694 -0.12083 -0.00277 C -0.0644 0.03588 -0.11666 0.00186 0.05417 0.00186 E">
                                      <p:cBhvr>
                                        <p:cTn id="1274" dur="2000" fill="hold"/>
                                        <p:tgtEl>
                                          <p:spTgt spid="3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75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276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77" restart="whenNotActive" nodeType="interactiveSeq" fill="hold">
                <p:stCondLst>
                  <p:cond evt="onClick">
                    <p:tgtEl>
                      <p:spTgt spid="339"/>
                    </p:tgtEl>
                  </p:cond>
                </p:stCondLst>
                <p:childTnLst>
                  <p:par>
                    <p:cTn id="1278" fill="hold">
                      <p:stCondLst>
                        <p:cond evt="onClick">
                          <p:tgtEl>
                            <p:spTgt spid="339"/>
                          </p:tgtEl>
                        </p:cond>
                      </p:stCondLst>
                      <p:childTnLst>
                        <p:par>
                          <p:cTn id="1279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j0074852.wav"/>
                                        </p:tgtEl>
                                      </p:cMediaNode>
                                    </p:audio>
                                    <p:animMotion origin="layout" path="M -0.32951 -0.43703 C -0.34409 -0.39837 -0.33767 -0.29166 -0.33784 -0.28587 C -0.33611 -0.23587 -0.33524 -0.18981 -0.32621 -0.14143 C -0.32517 -0.13564 -0.32152 -0.13124 -0.31944 -0.12592 C -0.31198 -0.1074 -0.3059 -0.08865 -0.29791 -0.07036 C -0.28906 -0.04999 -0.27621 -0.02036 -0.25781 -0.01273 C -0.24965 -0.00439 -0.23941 -0.00069 -0.23125 0.00741 C -0.22899 0.00973 -0.22708 0.01251 -0.22448 0.01413 C -0.22239 0.01551 -0.22013 0.01528 -0.21788 0.01621 C -0.21614 0.0169 -0.21441 0.01737 -0.21284 0.01852 C -0.19722 0.02894 -0.22309 0.01598 -0.19791 0.02732 C -0.19618 0.02801 -0.19288 0.02964 -0.19288 0.02964 C -0.17569 0.02894 -0.15833 0.02871 -0.14114 0.02732 C -0.13125 0.02663 -0.12378 0.02107 -0.11284 0.02061 C -0.08576 0.01945 -0.0585 0.01922 -0.03125 0.01852 C -0.01024 0.01436 0.01094 0.01251 0.03212 0.0095 C 0.03837 0.00764 0.04445 0.00579 0.05052 0.00301 C 0.05382 0.00163 0.06042 -0.00161 0.06042 -0.00161 C 0.06285 -0.00462 0.06563 -0.01273 0.06875 -0.01273 E">
                                      <p:cBhvr>
                                        <p:cTn id="1281" dur="2000" fill="hold"/>
                                        <p:tgtEl>
                                          <p:spTgt spid="3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82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283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4" restart="whenNotActive" nodeType="interactiveSeq" fill="hold">
                <p:stCondLst>
                  <p:cond evt="onClick">
                    <p:tgtEl>
                      <p:spTgt spid="340"/>
                    </p:tgtEl>
                  </p:cond>
                </p:stCondLst>
                <p:childTnLst>
                  <p:par>
                    <p:cTn id="1285" fill="hold">
                      <p:stCondLst>
                        <p:cond evt="onClick">
                          <p:tgtEl>
                            <p:spTgt spid="340"/>
                          </p:tgtEl>
                        </p:cond>
                      </p:stCondLst>
                      <p:childTnLst>
                        <p:par>
                          <p:cTn id="1286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j0074852.wav"/>
                                        </p:tgtEl>
                                      </p:cMediaNode>
                                    </p:audio>
                                    <p:animMotion origin="layout" path="M -0.3783 -0.5581 C -0.37534 -0.49028 -0.37812 -0.42222 -0.375 -0.3544 C -0.37465 -0.34792 -0.36961 -0.34306 -0.3684 -0.33681 C -0.36527 -0.32083 -0.36059 -0.30671 -0.35503 -0.2919 C -0.35208 -0.2838 -0.35121 -0.27315 -0.34826 -0.26482 C -0.3408 -0.24491 -0.34357 -0.25833 -0.33663 -0.24259 C -0.32413 -0.21343 -0.30573 -0.17222 -0.28333 -0.15532 C -0.26076 -0.13843 -0.2875 -0.16204 -0.26857 -0.14653 C -0.25416 -0.13495 -0.26354 -0.13958 -0.2533 -0.13519 C -0.24392 -0.12662 -0.25034 -0.13148 -0.2335 -0.12407 C -0.19722 -0.10833 -0.15104 -0.06713 -0.10833 -0.05232 C -0.10086 -0.04583 -0.09305 -0.04653 -0.08524 -0.0412 C -0.075 -0.03403 -0.06319 -0.02847 -0.05173 -0.02546 C -0.03645 -0.01551 -0.01857 -0.01921 -0.00173 -0.01667 C 0.01407 -0.01134 0.03039 -0.00926 0.0467 -0.00764 C 0.05209 -0.00509 0.05 -0.00556 0.05313 -0.00556 E">
                                      <p:cBhvr>
                                        <p:cTn id="1288" dur="2000" fill="hold"/>
                                        <p:tgtEl>
                                          <p:spTgt spid="3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89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290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43" name=""/>
            <p:cNvSpPr/>
            <p:nvPr/>
          </p:nvSpPr>
          <p:spPr>
            <a:xfrm>
              <a:off x="0" y="0"/>
              <a:ext cx="9144000" cy="6858000"/>
            </a:xfrm>
            <a:prstGeom prst="roundRect">
              <a:avLst>
                <a:gd name="adj" fmla="val 33449"/>
              </a:avLst>
            </a:prstGeom>
            <a:solidFill>
              <a:srgbClr val="c0c0c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981080" y="1676520"/>
              <a:ext cx="4876920" cy="3352680"/>
            </a:xfrm>
            <a:prstGeom prst="roundRect">
              <a:avLst>
                <a:gd name="adj" fmla="val 33449"/>
              </a:avLst>
            </a:prstGeom>
            <a:gradFill rotWithShape="0">
              <a:gsLst>
                <a:gs pos="0">
                  <a:srgbClr val="008000"/>
                </a:gs>
                <a:gs pos="50000">
                  <a:srgbClr val="009900"/>
                </a:gs>
                <a:gs pos="100000">
                  <a:srgbClr val="008000"/>
                </a:gs>
              </a:gsLst>
              <a:lin ang="135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990720" y="762120"/>
              <a:ext cx="6781680" cy="5105160"/>
            </a:xfrm>
            <a:prstGeom prst="roundRect">
              <a:avLst>
                <a:gd name="adj" fmla="val 33449"/>
              </a:avLst>
            </a:prstGeom>
            <a:noFill/>
            <a:ln w="572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4343400" y="502920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3286080" y="5011560"/>
            <a:ext cx="914400" cy="3985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3286080" y="5475240"/>
            <a:ext cx="914400" cy="39204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3"/>
          <a:stretch/>
        </p:blipFill>
        <p:spPr>
          <a:xfrm>
            <a:off x="3276720" y="5992920"/>
            <a:ext cx="923760" cy="40788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4"/>
          <a:stretch/>
        </p:blipFill>
        <p:spPr>
          <a:xfrm>
            <a:off x="3286080" y="6470640"/>
            <a:ext cx="914400" cy="38736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/>
          <p:nvPr/>
        </p:nvSpPr>
        <p:spPr>
          <a:xfrm>
            <a:off x="3200400" y="5105520"/>
            <a:ext cx="990720" cy="30456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276720" y="5562720"/>
            <a:ext cx="990360" cy="30456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276720" y="6019920"/>
            <a:ext cx="990360" cy="3808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276720" y="6553080"/>
            <a:ext cx="990360" cy="30492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7010280" y="2971800"/>
            <a:ext cx="53352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7772400" y="2971800"/>
            <a:ext cx="53352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7620120" y="3733920"/>
            <a:ext cx="53316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8381880" y="2743200"/>
            <a:ext cx="53352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114800" y="457200"/>
            <a:ext cx="609480" cy="3808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267080" y="1143000"/>
            <a:ext cx="609840" cy="3808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343400" y="0"/>
            <a:ext cx="609480" cy="3808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4191120" y="838080"/>
            <a:ext cx="609480" cy="30492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523880" y="3048120"/>
            <a:ext cx="60984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990720" y="2819520"/>
            <a:ext cx="60948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380880" y="2819520"/>
            <a:ext cx="60984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0" y="2438280"/>
            <a:ext cx="609480" cy="60984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3200400" y="4343400"/>
            <a:ext cx="24098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Next Lap!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1291" dur="indefinite" restart="never" nodeType="tmRoot">
          <p:childTnLst>
            <p:seq>
              <p:cTn id="1292" restart="whenNotActive" nodeType="interactiveSeq" fill="hold">
                <p:stCondLst>
                  <p:cond evt="onClick">
                    <p:tgtEl>
                      <p:spTgt spid="351"/>
                    </p:tgtEl>
                  </p:cond>
                </p:stCondLst>
                <p:childTnLst>
                  <p:par>
                    <p:cTn id="1293" fill="hold">
                      <p:stCondLst>
                        <p:cond evt="onClick">
                          <p:tgtEl>
                            <p:spTgt spid="351"/>
                          </p:tgtEl>
                        </p:cond>
                      </p:stCondLst>
                      <p:childTnLst>
                        <p:par>
                          <p:cTn id="1294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j0074852.wav"/>
                                        </p:tgtEl>
                                      </p:cMediaNode>
                                    </p:audio>
                                    <p:animMotion origin="layout" path="M 0.0573 -0.00046 C 0.11181 -0.00162 0.33004 0.03403 0.3849 -0.00764 C 0.43976 -0.0493 0.3856 -0.20694 0.38664 -0.25 C 0.38768 -0.29305 0.38959 -0.2794 0.39167 -0.26551 E">
                                      <p:cBhvr>
                                        <p:cTn id="1296" dur="2000" fill="hold"/>
                                        <p:tgtEl>
                                          <p:spTgt spid="3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97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5400000">
                                      <p:cBhvr>
                                        <p:cTn id="1298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99" restart="whenNotActive" nodeType="interactiveSeq" fill="hold">
                <p:stCondLst>
                  <p:cond evt="onClick">
                    <p:tgtEl>
                      <p:spTgt spid="352"/>
                    </p:tgtEl>
                  </p:cond>
                </p:stCondLst>
                <p:childTnLst>
                  <p:par>
                    <p:cTn id="1300" fill="hold">
                      <p:stCondLst>
                        <p:cond evt="onClick">
                          <p:tgtEl>
                            <p:spTgt spid="352"/>
                          </p:tgtEl>
                        </p:cond>
                      </p:stCondLst>
                      <p:childTnLst>
                        <p:par>
                          <p:cTn id="1301" fill="hold">
                            <p:stCondLst>
                              <p:cond delay="0"/>
                            </p:stCondLst>
                            <p:childTnLst>
                              <p:par>
                                <p:cTn id="13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j0074852.wav"/>
                                        </p:tgtEl>
                                      </p:cMediaNode>
                                    </p:audio>
                                    <p:animMotion origin="layout" path="M 0.05504 0.00116 C 0.10973 0.00046 0.17049 0.02824 0.21927 -0.00856 C 0.22466 -0.0125 0.22691 -0.01782 0.23264 -0.02106 C 0.23941 -0.03055 0.24723 -0.03912 0.25625 -0.04329 C 0.26407 -0.05139 0.2698 -0.05463 0.27795 -0.06088 C 0.28507 -0.06597 0.29028 -0.07616 0.29636 -0.0831 C 0.29948 -0.0868 0.30365 -0.08866 0.30643 -0.09305 C 0.31198 -0.10116 0.31389 -0.10926 0.32153 -0.11296 C 0.32969 -0.13148 0.34289 -0.14768 0.35504 -0.16018 C 0.35938 -0.16458 0.36407 -0.16852 0.36858 -0.17268 C 0.37275 -0.17662 0.38195 -0.18241 0.38195 -0.18217 C 0.38976 -0.19421 0.38507 -0.18819 0.39705 -0.19977 C 0.39879 -0.20139 0.40035 -0.20324 0.40209 -0.20486 C 0.40382 -0.20648 0.40712 -0.20995 0.40712 -0.20972 C 0.41164 -0.22014 0.4191 -0.22477 0.42552 -0.23217 C 0.43594 -0.24467 0.44618 -0.25856 0.45747 -0.26944 C 0.475 -0.30903 0.47084 -0.31041 0.47084 -0.37129 E">
                                      <p:cBhvr>
                                        <p:cTn id="1303" dur="2000" fill="hold"/>
                                        <p:tgtEl>
                                          <p:spTgt spid="3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04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5400000">
                                      <p:cBhvr>
                                        <p:cTn id="1305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06" restart="whenNotActive" nodeType="interactiveSeq" fill="hold">
                <p:stCondLst>
                  <p:cond evt="onClick">
                    <p:tgtEl>
                      <p:spTgt spid="353"/>
                    </p:tgtEl>
                  </p:cond>
                </p:stCondLst>
                <p:childTnLst>
                  <p:par>
                    <p:cTn id="1307" fill="hold">
                      <p:stCondLst>
                        <p:cond evt="onClick">
                          <p:tgtEl>
                            <p:spTgt spid="353"/>
                          </p:tgtEl>
                        </p:cond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j0074852.wav"/>
                                        </p:tgtEl>
                                      </p:cMediaNode>
                                    </p:audio>
                                    <p:animMotion origin="layout" path="M 0.06858 -0.01366 C 0.13681 -0.01481 0.20712 -0.0162 0.27553 -0.02338 C 0.2816 -0.02546 0.28785 -0.02592 0.29393 -0.02801 C 0.30521 -0.03217 0.31598 -0.04097 0.32726 -0.0456 C 0.33421 -0.05231 0.34237 -0.06018 0.35053 -0.06342 C 0.36459 -0.07569 0.38091 -0.08379 0.39549 -0.09467 C 0.41407 -0.10833 0.43125 -0.12523 0.44879 -0.1412 C 0.45469 -0.15254 0.46146 -0.16296 0.46719 -0.17453 C 0.4724 -0.18518 0.47309 -0.20231 0.47553 -0.21458 C 0.475 -0.2331 0.47518 -0.25162 0.47379 -0.27014 C 0.47292 -0.28217 0.4625 -0.30486 0.45556 -0.31227 C 0.43507 -0.33379 0.46407 -0.29653 0.44723 -0.31898 E">
                                      <p:cBhvr>
                                        <p:cTn id="1310" dur="2000" fill="hold"/>
                                        <p:tgtEl>
                                          <p:spTgt spid="3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11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5400000">
                                      <p:cBhvr>
                                        <p:cTn id="1312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3" restart="whenNotActive" nodeType="interactiveSeq" fill="hold">
                <p:stCondLst>
                  <p:cond evt="onClick">
                    <p:tgtEl>
                      <p:spTgt spid="354"/>
                    </p:tgtEl>
                  </p:cond>
                </p:stCondLst>
                <p:childTnLst>
                  <p:par>
                    <p:cTn id="1314" fill="hold">
                      <p:stCondLst>
                        <p:cond evt="onClick">
                          <p:tgtEl>
                            <p:spTgt spid="354"/>
                          </p:tgtEl>
                        </p:cond>
                      </p:stCondLst>
                      <p:childTnLst>
                        <p:par>
                          <p:cTn id="1315" fill="hold">
                            <p:stCondLst>
                              <p:cond delay="0"/>
                            </p:stCondLst>
                            <p:childTnLst>
                              <p:par>
                                <p:cTn id="131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j0074852.wav"/>
                                        </p:tgtEl>
                                      </p:cMediaNode>
                                    </p:audio>
                                    <p:animMotion origin="layout" path="M 0.05417 -0.00509 C 0.06007 -0.00394 0.07709 -0.00162 0.09028 -0.00046 C 0.10348 0.00069 0.11563 0.00231 0.13334 0.00162 C 0.16511 -0.00324 0.1408 0.00023 0.19671 -0.00509 C 0.20452 -0.00579 0.21997 -0.00741 0.21997 -0.00718 C 0.24271 -0.01204 0.26563 -0.01204 0.28837 -0.0162 C 0.304 -0.01921 0.28941 -0.01736 0.30504 -0.02292 C 0.31719 -0.02732 0.33091 -0.02778 0.34341 -0.02963 C 0.35296 -0.03264 0.36025 -0.03843 0.36997 -0.04074 C 0.38091 -0.04792 0.39323 -0.05347 0.40504 -0.05833 C 0.41233 -0.06505 0.41962 -0.07153 0.42674 -0.07847 C 0.4408 -0.09236 0.43126 -0.0875 0.44167 -0.09167 C 0.44966 -0.10278 0.43907 -0.08912 0.45174 -0.1007 C 0.45834 -0.10671 0.46823 -0.12153 0.47674 -0.125 C 0.47969 -0.1375 0.48941 -0.14421 0.49671 -0.15185 C 0.50382 -0.15926 0.50712 -0.17014 0.51337 -0.17847 C 0.51771 -0.19722 0.51146 -0.17431 0.51841 -0.18958 C 0.52101 -0.19514 0.52275 -0.20139 0.52501 -0.20741 C 0.52674 -0.21204 0.5316 -0.2206 0.5316 -0.22037 C 0.55608 -0.34745 0.53994 -0.20093 0.53994 -0.54282 E">
                                      <p:cBhvr>
                                        <p:cTn id="1317" dur="2000" fill="hold"/>
                                        <p:tgtEl>
                                          <p:spTgt spid="3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18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5400000">
                                      <p:cBhvr>
                                        <p:cTn id="1319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20" restart="whenNotActive" nodeType="interactiveSeq" fill="hold">
                <p:stCondLst>
                  <p:cond evt="onClick">
                    <p:tgtEl>
                      <p:spTgt spid="355"/>
                    </p:tgtEl>
                  </p:cond>
                </p:stCondLst>
                <p:childTnLst>
                  <p:par>
                    <p:cTn id="1321" fill="hold">
                      <p:stCondLst>
                        <p:cond evt="onClick">
                          <p:tgtEl>
                            <p:spTgt spid="355"/>
                          </p:tgtEl>
                        </p:cond>
                      </p:stCondLst>
                      <p:childTnLst>
                        <p:par>
                          <p:cTn id="1322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j0074852.wav"/>
                                        </p:tgtEl>
                                      </p:cMediaNode>
                                    </p:audio>
                                    <p:animMotion origin="layout" path="M 0.39167 -0.29305 C 0.39237 -0.33657 0.38664 -0.38889 0.39844 -0.43287 C 0.39757 -0.46366 0.40296 -0.48241 0.39167 -0.50416 C 0.38837 -0.51991 0.38403 -0.52893 0.37848 -0.54398 C 0.37674 -0.54838 0.37119 -0.54907 0.36841 -0.55069 C 0.35886 -0.55602 0.35105 -0.56805 0.34011 -0.56852 C 0.30296 -0.56991 0.26563 -0.57014 0.22848 -0.57083 C 0.22032 -0.57291 0.21719 -0.575 0.21007 -0.57963 C 0.20573 -0.58241 0.20087 -0.58333 0.19671 -0.58634 C 0.18976 -0.59143 0.18403 -0.59768 0.17674 -0.60185 C 0.17466 -0.60301 0.16546 -0.60555 0.16337 -0.60625 C 0.15313 -0.61018 0.1474 -0.61319 0.13681 -0.61528 C 0.12744 -0.62338 0.11563 -0.62592 0.10504 -0.63078 C 0.10278 -0.6331 0.10035 -0.63495 0.09844 -0.6375 C 0.09705 -0.63935 0.09671 -0.64236 0.09513 -0.64398 C 0.09376 -0.64537 0.09323 -0.6493 0.09167 -0.65046 C 0.0882 -0.65301 0.08525 -0.65486 0.08195 -0.65787 C 0.08039 -0.65926 0.08264 -0.65509 0.07501 -0.65717 E">
                                      <p:cBhvr>
                                        <p:cTn id="1324" dur="2000" fill="hold"/>
                                        <p:tgtEl>
                                          <p:spTgt spid="3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25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326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27" restart="whenNotActive" nodeType="interactiveSeq" fill="hold">
                <p:stCondLst>
                  <p:cond evt="onClick">
                    <p:tgtEl>
                      <p:spTgt spid="356"/>
                    </p:tgtEl>
                  </p:cond>
                </p:stCondLst>
                <p:childTnLst>
                  <p:par>
                    <p:cTn id="1328" fill="hold">
                      <p:stCondLst>
                        <p:cond evt="onClick">
                          <p:tgtEl>
                            <p:spTgt spid="356"/>
                          </p:tgtEl>
                        </p:cond>
                      </p:stCondLst>
                      <p:childTnLst>
                        <p:par>
                          <p:cTn id="1329" fill="hold">
                            <p:stCondLst>
                              <p:cond delay="0"/>
                            </p:stCondLst>
                            <p:childTnLst>
                              <p:par>
                                <p:cTn id="133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j0074852.wav"/>
                                        </p:tgtEl>
                                      </p:cMediaNode>
                                    </p:audio>
                                    <p:animMotion origin="layout" path="M 0.47084 -0.37129 C 0.4724 -0.44166 0.48525 -0.53009 0.45417 -0.59352 C 0.45139 -0.60972 0.45469 -0.5956 0.44914 -0.60903 C 0.43716 -0.63842 0.43004 -0.65833 0.40417 -0.66898 C 0.39827 -0.67731 0.404 -0.67106 0.39428 -0.67569 C 0.38317 -0.68102 0.38577 -0.68403 0.37257 -0.6868 C 0.32639 -0.68518 0.32674 -0.68541 0.29584 -0.68009 C 0.27362 -0.66829 0.25157 -0.65648 0.22917 -0.64467 C 0.21806 -0.63889 0.20469 -0.6294 0.19254 -0.62916 C 0.15591 -0.62847 0.1191 -0.62916 0.08247 -0.62916 E">
                                      <p:cBhvr>
                                        <p:cTn id="1331" dur="2000" fill="hold"/>
                                        <p:tgtEl>
                                          <p:spTgt spid="3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32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333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4" restart="whenNotActive" nodeType="interactiveSeq" fill="hold">
                <p:stCondLst>
                  <p:cond evt="onClick">
                    <p:tgtEl>
                      <p:spTgt spid="357"/>
                    </p:tgtEl>
                  </p:cond>
                </p:stCondLst>
                <p:childTnLst>
                  <p:par>
                    <p:cTn id="1335" fill="hold">
                      <p:stCondLst>
                        <p:cond evt="onClick">
                          <p:tgtEl>
                            <p:spTgt spid="357"/>
                          </p:tgtEl>
                        </p:cond>
                      </p:stCondLst>
                      <p:childTnLst>
                        <p:par>
                          <p:cTn id="1336" fill="hold">
                            <p:stCondLst>
                              <p:cond delay="0"/>
                            </p:stCondLst>
                            <p:childTnLst>
                              <p:par>
                                <p:cTn id="133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j0074852.wav"/>
                                        </p:tgtEl>
                                      </p:cMediaNode>
                                    </p:audio>
                                    <p:animMotion origin="layout" path="M 0.44723 -0.31898 C 0.44132 -0.32685 0.44427 -0.32152 0.44046 -0.3368 C 0.43941 -0.3412 0.43716 -0.35023 0.43716 -0.35023 C 0.43872 -0.39004 0.43455 -0.41157 0.46216 -0.43032 C 0.46823 -0.43865 0.47743 -0.44027 0.48386 -0.44791 C 0.49671 -0.46342 0.50521 -0.47939 0.51042 -0.50138 C 0.51302 -0.52731 0.51719 -0.55231 0.50209 -0.57245 C 0.50157 -0.57546 0.50191 -0.57916 0.50052 -0.58125 C 0.49983 -0.58263 0.48907 -0.58564 0.48889 -0.58564 C 0.47639 -0.59027 0.46771 -0.59097 0.45382 -0.59236 C 0.43855 -0.59583 0.43629 -0.60254 0.42379 -0.6125 C 0.42275 -0.61551 0.42223 -0.61898 0.42049 -0.62129 C 0.41927 -0.62291 0.41667 -0.62199 0.41546 -0.62361 C 0.41372 -0.62592 0.41355 -0.62963 0.41216 -0.6324 C 0.40921 -0.63796 0.40625 -0.64004 0.40209 -0.64351 C 0.39948 -0.64884 0.39618 -0.65347 0.39375 -0.65902 C 0.39289 -0.66111 0.39289 -0.66365 0.39219 -0.66574 C 0.38941 -0.67338 0.38559 -0.68101 0.38212 -0.68796 C 0.37709 -0.70995 0.37171 -0.73611 0.35886 -0.75231 C 0.35504 -0.76713 0.36007 -0.74976 0.35209 -0.76805 C 0.34966 -0.77361 0.34896 -0.78125 0.34549 -0.78564 C 0.33629 -0.79791 0.32691 -0.81481 0.31389 -0.81898 C 0.31059 -0.82199 0.30764 -0.82638 0.30382 -0.82801 C 0.29792 -0.83055 0.2908 -0.83287 0.28542 -0.8368 C 0.2783 -0.84213 0.27014 -0.85138 0.26216 -0.85463 C 0.24584 -0.86134 0.22743 -0.86319 0.21042 -0.86574 C 0.19514 -0.87106 0.21355 -0.86527 0.18542 -0.87013 C 0.17396 -0.87222 0.16181 -0.87685 0.15052 -0.87916 C 0.13021 -0.8831 0.10938 -0.87916 0.08889 -0.87916 E">
                                      <p:cBhvr>
                                        <p:cTn id="1338" dur="2000" fill="hold"/>
                                        <p:tgtEl>
                                          <p:spTgt spid="3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39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340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41" restart="whenNotActive" nodeType="interactiveSeq" fill="hold">
                <p:stCondLst>
                  <p:cond evt="onClick">
                    <p:tgtEl>
                      <p:spTgt spid="358"/>
                    </p:tgtEl>
                  </p:cond>
                </p:stCondLst>
                <p:childTnLst>
                  <p:par>
                    <p:cTn id="1342" fill="hold">
                      <p:stCondLst>
                        <p:cond evt="onClick">
                          <p:tgtEl>
                            <p:spTgt spid="358"/>
                          </p:tgtEl>
                        </p:cond>
                      </p:stCondLst>
                      <p:childTnLst>
                        <p:par>
                          <p:cTn id="1343" fill="hold">
                            <p:stCondLst>
                              <p:cond delay="0"/>
                            </p:stCondLst>
                            <p:childTnLst>
                              <p:par>
                                <p:cTn id="134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j0074852.wav"/>
                                        </p:tgtEl>
                                      </p:cMediaNode>
                                    </p:audio>
                                    <p:animMotion origin="layout" path="M 0.53993 -0.54283 C 0.53924 -0.58334 0.54323 -0.64908 0.52483 -0.68959 C 0.52274 -0.71065 0.51754 -0.72986 0.51163 -0.74954 C 0.50816 -0.76088 0.50642 -0.77431 0.50156 -0.78496 C 0.49965 -0.78889 0.49688 -0.79213 0.49497 -0.79607 C 0.49149 -0.81389 0.49636 -0.79699 0.48663 -0.81181 C 0.47674 -0.82709 0.49063 -0.81574 0.47656 -0.825 C 0.47153 -0.83426 0.46684 -0.8463 0.4599 -0.85394 C 0.45295 -0.86158 0.45712 -0.85556 0.44983 -0.86065 C 0.4467 -0.86274 0.44479 -0.86783 0.44149 -0.86945 C 0.43663 -0.87199 0.42708 -0.87431 0.42153 -0.87616 C 0.41823 -0.87709 0.41493 -0.87778 0.41163 -0.87848 C 0.40434 -0.8801 0.38993 -0.88287 0.38993 -0.88287 C 0.37986 -0.88704 0.37031 -0.88982 0.3599 -0.89167 C 0.33767 -0.90186 0.30799 -0.90486 0.2849 -0.90718 C 0.26997 -0.90649 0.25486 -0.90672 0.23993 -0.9051 C 0.23038 -0.90394 0.22118 -0.89977 0.21163 -0.89838 C 0.19948 -0.89306 0.20504 -0.89514 0.19497 -0.89167 C 0.18507 -0.88311 0.18281 -0.88125 0.17153 -0.87848 C 0.16597 -0.87454 0.16024 -0.87315 0.15486 -0.86945 C 0.1434 -0.86181 0.1559 -0.8676 0.14497 -0.86274 C 0.13993 -0.86042 0.12986 -0.85625 0.12986 -0.85625 C 0.12396 -0.84792 0.12969 -0.85417 0.11997 -0.84954 C 0.10243 -0.84098 0.09219 -0.83403 0.07326 -0.83403 E">
                                      <p:cBhvr>
                                        <p:cTn id="1345" dur="2000" fill="hold"/>
                                        <p:tgtEl>
                                          <p:spTgt spid="3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46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347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48" restart="whenNotActive" nodeType="interactiveSeq" fill="hold">
                <p:stCondLst>
                  <p:cond evt="onClick">
                    <p:tgtEl>
                      <p:spTgt spid="359"/>
                    </p:tgtEl>
                  </p:cond>
                </p:stCondLst>
                <p:childTnLst>
                  <p:par>
                    <p:cTn id="1349" fill="hold">
                      <p:stCondLst>
                        <p:cond evt="onClick">
                          <p:tgtEl>
                            <p:spTgt spid="359"/>
                          </p:tgtEl>
                        </p:cond>
                      </p:stCondLst>
                      <p:childTnLst>
                        <p:par>
                          <p:cTn id="1350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j0074852.wav"/>
                                        </p:tgtEl>
                                      </p:cMediaNode>
                                    </p:audio>
                                    <p:animMotion origin="layout" path="M 0.07396 -0.65879 C 0.04757 -0.65463 0.05521 -0.66666 0.00452 -0.66991 C -0.01822 -0.67315 -0.04045 -0.66018 -0.06371 -0.6618 C -0.12674 -0.66088 -0.19289 -0.68009 -0.2533 -0.65509 C -0.25365 -0.65463 -0.26216 -0.64653 -0.26337 -0.64398 C -0.27084 -0.62731 -0.27657 -0.60856 -0.2816 -0.59051 C -0.28299 -0.58541 -0.28386 -0.58009 -0.2849 -0.575 C -0.28612 -0.56898 -0.28837 -0.55717 -0.28837 -0.55694 C -0.2908 -0.52384 -0.29428 -0.48842 -0.28004 -0.45949 C -0.27761 -0.44676 -0.27257 -0.44004 -0.26667 -0.43055 C -0.26546 -0.42847 -0.26424 -0.42616 -0.26337 -0.42384 C -0.26268 -0.42176 -0.26268 -0.41921 -0.26164 -0.41736 C -0.25747 -0.41041 -0.25278 -0.40393 -0.24827 -0.39722 C -0.2441 -0.39097 -0.23941 -0.38541 -0.2349 -0.3794 C -0.23334 -0.37731 -0.23004 -0.37291 -0.23004 -0.37268 C -0.2283 -0.3662 -0.22726 -0.35926 -0.225 -0.35278 C -0.22414 -0.35046 -0.22257 -0.34861 -0.22171 -0.34606 C -0.22032 -0.3419 -0.21823 -0.33287 -0.21823 -0.33264 C -0.21771 -0.32778 -0.21737 -0.32245 -0.21667 -0.31736 C -0.21546 -0.30856 -0.2099 -0.2993 -0.2099 -0.29051 C -0.2099 -0.28171 -0.2099 -0.27268 -0.2099 -0.26389 E">
                                      <p:cBhvr>
                                        <p:cTn id="1352" dur="2000" fill="hold"/>
                                        <p:tgtEl>
                                          <p:spTgt spid="3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53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35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55" restart="whenNotActive" nodeType="interactiveSeq" fill="hold">
                <p:stCondLst>
                  <p:cond evt="onClick">
                    <p:tgtEl>
                      <p:spTgt spid="360"/>
                    </p:tgtEl>
                  </p:cond>
                </p:stCondLst>
                <p:childTnLst>
                  <p:par>
                    <p:cTn id="1356" fill="hold">
                      <p:stCondLst>
                        <p:cond evt="onClick">
                          <p:tgtEl>
                            <p:spTgt spid="360"/>
                          </p:tgtEl>
                        </p:cond>
                      </p:stCondLst>
                      <p:childTnLst>
                        <p:par>
                          <p:cTn id="1357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j0074852.wav"/>
                                        </p:tgtEl>
                                      </p:cMediaNode>
                                    </p:audio>
                                    <p:animMotion origin="layout" path="M 0.08247 -0.62917 C 0.07587 -0.62986 0.0691 -0.62986 0.06251 -0.63148 C 0.05678 -0.63287 0.05018 -0.63843 0.04428 -0.64028 C 0.03594 -0.65093 0.02674 -0.65139 0.01754 -0.6581 C 0.00139 -0.66991 0.01407 -0.66505 -0.00086 -0.66921 C -0.00815 -0.6757 -0.01562 -0.67801 -0.02413 -0.68033 C -0.03229 -0.68588 -0.0401 -0.69121 -0.04913 -0.69375 C -0.05885 -0.70023 -0.06874 -0.70301 -0.07916 -0.70695 C -0.08836 -0.71042 -0.0802 -0.70764 -0.08906 -0.71366 C -0.09392 -0.7169 -0.10034 -0.71829 -0.10572 -0.72037 C -0.12847 -0.72894 -0.1526 -0.73125 -0.17586 -0.73588 C -0.21041 -0.74283 -0.24427 -0.75185 -0.27916 -0.75579 C -0.28854 -0.75509 -0.29808 -0.75556 -0.30746 -0.75371 C -0.31545 -0.75208 -0.31909 -0.7382 -0.32413 -0.73148 C -0.32552 -0.72963 -0.3276 -0.72871 -0.32916 -0.72708 C -0.33038 -0.7257 -0.33142 -0.72408 -0.33246 -0.72246 C -0.33454 -0.71435 -0.33732 -0.70741 -0.34079 -0.70023 C -0.34357 -0.68634 -0.34583 -0.67222 -0.34739 -0.6581 C -0.346 -0.64306 -0.34548 -0.6375 -0.34079 -0.62477 C -0.3394 -0.61111 -0.33749 -0.59583 -0.3342 -0.58264 C -0.33124 -0.5706 -0.32499 -0.5625 -0.32083 -0.55139 C -0.31527 -0.53658 -0.3092 -0.52315 -0.30243 -0.50926 C -0.29895 -0.50232 -0.29288 -0.5 -0.28906 -0.49375 C -0.28437 -0.48611 -0.28194 -0.47708 -0.27743 -0.46921 C -0.27552 -0.46134 -0.27361 -0.45046 -0.27083 -0.44259 C -0.26909 -0.43773 -0.26597 -0.43496 -0.26579 -0.42917 C -0.26527 -0.40625 -0.26579 -0.38333 -0.26579 -0.36042 E">
                                      <p:cBhvr>
                                        <p:cTn id="1359" dur="2000" fill="hold"/>
                                        <p:tgtEl>
                                          <p:spTgt spid="3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60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361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62" restart="whenNotActive" nodeType="interactiveSeq" fill="hold">
                <p:stCondLst>
                  <p:cond evt="onClick">
                    <p:tgtEl>
                      <p:spTgt spid="361"/>
                    </p:tgtEl>
                  </p:cond>
                </p:stCondLst>
                <p:childTnLst>
                  <p:par>
                    <p:cTn id="1363" fill="hold">
                      <p:stCondLst>
                        <p:cond evt="onClick">
                          <p:tgtEl>
                            <p:spTgt spid="361"/>
                          </p:tgtEl>
                        </p:cond>
                      </p:stCondLst>
                      <p:childTnLst>
                        <p:par>
                          <p:cTn id="1364" fill="hold">
                            <p:stCondLst>
                              <p:cond delay="0"/>
                            </p:stCondLst>
                            <p:childTnLst>
                              <p:par>
                                <p:cTn id="136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j0074852.wav"/>
                                        </p:tgtEl>
                                      </p:cMediaNode>
                                    </p:audio>
                                    <p:animMotion origin="layout" path="M 0.08889 -0.87917 C 0.0198 -0.87801 -0.03698 -0.88195 -0.10121 -0.87037 C -0.10312 -0.86968 -0.10468 -0.86921 -0.10625 -0.86806 C -0.10798 -0.8669 -0.10954 -0.86482 -0.11111 -0.86366 C -0.11441 -0.86181 -0.12118 -0.85926 -0.12118 -0.85926 C -0.1276 -0.85023 -0.14392 -0.84236 -0.15277 -0.83912 C -0.15816 -0.83449 -0.16441 -0.83148 -0.16944 -0.82593 C -0.18281 -0.81134 -0.19652 -0.79653 -0.20954 -0.78148 C -0.21666 -0.77315 -0.22187 -0.76158 -0.22951 -0.75463 C -0.23767 -0.73287 -0.22569 -0.76227 -0.24288 -0.73241 C -0.24739 -0.72454 -0.25104 -0.71713 -0.25625 -0.71019 C -0.25972 -0.69607 -0.25486 -0.70995 -0.26284 -0.70139 C -0.26441 -0.69977 -0.26475 -0.69653 -0.26614 -0.69468 C -0.26927 -0.69051 -0.27309 -0.68773 -0.27621 -0.68357 C -0.27882 -0.67269 -0.2809 -0.66713 -0.28611 -0.65695 C -0.28732 -0.65463 -0.28958 -0.65023 -0.28958 -0.65023 C -0.29149 -0.6419 -0.29427 -0.63519 -0.29791 -0.62801 C -0.29965 -0.6206 -0.3026 -0.61528 -0.30451 -0.6081 C -0.30555 -0.58773 -0.3059 -0.56366 -0.31111 -0.54352 C -0.31232 -0.53912 -0.31354 -0.53472 -0.31458 -0.53033 C -0.31562 -0.52593 -0.31788 -0.5169 -0.31788 -0.5169 C -0.31909 -0.5037 -0.31805 -0.49699 -0.32448 -0.48796 C -0.3302 -0.46644 -0.32951 -0.4632 -0.32951 -0.43704 E">
                                      <p:cBhvr>
                                        <p:cTn id="1366" dur="2000" fill="hold"/>
                                        <p:tgtEl>
                                          <p:spTgt spid="3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67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368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69" restart="whenNotActive" nodeType="interactiveSeq" fill="hold">
                <p:stCondLst>
                  <p:cond evt="onClick">
                    <p:tgtEl>
                      <p:spTgt spid="362"/>
                    </p:tgtEl>
                  </p:cond>
                </p:stCondLst>
                <p:childTnLst>
                  <p:par>
                    <p:cTn id="1370" fill="hold">
                      <p:stCondLst>
                        <p:cond evt="onClick">
                          <p:tgtEl>
                            <p:spTgt spid="362"/>
                          </p:tgtEl>
                        </p:cond>
                      </p:stCondLst>
                      <p:childTnLst>
                        <p:par>
                          <p:cTn id="1371" fill="hold">
                            <p:stCondLst>
                              <p:cond delay="0"/>
                            </p:stCondLst>
                            <p:childTnLst>
                              <p:par>
                                <p:cTn id="137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j0074852.wav"/>
                                        </p:tgtEl>
                                      </p:cMediaNode>
                                    </p:audio>
                                    <p:animMotion origin="layout" path="M 0.07292 -0.83472 C 0.05244 -0.83796 0.04879 -0.8537 0.0349 -0.85347 C -0.06736 -0.85208 -0.16945 -0.85208 -0.27171 -0.85139 C -0.28056 -0.84722 -0.28733 -0.84028 -0.29497 -0.83357 C -0.29983 -0.82917 -0.30157 -0.82245 -0.30678 -0.81806 C -0.30782 -0.81574 -0.30921 -0.81366 -0.31007 -0.81134 C -0.31077 -0.80926 -0.31077 -0.80671 -0.31164 -0.80463 C -0.3125 -0.80278 -0.31407 -0.80185 -0.31511 -0.80023 C -0.32014 -0.7919 -0.32639 -0.78079 -0.33004 -0.7713 C -0.33542 -0.75695 -0.33941 -0.74051 -0.34844 -0.72917 C -0.3507 -0.71945 -0.35487 -0.71134 -0.35834 -0.70255 C -0.36233 -0.69236 -0.36441 -0.68426 -0.37171 -0.67801 C -0.38073 -0.63218 -0.3783 -0.62407 -0.3783 -0.5581 E">
                                      <p:cBhvr>
                                        <p:cTn id="1373" dur="2000" fill="hold"/>
                                        <p:tgtEl>
                                          <p:spTgt spid="3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74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375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76" restart="whenNotActive" nodeType="interactiveSeq" fill="hold">
                <p:stCondLst>
                  <p:cond evt="onClick">
                    <p:tgtEl>
                      <p:spTgt spid="363"/>
                    </p:tgtEl>
                  </p:cond>
                </p:stCondLst>
                <p:childTnLst>
                  <p:par>
                    <p:cTn id="1377" fill="hold">
                      <p:stCondLst>
                        <p:cond evt="onClick">
                          <p:tgtEl>
                            <p:spTgt spid="363"/>
                          </p:tgtEl>
                        </p:cond>
                      </p:stCondLst>
                      <p:childTnLst>
                        <p:par>
                          <p:cTn id="1378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j0074852.wav"/>
                                        </p:tgtEl>
                                      </p:cMediaNode>
                                    </p:audio>
                                    <p:animMotion origin="layout" path="M -0.2099 -0.26389 C -0.20122 -0.2287 -0.21007 -0.26736 -0.20573 -0.17708 C -0.20539 -0.17037 -0.20226 -0.16389 -0.20139 -0.15717 C -0.19636 -0.11643 -0.1875 -0.0919 -0.16285 -0.05926 C -0.15244 -0.04583 -0.13803 -0.02893 -0.12188 -0.02384 C -0.11494 -0.01898 -0.10851 -0.01528 -0.10035 -0.01273 C -0.08732 -0.00347 -0.08124 -0.00208 -0.06631 0.00278 C -0.04236 0.00486 0.000869999999999999 -0.00046 0.02153 -0.00092 C 0.04219 -0.00139 0.04983 0.00023 0.0573 0.00047 E">
                                      <p:cBhvr>
                                        <p:cTn id="1380" dur="2000" fill="hold"/>
                                        <p:tgtEl>
                                          <p:spTgt spid="3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81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382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3" restart="whenNotActive" nodeType="interactiveSeq" fill="hold">
                <p:stCondLst>
                  <p:cond evt="onClick">
                    <p:tgtEl>
                      <p:spTgt spid="364"/>
                    </p:tgtEl>
                  </p:cond>
                </p:stCondLst>
                <p:childTnLst>
                  <p:par>
                    <p:cTn id="1384" fill="hold">
                      <p:stCondLst>
                        <p:cond evt="onClick">
                          <p:tgtEl>
                            <p:spTgt spid="364"/>
                          </p:tgtEl>
                        </p:cond>
                      </p:stCondLst>
                      <p:childTnLst>
                        <p:par>
                          <p:cTn id="1385" fill="hold">
                            <p:stCondLst>
                              <p:cond delay="0"/>
                            </p:stCondLst>
                            <p:childTnLst>
                              <p:par>
                                <p:cTn id="138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j0074852.wav"/>
                                        </p:tgtEl>
                                      </p:cMediaNode>
                                    </p:audio>
                                    <p:animMotion origin="layout" path="M -0.26579 -0.36041 C -0.26562 -0.34699 -0.28107 -0.2162 -0.25572 -0.16712 C -0.25381 -0.15902 -0.25034 -0.15254 -0.24739 -0.1449 C -0.246 -0.13449 -0.24479 -0.128 -0.23906 -0.12037 C -0.23663 -0.11018 -0.23263 -0.09976 -0.22586 -0.09374 C -0.21163 -0.06597 -0.19444 -0.04606 -0.17239 -0.02939 C -0.16562 -0.0243 -0.15781 -0.02268 -0.15086 -0.01828 C -0.14479 -0.01435 -0.13836 -0.01319 -0.13246 -0.00925 C -0.12152 -0.00185 -0.13402 -0.00694 -0.12083 -0.00277 C -0.0644 0.03588 -0.11666 0.00186 0.05417 0.00186 E">
                                      <p:cBhvr>
                                        <p:cTn id="1387" dur="2000" fill="hold"/>
                                        <p:tgtEl>
                                          <p:spTgt spid="3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88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38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0" restart="whenNotActive" nodeType="interactiveSeq" fill="hold">
                <p:stCondLst>
                  <p:cond evt="onClick">
                    <p:tgtEl>
                      <p:spTgt spid="365"/>
                    </p:tgtEl>
                  </p:cond>
                </p:stCondLst>
                <p:childTnLst>
                  <p:par>
                    <p:cTn id="1391" fill="hold">
                      <p:stCondLst>
                        <p:cond evt="onClick">
                          <p:tgtEl>
                            <p:spTgt spid="365"/>
                          </p:tgtEl>
                        </p:cond>
                      </p:stCondLst>
                      <p:childTnLst>
                        <p:par>
                          <p:cTn id="1392" fill="hold">
                            <p:stCondLst>
                              <p:cond delay="0"/>
                            </p:stCondLst>
                            <p:childTnLst>
                              <p:par>
                                <p:cTn id="139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j0074852.wav"/>
                                        </p:tgtEl>
                                      </p:cMediaNode>
                                    </p:audio>
                                    <p:animMotion origin="layout" path="M -0.32951 -0.43703 C -0.34409 -0.39837 -0.33767 -0.29166 -0.33784 -0.28587 C -0.33611 -0.23587 -0.33524 -0.18981 -0.32621 -0.14143 C -0.32517 -0.13564 -0.32152 -0.13124 -0.31944 -0.12592 C -0.31198 -0.1074 -0.3059 -0.08865 -0.29791 -0.07036 C -0.28906 -0.04999 -0.27621 -0.02036 -0.25781 -0.01273 C -0.24965 -0.00439 -0.23941 -0.00069 -0.23125 0.00741 C -0.22899 0.00973 -0.22708 0.01251 -0.22448 0.01413 C -0.22239 0.01551 -0.22013 0.01528 -0.21788 0.01621 C -0.21614 0.0169 -0.21441 0.01737 -0.21284 0.01852 C -0.19722 0.02894 -0.22309 0.01598 -0.19791 0.02732 C -0.19618 0.02801 -0.19288 0.02964 -0.19288 0.02964 C -0.17569 0.02894 -0.15833 0.02871 -0.14114 0.02732 C -0.13125 0.02663 -0.12378 0.02107 -0.11284 0.02061 C -0.08576 0.01945 -0.0585 0.01922 -0.03125 0.01852 C -0.01024 0.01436 0.01094 0.01251 0.03212 0.0095 C 0.03837 0.00764 0.04445 0.00579 0.05052 0.00301 C 0.05382 0.00163 0.06042 -0.00161 0.06042 -0.00161 C 0.06285 -0.00462 0.06563 -0.01273 0.06875 -0.01273 E">
                                      <p:cBhvr>
                                        <p:cTn id="1394" dur="2000" fill="hold"/>
                                        <p:tgtEl>
                                          <p:spTgt spid="3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95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396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7" restart="whenNotActive" nodeType="interactiveSeq" fill="hold">
                <p:stCondLst>
                  <p:cond evt="onClick">
                    <p:tgtEl>
                      <p:spTgt spid="366"/>
                    </p:tgtEl>
                  </p:cond>
                </p:stCondLst>
                <p:childTnLst>
                  <p:par>
                    <p:cTn id="1398" fill="hold">
                      <p:stCondLst>
                        <p:cond evt="onClick">
                          <p:tgtEl>
                            <p:spTgt spid="366"/>
                          </p:tgtEl>
                        </p:cond>
                      </p:stCondLst>
                      <p:childTnLst>
                        <p:par>
                          <p:cTn id="1399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j0074852.wav"/>
                                        </p:tgtEl>
                                      </p:cMediaNode>
                                    </p:audio>
                                    <p:animMotion origin="layout" path="M -0.3783 -0.5581 C -0.37534 -0.49028 -0.37812 -0.42222 -0.375 -0.3544 C -0.37465 -0.34792 -0.36961 -0.34306 -0.3684 -0.33681 C -0.36527 -0.32083 -0.36059 -0.30671 -0.35503 -0.2919 C -0.35208 -0.2838 -0.35121 -0.27315 -0.34826 -0.26482 C -0.3408 -0.24491 -0.34357 -0.25833 -0.33663 -0.24259 C -0.32413 -0.21343 -0.30573 -0.17222 -0.28333 -0.15532 C -0.26076 -0.13843 -0.2875 -0.16204 -0.26857 -0.14653 C -0.25416 -0.13495 -0.26354 -0.13958 -0.2533 -0.13519 C -0.24392 -0.12662 -0.25034 -0.13148 -0.2335 -0.12407 C -0.19722 -0.10833 -0.15104 -0.06713 -0.10833 -0.05232 C -0.10086 -0.04583 -0.09305 -0.04653 -0.08524 -0.0412 C -0.075 -0.03403 -0.06319 -0.02847 -0.05173 -0.02546 C -0.03645 -0.01551 -0.01857 -0.01921 -0.00173 -0.01667 C 0.01407 -0.01134 0.03039 -0.00926 0.0467 -0.00764 C 0.05209 -0.00509 0.05 -0.00556 0.05313 -0.00556 E">
                                      <p:cBhvr>
                                        <p:cTn id="1401" dur="2000" fill="hold"/>
                                        <p:tgtEl>
                                          <p:spTgt spid="3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02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403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69" name=""/>
            <p:cNvSpPr/>
            <p:nvPr/>
          </p:nvSpPr>
          <p:spPr>
            <a:xfrm>
              <a:off x="0" y="0"/>
              <a:ext cx="9144000" cy="6858000"/>
            </a:xfrm>
            <a:prstGeom prst="roundRect">
              <a:avLst>
                <a:gd name="adj" fmla="val 33449"/>
              </a:avLst>
            </a:prstGeom>
            <a:solidFill>
              <a:srgbClr val="c0c0c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981080" y="1676520"/>
              <a:ext cx="4876920" cy="3352680"/>
            </a:xfrm>
            <a:prstGeom prst="roundRect">
              <a:avLst>
                <a:gd name="adj" fmla="val 33449"/>
              </a:avLst>
            </a:prstGeom>
            <a:gradFill rotWithShape="0">
              <a:gsLst>
                <a:gs pos="0">
                  <a:srgbClr val="008000"/>
                </a:gs>
                <a:gs pos="50000">
                  <a:srgbClr val="009900"/>
                </a:gs>
                <a:gs pos="100000">
                  <a:srgbClr val="008000"/>
                </a:gs>
              </a:gsLst>
              <a:lin ang="135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990720" y="762120"/>
              <a:ext cx="6781680" cy="5105160"/>
            </a:xfrm>
            <a:prstGeom prst="roundRect">
              <a:avLst>
                <a:gd name="adj" fmla="val 33449"/>
              </a:avLst>
            </a:prstGeom>
            <a:noFill/>
            <a:ln w="572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2" name=""/>
          <p:cNvSpPr/>
          <p:nvPr/>
        </p:nvSpPr>
        <p:spPr>
          <a:xfrm>
            <a:off x="4343400" y="502920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3286080" y="5011560"/>
            <a:ext cx="914400" cy="398520"/>
          </a:xfrm>
          <a:prstGeom prst="rect">
            <a:avLst/>
          </a:prstGeom>
          <a:ln w="0">
            <a:noFill/>
          </a:ln>
        </p:spPr>
      </p:pic>
      <p:pic>
        <p:nvPicPr>
          <p:cNvPr id="374" name="" descr=""/>
          <p:cNvPicPr/>
          <p:nvPr/>
        </p:nvPicPr>
        <p:blipFill>
          <a:blip r:embed="rId2"/>
          <a:stretch/>
        </p:blipFill>
        <p:spPr>
          <a:xfrm>
            <a:off x="3286080" y="5475240"/>
            <a:ext cx="914400" cy="392040"/>
          </a:xfrm>
          <a:prstGeom prst="rect">
            <a:avLst/>
          </a:prstGeom>
          <a:ln w="0">
            <a:noFill/>
          </a:ln>
        </p:spPr>
      </p:pic>
      <p:pic>
        <p:nvPicPr>
          <p:cNvPr id="375" name="" descr=""/>
          <p:cNvPicPr/>
          <p:nvPr/>
        </p:nvPicPr>
        <p:blipFill>
          <a:blip r:embed="rId3"/>
          <a:stretch/>
        </p:blipFill>
        <p:spPr>
          <a:xfrm>
            <a:off x="3276720" y="5992920"/>
            <a:ext cx="923760" cy="407880"/>
          </a:xfrm>
          <a:prstGeom prst="rect">
            <a:avLst/>
          </a:prstGeom>
          <a:ln w="0">
            <a:noFill/>
          </a:ln>
        </p:spPr>
      </p:pic>
      <p:pic>
        <p:nvPicPr>
          <p:cNvPr id="376" name="" descr=""/>
          <p:cNvPicPr/>
          <p:nvPr/>
        </p:nvPicPr>
        <p:blipFill>
          <a:blip r:embed="rId4"/>
          <a:stretch/>
        </p:blipFill>
        <p:spPr>
          <a:xfrm>
            <a:off x="3286080" y="6470640"/>
            <a:ext cx="914400" cy="38736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3200400" y="5105520"/>
            <a:ext cx="990720" cy="30456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562720"/>
            <a:ext cx="990360" cy="30456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276720" y="6019920"/>
            <a:ext cx="990360" cy="3808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276720" y="6553080"/>
            <a:ext cx="990360" cy="30492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7010280" y="2971800"/>
            <a:ext cx="53352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7772400" y="2971800"/>
            <a:ext cx="53352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7620120" y="3733920"/>
            <a:ext cx="53316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8381880" y="2743200"/>
            <a:ext cx="53352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4114800" y="457200"/>
            <a:ext cx="609480" cy="3808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4267080" y="1143000"/>
            <a:ext cx="609840" cy="3808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343400" y="0"/>
            <a:ext cx="609480" cy="3808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191120" y="838080"/>
            <a:ext cx="609480" cy="30492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523880" y="3048120"/>
            <a:ext cx="60984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990720" y="2819520"/>
            <a:ext cx="60948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80880" y="2819520"/>
            <a:ext cx="60984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0" y="2438280"/>
            <a:ext cx="609480" cy="60984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3200400" y="4343400"/>
            <a:ext cx="24098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Next Lap!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1404" dur="indefinite" restart="never" nodeType="tmRoot">
          <p:childTnLst>
            <p:seq>
              <p:cTn id="1405" restart="whenNotActive" nodeType="interactiveSeq" fill="hold">
                <p:stCondLst>
                  <p:cond evt="onClick">
                    <p:tgtEl>
                      <p:spTgt spid="377"/>
                    </p:tgtEl>
                  </p:cond>
                </p:stCondLst>
                <p:childTnLst>
                  <p:par>
                    <p:cTn id="1406" fill="hold">
                      <p:stCondLst>
                        <p:cond evt="onClick">
                          <p:tgtEl>
                            <p:spTgt spid="377"/>
                          </p:tgtEl>
                        </p:cond>
                      </p:stCondLst>
                      <p:childTnLst>
                        <p:par>
                          <p:cTn id="1407" fill="hold">
                            <p:stCondLst>
                              <p:cond delay="0"/>
                            </p:stCondLst>
                            <p:childTnLst>
                              <p:par>
                                <p:cTn id="140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j0074852.wav"/>
                                        </p:tgtEl>
                                      </p:cMediaNode>
                                    </p:audio>
                                    <p:animMotion origin="layout" path="M 0.0573 -0.00046 C 0.11181 -0.00162 0.33004 0.03403 0.3849 -0.00764 C 0.43976 -0.0493 0.3856 -0.20694 0.38664 -0.25 C 0.38768 -0.29305 0.38959 -0.2794 0.39167 -0.26551 E">
                                      <p:cBhvr>
                                        <p:cTn id="1409" dur="2000" fill="hold"/>
                                        <p:tgtEl>
                                          <p:spTgt spid="3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10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5400000">
                                      <p:cBhvr>
                                        <p:cTn id="1411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12" restart="whenNotActive" nodeType="interactiveSeq" fill="hold">
                <p:stCondLst>
                  <p:cond evt="onClick">
                    <p:tgtEl>
                      <p:spTgt spid="378"/>
                    </p:tgtEl>
                  </p:cond>
                </p:stCondLst>
                <p:childTnLst>
                  <p:par>
                    <p:cTn id="1413" fill="hold">
                      <p:stCondLst>
                        <p:cond evt="onClick">
                          <p:tgtEl>
                            <p:spTgt spid="378"/>
                          </p:tgtEl>
                        </p:cond>
                      </p:stCondLst>
                      <p:childTnLst>
                        <p:par>
                          <p:cTn id="1414" fill="hold">
                            <p:stCondLst>
                              <p:cond delay="0"/>
                            </p:stCondLst>
                            <p:childTnLst>
                              <p:par>
                                <p:cTn id="14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j0074852.wav"/>
                                        </p:tgtEl>
                                      </p:cMediaNode>
                                    </p:audio>
                                    <p:animMotion origin="layout" path="M 0.05504 0.00116 C 0.10973 0.00046 0.17049 0.02824 0.21927 -0.00856 C 0.22466 -0.0125 0.22691 -0.01782 0.23264 -0.02106 C 0.23941 -0.03055 0.24723 -0.03912 0.25625 -0.04329 C 0.26407 -0.05139 0.2698 -0.05463 0.27795 -0.06088 C 0.28507 -0.06597 0.29028 -0.07616 0.29636 -0.0831 C 0.29948 -0.0868 0.30365 -0.08866 0.30643 -0.09305 C 0.31198 -0.10116 0.31389 -0.10926 0.32153 -0.11296 C 0.32969 -0.13148 0.34289 -0.14768 0.35504 -0.16018 C 0.35938 -0.16458 0.36407 -0.16852 0.36858 -0.17268 C 0.37275 -0.17662 0.38195 -0.18241 0.38195 -0.18217 C 0.38976 -0.19421 0.38507 -0.18819 0.39705 -0.19977 C 0.39879 -0.20139 0.40035 -0.20324 0.40209 -0.20486 C 0.40382 -0.20648 0.40712 -0.20995 0.40712 -0.20972 C 0.41164 -0.22014 0.4191 -0.22477 0.42552 -0.23217 C 0.43594 -0.24467 0.44618 -0.25856 0.45747 -0.26944 C 0.475 -0.30903 0.47084 -0.31041 0.47084 -0.37129 E">
                                      <p:cBhvr>
                                        <p:cTn id="1416" dur="2000" fill="hold"/>
                                        <p:tgtEl>
                                          <p:spTgt spid="3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17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5400000">
                                      <p:cBhvr>
                                        <p:cTn id="1418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19" restart="whenNotActive" nodeType="interactiveSeq" fill="hold">
                <p:stCondLst>
                  <p:cond evt="onClick">
                    <p:tgtEl>
                      <p:spTgt spid="379"/>
                    </p:tgtEl>
                  </p:cond>
                </p:stCondLst>
                <p:childTnLst>
                  <p:par>
                    <p:cTn id="1420" fill="hold">
                      <p:stCondLst>
                        <p:cond evt="onClick">
                          <p:tgtEl>
                            <p:spTgt spid="379"/>
                          </p:tgtEl>
                        </p:cond>
                      </p:stCondLst>
                      <p:childTnLst>
                        <p:par>
                          <p:cTn id="1421" fill="hold">
                            <p:stCondLst>
                              <p:cond delay="0"/>
                            </p:stCondLst>
                            <p:childTnLst>
                              <p:par>
                                <p:cTn id="142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j0074852.wav"/>
                                        </p:tgtEl>
                                      </p:cMediaNode>
                                    </p:audio>
                                    <p:animMotion origin="layout" path="M 0.06858 -0.01366 C 0.13681 -0.01481 0.20712 -0.0162 0.27553 -0.02338 C 0.2816 -0.02546 0.28785 -0.02592 0.29393 -0.02801 C 0.30521 -0.03217 0.31598 -0.04097 0.32726 -0.0456 C 0.33421 -0.05231 0.34237 -0.06018 0.35053 -0.06342 C 0.36459 -0.07569 0.38091 -0.08379 0.39549 -0.09467 C 0.41407 -0.10833 0.43125 -0.12523 0.44879 -0.1412 C 0.45469 -0.15254 0.46146 -0.16296 0.46719 -0.17453 C 0.4724 -0.18518 0.47309 -0.20231 0.47553 -0.21458 C 0.475 -0.2331 0.47518 -0.25162 0.47379 -0.27014 C 0.47292 -0.28217 0.4625 -0.30486 0.45556 -0.31227 C 0.43507 -0.33379 0.46407 -0.29653 0.44723 -0.31898 E">
                                      <p:cBhvr>
                                        <p:cTn id="1423" dur="2000" fill="hold"/>
                                        <p:tgtEl>
                                          <p:spTgt spid="3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24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5400000">
                                      <p:cBhvr>
                                        <p:cTn id="142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26" restart="whenNotActive" nodeType="interactiveSeq" fill="hold">
                <p:stCondLst>
                  <p:cond evt="onClick">
                    <p:tgtEl>
                      <p:spTgt spid="380"/>
                    </p:tgtEl>
                  </p:cond>
                </p:stCondLst>
                <p:childTnLst>
                  <p:par>
                    <p:cTn id="1427" fill="hold">
                      <p:stCondLst>
                        <p:cond evt="onClick">
                          <p:tgtEl>
                            <p:spTgt spid="380"/>
                          </p:tgtEl>
                        </p:cond>
                      </p:stCondLst>
                      <p:childTnLst>
                        <p:par>
                          <p:cTn id="1428" fill="hold">
                            <p:stCondLst>
                              <p:cond delay="0"/>
                            </p:stCondLst>
                            <p:childTnLst>
                              <p:par>
                                <p:cTn id="14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j0074852.wav"/>
                                        </p:tgtEl>
                                      </p:cMediaNode>
                                    </p:audio>
                                    <p:animMotion origin="layout" path="M 0.05417 -0.00509 C 0.06007 -0.00394 0.07709 -0.00162 0.09028 -0.00046 C 0.10348 0.00069 0.11563 0.00231 0.13334 0.00162 C 0.16511 -0.00324 0.1408 0.00023 0.19671 -0.00509 C 0.20452 -0.00579 0.21997 -0.00741 0.21997 -0.00718 C 0.24271 -0.01204 0.26563 -0.01204 0.28837 -0.0162 C 0.304 -0.01921 0.28941 -0.01736 0.30504 -0.02292 C 0.31719 -0.02732 0.33091 -0.02778 0.34341 -0.02963 C 0.35296 -0.03264 0.36025 -0.03843 0.36997 -0.04074 C 0.38091 -0.04792 0.39323 -0.05347 0.40504 -0.05833 C 0.41233 -0.06505 0.41962 -0.07153 0.42674 -0.07847 C 0.4408 -0.09236 0.43126 -0.0875 0.44167 -0.09167 C 0.44966 -0.10278 0.43907 -0.08912 0.45174 -0.1007 C 0.45834 -0.10671 0.46823 -0.12153 0.47674 -0.125 C 0.47969 -0.1375 0.48941 -0.14421 0.49671 -0.15185 C 0.50382 -0.15926 0.50712 -0.17014 0.51337 -0.17847 C 0.51771 -0.19722 0.51146 -0.17431 0.51841 -0.18958 C 0.52101 -0.19514 0.52275 -0.20139 0.52501 -0.20741 C 0.52674 -0.21204 0.5316 -0.2206 0.5316 -0.22037 C 0.55608 -0.34745 0.53994 -0.20093 0.53994 -0.54282 E">
                                      <p:cBhvr>
                                        <p:cTn id="1430" dur="2000" fill="hold"/>
                                        <p:tgtEl>
                                          <p:spTgt spid="3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31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5400000">
                                      <p:cBhvr>
                                        <p:cTn id="1432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33" restart="whenNotActive" nodeType="interactiveSeq" fill="hold">
                <p:stCondLst>
                  <p:cond evt="onClick">
                    <p:tgtEl>
                      <p:spTgt spid="381"/>
                    </p:tgtEl>
                  </p:cond>
                </p:stCondLst>
                <p:childTnLst>
                  <p:par>
                    <p:cTn id="1434" fill="hold">
                      <p:stCondLst>
                        <p:cond evt="onClick">
                          <p:tgtEl>
                            <p:spTgt spid="381"/>
                          </p:tgtEl>
                        </p:cond>
                      </p:stCondLst>
                      <p:childTnLst>
                        <p:par>
                          <p:cTn id="1435" fill="hold">
                            <p:stCondLst>
                              <p:cond delay="0"/>
                            </p:stCondLst>
                            <p:childTnLst>
                              <p:par>
                                <p:cTn id="143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j0074852.wav"/>
                                        </p:tgtEl>
                                      </p:cMediaNode>
                                    </p:audio>
                                    <p:animMotion origin="layout" path="M 0.39167 -0.29305 C 0.39237 -0.33657 0.38664 -0.38889 0.39844 -0.43287 C 0.39757 -0.46366 0.40296 -0.48241 0.39167 -0.50416 C 0.38837 -0.51991 0.38403 -0.52893 0.37848 -0.54398 C 0.37674 -0.54838 0.37119 -0.54907 0.36841 -0.55069 C 0.35886 -0.55602 0.35105 -0.56805 0.34011 -0.56852 C 0.30296 -0.56991 0.26563 -0.57014 0.22848 -0.57083 C 0.22032 -0.57291 0.21719 -0.575 0.21007 -0.57963 C 0.20573 -0.58241 0.20087 -0.58333 0.19671 -0.58634 C 0.18976 -0.59143 0.18403 -0.59768 0.17674 -0.60185 C 0.17466 -0.60301 0.16546 -0.60555 0.16337 -0.60625 C 0.15313 -0.61018 0.1474 -0.61319 0.13681 -0.61528 C 0.12744 -0.62338 0.11563 -0.62592 0.10504 -0.63078 C 0.10278 -0.6331 0.10035 -0.63495 0.09844 -0.6375 C 0.09705 -0.63935 0.09671 -0.64236 0.09513 -0.64398 C 0.09376 -0.64537 0.09323 -0.6493 0.09167 -0.65046 C 0.0882 -0.65301 0.08525 -0.65486 0.08195 -0.65787 C 0.08039 -0.65926 0.08264 -0.65509 0.07501 -0.65717 E">
                                      <p:cBhvr>
                                        <p:cTn id="1437" dur="2000" fill="hold"/>
                                        <p:tgtEl>
                                          <p:spTgt spid="3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38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439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40" restart="whenNotActive" nodeType="interactiveSeq" fill="hold">
                <p:stCondLst>
                  <p:cond evt="onClick">
                    <p:tgtEl>
                      <p:spTgt spid="382"/>
                    </p:tgtEl>
                  </p:cond>
                </p:stCondLst>
                <p:childTnLst>
                  <p:par>
                    <p:cTn id="1441" fill="hold">
                      <p:stCondLst>
                        <p:cond evt="onClick">
                          <p:tgtEl>
                            <p:spTgt spid="382"/>
                          </p:tgtEl>
                        </p:cond>
                      </p:stCondLst>
                      <p:childTnLst>
                        <p:par>
                          <p:cTn id="1442" fill="hold">
                            <p:stCondLst>
                              <p:cond delay="0"/>
                            </p:stCondLst>
                            <p:childTnLst>
                              <p:par>
                                <p:cTn id="14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j0074852.wav"/>
                                        </p:tgtEl>
                                      </p:cMediaNode>
                                    </p:audio>
                                    <p:animMotion origin="layout" path="M 0.47084 -0.37129 C 0.4724 -0.44166 0.48525 -0.53009 0.45417 -0.59352 C 0.45139 -0.60972 0.45469 -0.5956 0.44914 -0.60903 C 0.43716 -0.63842 0.43004 -0.65833 0.40417 -0.66898 C 0.39827 -0.67731 0.404 -0.67106 0.39428 -0.67569 C 0.38317 -0.68102 0.38577 -0.68403 0.37257 -0.6868 C 0.32639 -0.68518 0.32674 -0.68541 0.29584 -0.68009 C 0.27362 -0.66829 0.25157 -0.65648 0.22917 -0.64467 C 0.21806 -0.63889 0.20469 -0.6294 0.19254 -0.62916 C 0.15591 -0.62847 0.1191 -0.62916 0.08247 -0.62916 E">
                                      <p:cBhvr>
                                        <p:cTn id="1444" dur="2000" fill="hold"/>
                                        <p:tgtEl>
                                          <p:spTgt spid="3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45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446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47" restart="whenNotActive" nodeType="interactiveSeq" fill="hold">
                <p:stCondLst>
                  <p:cond evt="onClick">
                    <p:tgtEl>
                      <p:spTgt spid="383"/>
                    </p:tgtEl>
                  </p:cond>
                </p:stCondLst>
                <p:childTnLst>
                  <p:par>
                    <p:cTn id="1448" fill="hold">
                      <p:stCondLst>
                        <p:cond evt="onClick">
                          <p:tgtEl>
                            <p:spTgt spid="383"/>
                          </p:tgtEl>
                        </p:cond>
                      </p:stCondLst>
                      <p:childTnLst>
                        <p:par>
                          <p:cTn id="1449" fill="hold">
                            <p:stCondLst>
                              <p:cond delay="0"/>
                            </p:stCondLst>
                            <p:childTnLst>
                              <p:par>
                                <p:cTn id="145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j0074852.wav"/>
                                        </p:tgtEl>
                                      </p:cMediaNode>
                                    </p:audio>
                                    <p:animMotion origin="layout" path="M 0.44723 -0.31898 C 0.44132 -0.32685 0.44427 -0.32152 0.44046 -0.3368 C 0.43941 -0.3412 0.43716 -0.35023 0.43716 -0.35023 C 0.43872 -0.39004 0.43455 -0.41157 0.46216 -0.43032 C 0.46823 -0.43865 0.47743 -0.44027 0.48386 -0.44791 C 0.49671 -0.46342 0.50521 -0.47939 0.51042 -0.50138 C 0.51302 -0.52731 0.51719 -0.55231 0.50209 -0.57245 C 0.50157 -0.57546 0.50191 -0.57916 0.50052 -0.58125 C 0.49983 -0.58263 0.48907 -0.58564 0.48889 -0.58564 C 0.47639 -0.59027 0.46771 -0.59097 0.45382 -0.59236 C 0.43855 -0.59583 0.43629 -0.60254 0.42379 -0.6125 C 0.42275 -0.61551 0.42223 -0.61898 0.42049 -0.62129 C 0.41927 -0.62291 0.41667 -0.62199 0.41546 -0.62361 C 0.41372 -0.62592 0.41355 -0.62963 0.41216 -0.6324 C 0.40921 -0.63796 0.40625 -0.64004 0.40209 -0.64351 C 0.39948 -0.64884 0.39618 -0.65347 0.39375 -0.65902 C 0.39289 -0.66111 0.39289 -0.66365 0.39219 -0.66574 C 0.38941 -0.67338 0.38559 -0.68101 0.38212 -0.68796 C 0.37709 -0.70995 0.37171 -0.73611 0.35886 -0.75231 C 0.35504 -0.76713 0.36007 -0.74976 0.35209 -0.76805 C 0.34966 -0.77361 0.34896 -0.78125 0.34549 -0.78564 C 0.33629 -0.79791 0.32691 -0.81481 0.31389 -0.81898 C 0.31059 -0.82199 0.30764 -0.82638 0.30382 -0.82801 C 0.29792 -0.83055 0.2908 -0.83287 0.28542 -0.8368 C 0.2783 -0.84213 0.27014 -0.85138 0.26216 -0.85463 C 0.24584 -0.86134 0.22743 -0.86319 0.21042 -0.86574 C 0.19514 -0.87106 0.21355 -0.86527 0.18542 -0.87013 C 0.17396 -0.87222 0.16181 -0.87685 0.15052 -0.87916 C 0.13021 -0.8831 0.10938 -0.87916 0.08889 -0.87916 E">
                                      <p:cBhvr>
                                        <p:cTn id="1451" dur="2000" fill="hold"/>
                                        <p:tgtEl>
                                          <p:spTgt spid="3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52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453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54" restart="whenNotActive" nodeType="interactiveSeq" fill="hold">
                <p:stCondLst>
                  <p:cond evt="onClick">
                    <p:tgtEl>
                      <p:spTgt spid="384"/>
                    </p:tgtEl>
                  </p:cond>
                </p:stCondLst>
                <p:childTnLst>
                  <p:par>
                    <p:cTn id="1455" fill="hold">
                      <p:stCondLst>
                        <p:cond evt="onClick">
                          <p:tgtEl>
                            <p:spTgt spid="384"/>
                          </p:tgtEl>
                        </p:cond>
                      </p:stCondLst>
                      <p:childTnLst>
                        <p:par>
                          <p:cTn id="1456" fill="hold">
                            <p:stCondLst>
                              <p:cond delay="0"/>
                            </p:stCondLst>
                            <p:childTnLst>
                              <p:par>
                                <p:cTn id="145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j0074852.wav"/>
                                        </p:tgtEl>
                                      </p:cMediaNode>
                                    </p:audio>
                                    <p:animMotion origin="layout" path="M 0.53993 -0.54283 C 0.53924 -0.58334 0.54323 -0.64908 0.52483 -0.68959 C 0.52274 -0.71065 0.51754 -0.72986 0.51163 -0.74954 C 0.50816 -0.76088 0.50642 -0.77431 0.50156 -0.78496 C 0.49965 -0.78889 0.49688 -0.79213 0.49497 -0.79607 C 0.49149 -0.81389 0.49636 -0.79699 0.48663 -0.81181 C 0.47674 -0.82709 0.49063 -0.81574 0.47656 -0.825 C 0.47153 -0.83426 0.46684 -0.8463 0.4599 -0.85394 C 0.45295 -0.86158 0.45712 -0.85556 0.44983 -0.86065 C 0.4467 -0.86274 0.44479 -0.86783 0.44149 -0.86945 C 0.43663 -0.87199 0.42708 -0.87431 0.42153 -0.87616 C 0.41823 -0.87709 0.41493 -0.87778 0.41163 -0.87848 C 0.40434 -0.8801 0.38993 -0.88287 0.38993 -0.88287 C 0.37986 -0.88704 0.37031 -0.88982 0.3599 -0.89167 C 0.33767 -0.90186 0.30799 -0.90486 0.2849 -0.90718 C 0.26997 -0.90649 0.25486 -0.90672 0.23993 -0.9051 C 0.23038 -0.90394 0.22118 -0.89977 0.21163 -0.89838 C 0.19948 -0.89306 0.20504 -0.89514 0.19497 -0.89167 C 0.18507 -0.88311 0.18281 -0.88125 0.17153 -0.87848 C 0.16597 -0.87454 0.16024 -0.87315 0.15486 -0.86945 C 0.1434 -0.86181 0.1559 -0.8676 0.14497 -0.86274 C 0.13993 -0.86042 0.12986 -0.85625 0.12986 -0.85625 C 0.12396 -0.84792 0.12969 -0.85417 0.11997 -0.84954 C 0.10243 -0.84098 0.09219 -0.83403 0.07326 -0.83403 E">
                                      <p:cBhvr>
                                        <p:cTn id="1458" dur="2000" fill="hold"/>
                                        <p:tgtEl>
                                          <p:spTgt spid="3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59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460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61" restart="whenNotActive" nodeType="interactiveSeq" fill="hold">
                <p:stCondLst>
                  <p:cond evt="onClick">
                    <p:tgtEl>
                      <p:spTgt spid="385"/>
                    </p:tgtEl>
                  </p:cond>
                </p:stCondLst>
                <p:childTnLst>
                  <p:par>
                    <p:cTn id="1462" fill="hold">
                      <p:stCondLst>
                        <p:cond evt="onClick">
                          <p:tgtEl>
                            <p:spTgt spid="385"/>
                          </p:tgtEl>
                        </p:cond>
                      </p:stCondLst>
                      <p:childTnLst>
                        <p:par>
                          <p:cTn id="1463" fill="hold">
                            <p:stCondLst>
                              <p:cond delay="0"/>
                            </p:stCondLst>
                            <p:childTnLst>
                              <p:par>
                                <p:cTn id="146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j0074852.wav"/>
                                        </p:tgtEl>
                                      </p:cMediaNode>
                                    </p:audio>
                                    <p:animMotion origin="layout" path="M 0.07396 -0.65879 C 0.04757 -0.65463 0.05521 -0.66666 0.00452 -0.66991 C -0.01822 -0.67315 -0.04045 -0.66018 -0.06371 -0.6618 C -0.12674 -0.66088 -0.19289 -0.68009 -0.2533 -0.65509 C -0.25365 -0.65463 -0.26216 -0.64653 -0.26337 -0.64398 C -0.27084 -0.62731 -0.27657 -0.60856 -0.2816 -0.59051 C -0.28299 -0.58541 -0.28386 -0.58009 -0.2849 -0.575 C -0.28612 -0.56898 -0.28837 -0.55717 -0.28837 -0.55694 C -0.2908 -0.52384 -0.29428 -0.48842 -0.28004 -0.45949 C -0.27761 -0.44676 -0.27257 -0.44004 -0.26667 -0.43055 C -0.26546 -0.42847 -0.26424 -0.42616 -0.26337 -0.42384 C -0.26268 -0.42176 -0.26268 -0.41921 -0.26164 -0.41736 C -0.25747 -0.41041 -0.25278 -0.40393 -0.24827 -0.39722 C -0.2441 -0.39097 -0.23941 -0.38541 -0.2349 -0.3794 C -0.23334 -0.37731 -0.23004 -0.37291 -0.23004 -0.37268 C -0.2283 -0.3662 -0.22726 -0.35926 -0.225 -0.35278 C -0.22414 -0.35046 -0.22257 -0.34861 -0.22171 -0.34606 C -0.22032 -0.3419 -0.21823 -0.33287 -0.21823 -0.33264 C -0.21771 -0.32778 -0.21737 -0.32245 -0.21667 -0.31736 C -0.21546 -0.30856 -0.2099 -0.2993 -0.2099 -0.29051 C -0.2099 -0.28171 -0.2099 -0.27268 -0.2099 -0.26389 E">
                                      <p:cBhvr>
                                        <p:cTn id="1465" dur="2000" fill="hold"/>
                                        <p:tgtEl>
                                          <p:spTgt spid="3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66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467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68" restart="whenNotActive" nodeType="interactiveSeq" fill="hold">
                <p:stCondLst>
                  <p:cond evt="onClick">
                    <p:tgtEl>
                      <p:spTgt spid="386"/>
                    </p:tgtEl>
                  </p:cond>
                </p:stCondLst>
                <p:childTnLst>
                  <p:par>
                    <p:cTn id="1469" fill="hold">
                      <p:stCondLst>
                        <p:cond evt="onClick">
                          <p:tgtEl>
                            <p:spTgt spid="386"/>
                          </p:tgtEl>
                        </p:cond>
                      </p:stCondLst>
                      <p:childTnLst>
                        <p:par>
                          <p:cTn id="1470" fill="hold">
                            <p:stCondLst>
                              <p:cond delay="0"/>
                            </p:stCondLst>
                            <p:childTnLst>
                              <p:par>
                                <p:cTn id="14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j0074852.wav"/>
                                        </p:tgtEl>
                                      </p:cMediaNode>
                                    </p:audio>
                                    <p:animMotion origin="layout" path="M 0.08247 -0.62917 C 0.07587 -0.62986 0.0691 -0.62986 0.06251 -0.63148 C 0.05678 -0.63287 0.05018 -0.63843 0.04428 -0.64028 C 0.03594 -0.65093 0.02674 -0.65139 0.01754 -0.6581 C 0.00139 -0.66991 0.01407 -0.66505 -0.00086 -0.66921 C -0.00815 -0.6757 -0.01562 -0.67801 -0.02413 -0.68033 C -0.03229 -0.68588 -0.0401 -0.69121 -0.04913 -0.69375 C -0.05885 -0.70023 -0.06874 -0.70301 -0.07916 -0.70695 C -0.08836 -0.71042 -0.0802 -0.70764 -0.08906 -0.71366 C -0.09392 -0.7169 -0.10034 -0.71829 -0.10572 -0.72037 C -0.12847 -0.72894 -0.1526 -0.73125 -0.17586 -0.73588 C -0.21041 -0.74283 -0.24427 -0.75185 -0.27916 -0.75579 C -0.28854 -0.75509 -0.29808 -0.75556 -0.30746 -0.75371 C -0.31545 -0.75208 -0.31909 -0.7382 -0.32413 -0.73148 C -0.32552 -0.72963 -0.3276 -0.72871 -0.32916 -0.72708 C -0.33038 -0.7257 -0.33142 -0.72408 -0.33246 -0.72246 C -0.33454 -0.71435 -0.33732 -0.70741 -0.34079 -0.70023 C -0.34357 -0.68634 -0.34583 -0.67222 -0.34739 -0.6581 C -0.346 -0.64306 -0.34548 -0.6375 -0.34079 -0.62477 C -0.3394 -0.61111 -0.33749 -0.59583 -0.3342 -0.58264 C -0.33124 -0.5706 -0.32499 -0.5625 -0.32083 -0.55139 C -0.31527 -0.53658 -0.3092 -0.52315 -0.30243 -0.50926 C -0.29895 -0.50232 -0.29288 -0.5 -0.28906 -0.49375 C -0.28437 -0.48611 -0.28194 -0.47708 -0.27743 -0.46921 C -0.27552 -0.46134 -0.27361 -0.45046 -0.27083 -0.44259 C -0.26909 -0.43773 -0.26597 -0.43496 -0.26579 -0.42917 C -0.26527 -0.40625 -0.26579 -0.38333 -0.26579 -0.36042 E">
                                      <p:cBhvr>
                                        <p:cTn id="1472" dur="2000" fill="hold"/>
                                        <p:tgtEl>
                                          <p:spTgt spid="3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73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474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75" restart="whenNotActive" nodeType="interactiveSeq" fill="hold">
                <p:stCondLst>
                  <p:cond evt="onClick">
                    <p:tgtEl>
                      <p:spTgt spid="387"/>
                    </p:tgtEl>
                  </p:cond>
                </p:stCondLst>
                <p:childTnLst>
                  <p:par>
                    <p:cTn id="1476" fill="hold">
                      <p:stCondLst>
                        <p:cond evt="onClick">
                          <p:tgtEl>
                            <p:spTgt spid="387"/>
                          </p:tgtEl>
                        </p:cond>
                      </p:stCondLst>
                      <p:childTnLst>
                        <p:par>
                          <p:cTn id="1477" fill="hold">
                            <p:stCondLst>
                              <p:cond delay="0"/>
                            </p:stCondLst>
                            <p:childTnLst>
                              <p:par>
                                <p:cTn id="147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j0074852.wav"/>
                                        </p:tgtEl>
                                      </p:cMediaNode>
                                    </p:audio>
                                    <p:animMotion origin="layout" path="M 0.08889 -0.87917 C 0.0198 -0.87801 -0.03698 -0.88195 -0.10121 -0.87037 C -0.10312 -0.86968 -0.10468 -0.86921 -0.10625 -0.86806 C -0.10798 -0.8669 -0.10954 -0.86482 -0.11111 -0.86366 C -0.11441 -0.86181 -0.12118 -0.85926 -0.12118 -0.85926 C -0.1276 -0.85023 -0.14392 -0.84236 -0.15277 -0.83912 C -0.15816 -0.83449 -0.16441 -0.83148 -0.16944 -0.82593 C -0.18281 -0.81134 -0.19652 -0.79653 -0.20954 -0.78148 C -0.21666 -0.77315 -0.22187 -0.76158 -0.22951 -0.75463 C -0.23767 -0.73287 -0.22569 -0.76227 -0.24288 -0.73241 C -0.24739 -0.72454 -0.25104 -0.71713 -0.25625 -0.71019 C -0.25972 -0.69607 -0.25486 -0.70995 -0.26284 -0.70139 C -0.26441 -0.69977 -0.26475 -0.69653 -0.26614 -0.69468 C -0.26927 -0.69051 -0.27309 -0.68773 -0.27621 -0.68357 C -0.27882 -0.67269 -0.2809 -0.66713 -0.28611 -0.65695 C -0.28732 -0.65463 -0.28958 -0.65023 -0.28958 -0.65023 C -0.29149 -0.6419 -0.29427 -0.63519 -0.29791 -0.62801 C -0.29965 -0.6206 -0.3026 -0.61528 -0.30451 -0.6081 C -0.30555 -0.58773 -0.3059 -0.56366 -0.31111 -0.54352 C -0.31232 -0.53912 -0.31354 -0.53472 -0.31458 -0.53033 C -0.31562 -0.52593 -0.31788 -0.5169 -0.31788 -0.5169 C -0.31909 -0.5037 -0.31805 -0.49699 -0.32448 -0.48796 C -0.3302 -0.46644 -0.32951 -0.4632 -0.32951 -0.43704 E">
                                      <p:cBhvr>
                                        <p:cTn id="1479" dur="2000" fill="hold"/>
                                        <p:tgtEl>
                                          <p:spTgt spid="3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80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481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82" restart="whenNotActive" nodeType="interactiveSeq" fill="hold">
                <p:stCondLst>
                  <p:cond evt="onClick">
                    <p:tgtEl>
                      <p:spTgt spid="388"/>
                    </p:tgtEl>
                  </p:cond>
                </p:stCondLst>
                <p:childTnLst>
                  <p:par>
                    <p:cTn id="1483" fill="hold">
                      <p:stCondLst>
                        <p:cond evt="onClick">
                          <p:tgtEl>
                            <p:spTgt spid="388"/>
                          </p:tgtEl>
                        </p:cond>
                      </p:stCondLst>
                      <p:childTnLst>
                        <p:par>
                          <p:cTn id="1484" fill="hold">
                            <p:stCondLst>
                              <p:cond delay="0"/>
                            </p:stCondLst>
                            <p:childTnLst>
                              <p:par>
                                <p:cTn id="148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j0074852.wav"/>
                                        </p:tgtEl>
                                      </p:cMediaNode>
                                    </p:audio>
                                    <p:animMotion origin="layout" path="M 0.07292 -0.83472 C 0.05244 -0.83796 0.04879 -0.8537 0.0349 -0.85347 C -0.06736 -0.85208 -0.16945 -0.85208 -0.27171 -0.85139 C -0.28056 -0.84722 -0.28733 -0.84028 -0.29497 -0.83357 C -0.29983 -0.82917 -0.30157 -0.82245 -0.30678 -0.81806 C -0.30782 -0.81574 -0.30921 -0.81366 -0.31007 -0.81134 C -0.31077 -0.80926 -0.31077 -0.80671 -0.31164 -0.80463 C -0.3125 -0.80278 -0.31407 -0.80185 -0.31511 -0.80023 C -0.32014 -0.7919 -0.32639 -0.78079 -0.33004 -0.7713 C -0.33542 -0.75695 -0.33941 -0.74051 -0.34844 -0.72917 C -0.3507 -0.71945 -0.35487 -0.71134 -0.35834 -0.70255 C -0.36233 -0.69236 -0.36441 -0.68426 -0.37171 -0.67801 C -0.38073 -0.63218 -0.3783 -0.62407 -0.3783 -0.5581 E">
                                      <p:cBhvr>
                                        <p:cTn id="1486" dur="2000" fill="hold"/>
                                        <p:tgtEl>
                                          <p:spTgt spid="3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87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48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89" restart="whenNotActive" nodeType="interactiveSeq" fill="hold">
                <p:stCondLst>
                  <p:cond evt="onClick">
                    <p:tgtEl>
                      <p:spTgt spid="389"/>
                    </p:tgtEl>
                  </p:cond>
                </p:stCondLst>
                <p:childTnLst>
                  <p:par>
                    <p:cTn id="1490" fill="hold">
                      <p:stCondLst>
                        <p:cond evt="onClick">
                          <p:tgtEl>
                            <p:spTgt spid="389"/>
                          </p:tgtEl>
                        </p:cond>
                      </p:stCondLst>
                      <p:childTnLst>
                        <p:par>
                          <p:cTn id="1491" fill="hold">
                            <p:stCondLst>
                              <p:cond delay="0"/>
                            </p:stCondLst>
                            <p:childTnLst>
                              <p:par>
                                <p:cTn id="149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j0074852.wav"/>
                                        </p:tgtEl>
                                      </p:cMediaNode>
                                    </p:audio>
                                    <p:animMotion origin="layout" path="M -0.2099 -0.26389 C -0.20122 -0.2287 -0.21007 -0.26736 -0.20573 -0.17708 C -0.20539 -0.17037 -0.20226 -0.16389 -0.20139 -0.15717 C -0.19636 -0.11643 -0.1875 -0.0919 -0.16285 -0.05926 C -0.15244 -0.04583 -0.13803 -0.02893 -0.12188 -0.02384 C -0.11494 -0.01898 -0.10851 -0.01528 -0.10035 -0.01273 C -0.08732 -0.00347 -0.08124 -0.00208 -0.06631 0.00278 C -0.04236 0.00486 0.000869999999999999 -0.00046 0.02153 -0.00092 C 0.04219 -0.00139 0.04983 0.00023 0.0573 0.00047 E">
                                      <p:cBhvr>
                                        <p:cTn id="1493" dur="2000" fill="hold"/>
                                        <p:tgtEl>
                                          <p:spTgt spid="3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94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495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96" restart="whenNotActive" nodeType="interactiveSeq" fill="hold">
                <p:stCondLst>
                  <p:cond evt="onClick">
                    <p:tgtEl>
                      <p:spTgt spid="390"/>
                    </p:tgtEl>
                  </p:cond>
                </p:stCondLst>
                <p:childTnLst>
                  <p:par>
                    <p:cTn id="1497" fill="hold">
                      <p:stCondLst>
                        <p:cond evt="onClick">
                          <p:tgtEl>
                            <p:spTgt spid="390"/>
                          </p:tgtEl>
                        </p:cond>
                      </p:stCondLst>
                      <p:childTnLst>
                        <p:par>
                          <p:cTn id="1498" fill="hold">
                            <p:stCondLst>
                              <p:cond delay="0"/>
                            </p:stCondLst>
                            <p:childTnLst>
                              <p:par>
                                <p:cTn id="14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j0074852.wav"/>
                                        </p:tgtEl>
                                      </p:cMediaNode>
                                    </p:audio>
                                    <p:animMotion origin="layout" path="M -0.26579 -0.36041 C -0.26562 -0.34699 -0.28107 -0.2162 -0.25572 -0.16712 C -0.25381 -0.15902 -0.25034 -0.15254 -0.24739 -0.1449 C -0.246 -0.13449 -0.24479 -0.128 -0.23906 -0.12037 C -0.23663 -0.11018 -0.23263 -0.09976 -0.22586 -0.09374 C -0.21163 -0.06597 -0.19444 -0.04606 -0.17239 -0.02939 C -0.16562 -0.0243 -0.15781 -0.02268 -0.15086 -0.01828 C -0.14479 -0.01435 -0.13836 -0.01319 -0.13246 -0.00925 C -0.12152 -0.00185 -0.13402 -0.00694 -0.12083 -0.00277 C -0.0644 0.03588 -0.11666 0.00186 0.05417 0.00186 E">
                                      <p:cBhvr>
                                        <p:cTn id="1500" dur="2000" fill="hold"/>
                                        <p:tgtEl>
                                          <p:spTgt spid="3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01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502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03" restart="whenNotActive" nodeType="interactiveSeq" fill="hold">
                <p:stCondLst>
                  <p:cond evt="onClick">
                    <p:tgtEl>
                      <p:spTgt spid="391"/>
                    </p:tgtEl>
                  </p:cond>
                </p:stCondLst>
                <p:childTnLst>
                  <p:par>
                    <p:cTn id="1504" fill="hold">
                      <p:stCondLst>
                        <p:cond evt="onClick">
                          <p:tgtEl>
                            <p:spTgt spid="391"/>
                          </p:tgtEl>
                        </p:cond>
                      </p:stCondLst>
                      <p:childTnLst>
                        <p:par>
                          <p:cTn id="1505" fill="hold">
                            <p:stCondLst>
                              <p:cond delay="0"/>
                            </p:stCondLst>
                            <p:childTnLst>
                              <p:par>
                                <p:cTn id="15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j0074852.wav"/>
                                        </p:tgtEl>
                                      </p:cMediaNode>
                                    </p:audio>
                                    <p:animMotion origin="layout" path="M -0.32951 -0.43703 C -0.34409 -0.39837 -0.33767 -0.29166 -0.33784 -0.28587 C -0.33611 -0.23587 -0.33524 -0.18981 -0.32621 -0.14143 C -0.32517 -0.13564 -0.32152 -0.13124 -0.31944 -0.12592 C -0.31198 -0.1074 -0.3059 -0.08865 -0.29791 -0.07036 C -0.28906 -0.04999 -0.27621 -0.02036 -0.25781 -0.01273 C -0.24965 -0.00439 -0.23941 -0.00069 -0.23125 0.00741 C -0.22899 0.00973 -0.22708 0.01251 -0.22448 0.01413 C -0.22239 0.01551 -0.22013 0.01528 -0.21788 0.01621 C -0.21614 0.0169 -0.21441 0.01737 -0.21284 0.01852 C -0.19722 0.02894 -0.22309 0.01598 -0.19791 0.02732 C -0.19618 0.02801 -0.19288 0.02964 -0.19288 0.02964 C -0.17569 0.02894 -0.15833 0.02871 -0.14114 0.02732 C -0.13125 0.02663 -0.12378 0.02107 -0.11284 0.02061 C -0.08576 0.01945 -0.0585 0.01922 -0.03125 0.01852 C -0.01024 0.01436 0.01094 0.01251 0.03212 0.0095 C 0.03837 0.00764 0.04445 0.00579 0.05052 0.00301 C 0.05382 0.00163 0.06042 -0.00161 0.06042 -0.00161 C 0.06285 -0.00462 0.06563 -0.01273 0.06875 -0.01273 E">
                                      <p:cBhvr>
                                        <p:cTn id="1507" dur="2000" fill="hold"/>
                                        <p:tgtEl>
                                          <p:spTgt spid="3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08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509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10" restart="whenNotActive" nodeType="interactiveSeq" fill="hold">
                <p:stCondLst>
                  <p:cond evt="onClick">
                    <p:tgtEl>
                      <p:spTgt spid="392"/>
                    </p:tgtEl>
                  </p:cond>
                </p:stCondLst>
                <p:childTnLst>
                  <p:par>
                    <p:cTn id="1511" fill="hold">
                      <p:stCondLst>
                        <p:cond evt="onClick">
                          <p:tgtEl>
                            <p:spTgt spid="392"/>
                          </p:tgtEl>
                        </p:cond>
                      </p:stCondLst>
                      <p:childTnLst>
                        <p:par>
                          <p:cTn id="1512" fill="hold">
                            <p:stCondLst>
                              <p:cond delay="0"/>
                            </p:stCondLst>
                            <p:childTnLst>
                              <p:par>
                                <p:cTn id="15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j0074852.wav"/>
                                        </p:tgtEl>
                                      </p:cMediaNode>
                                    </p:audio>
                                    <p:animMotion origin="layout" path="M -0.3783 -0.5581 C -0.37534 -0.49028 -0.37812 -0.42222 -0.375 -0.3544 C -0.37465 -0.34792 -0.36961 -0.34306 -0.3684 -0.33681 C -0.36527 -0.32083 -0.36059 -0.30671 -0.35503 -0.2919 C -0.35208 -0.2838 -0.35121 -0.27315 -0.34826 -0.26482 C -0.3408 -0.24491 -0.34357 -0.25833 -0.33663 -0.24259 C -0.32413 -0.21343 -0.30573 -0.17222 -0.28333 -0.15532 C -0.26076 -0.13843 -0.2875 -0.16204 -0.26857 -0.14653 C -0.25416 -0.13495 -0.26354 -0.13958 -0.2533 -0.13519 C -0.24392 -0.12662 -0.25034 -0.13148 -0.2335 -0.12407 C -0.19722 -0.10833 -0.15104 -0.06713 -0.10833 -0.05232 C -0.10086 -0.04583 -0.09305 -0.04653 -0.08524 -0.0412 C -0.075 -0.03403 -0.06319 -0.02847 -0.05173 -0.02546 C -0.03645 -0.01551 -0.01857 -0.01921 -0.00173 -0.01667 C 0.01407 -0.01134 0.03039 -0.00926 0.0467 -0.00764 C 0.05209 -0.00509 0.05 -0.00556 0.05313 -0.00556 E">
                                      <p:cBhvr>
                                        <p:cTn id="1514" dur="2000" fill="hold"/>
                                        <p:tgtEl>
                                          <p:spTgt spid="3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15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516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95" name=""/>
            <p:cNvSpPr/>
            <p:nvPr/>
          </p:nvSpPr>
          <p:spPr>
            <a:xfrm>
              <a:off x="0" y="0"/>
              <a:ext cx="9144000" cy="6858000"/>
            </a:xfrm>
            <a:prstGeom prst="roundRect">
              <a:avLst>
                <a:gd name="adj" fmla="val 33449"/>
              </a:avLst>
            </a:prstGeom>
            <a:solidFill>
              <a:srgbClr val="c0c0c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81080" y="1676520"/>
              <a:ext cx="4876920" cy="3352680"/>
            </a:xfrm>
            <a:prstGeom prst="roundRect">
              <a:avLst>
                <a:gd name="adj" fmla="val 33449"/>
              </a:avLst>
            </a:prstGeom>
            <a:gradFill rotWithShape="0">
              <a:gsLst>
                <a:gs pos="0">
                  <a:srgbClr val="008000"/>
                </a:gs>
                <a:gs pos="50000">
                  <a:srgbClr val="009900"/>
                </a:gs>
                <a:gs pos="100000">
                  <a:srgbClr val="008000"/>
                </a:gs>
              </a:gsLst>
              <a:lin ang="135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990720" y="762120"/>
              <a:ext cx="6781680" cy="5105160"/>
            </a:xfrm>
            <a:prstGeom prst="roundRect">
              <a:avLst>
                <a:gd name="adj" fmla="val 33449"/>
              </a:avLst>
            </a:prstGeom>
            <a:noFill/>
            <a:ln w="572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8" name=""/>
          <p:cNvSpPr/>
          <p:nvPr/>
        </p:nvSpPr>
        <p:spPr>
          <a:xfrm>
            <a:off x="4343400" y="502920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3286080" y="5011560"/>
            <a:ext cx="914400" cy="398520"/>
          </a:xfrm>
          <a:prstGeom prst="rect">
            <a:avLst/>
          </a:prstGeom>
          <a:ln w="0">
            <a:noFill/>
          </a:ln>
        </p:spPr>
      </p:pic>
      <p:pic>
        <p:nvPicPr>
          <p:cNvPr id="400" name="" descr=""/>
          <p:cNvPicPr/>
          <p:nvPr/>
        </p:nvPicPr>
        <p:blipFill>
          <a:blip r:embed="rId2"/>
          <a:stretch/>
        </p:blipFill>
        <p:spPr>
          <a:xfrm>
            <a:off x="3286080" y="5475240"/>
            <a:ext cx="914400" cy="392040"/>
          </a:xfrm>
          <a:prstGeom prst="rect">
            <a:avLst/>
          </a:prstGeom>
          <a:ln w="0">
            <a:noFill/>
          </a:ln>
        </p:spPr>
      </p:pic>
      <p:pic>
        <p:nvPicPr>
          <p:cNvPr id="401" name="" descr=""/>
          <p:cNvPicPr/>
          <p:nvPr/>
        </p:nvPicPr>
        <p:blipFill>
          <a:blip r:embed="rId3"/>
          <a:stretch/>
        </p:blipFill>
        <p:spPr>
          <a:xfrm>
            <a:off x="3276720" y="5992920"/>
            <a:ext cx="923760" cy="407880"/>
          </a:xfrm>
          <a:prstGeom prst="rect">
            <a:avLst/>
          </a:prstGeom>
          <a:ln w="0">
            <a:noFill/>
          </a:ln>
        </p:spPr>
      </p:pic>
      <p:pic>
        <p:nvPicPr>
          <p:cNvPr id="402" name="" descr=""/>
          <p:cNvPicPr/>
          <p:nvPr/>
        </p:nvPicPr>
        <p:blipFill>
          <a:blip r:embed="rId4"/>
          <a:stretch/>
        </p:blipFill>
        <p:spPr>
          <a:xfrm>
            <a:off x="3286080" y="6470640"/>
            <a:ext cx="914400" cy="38736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/>
          <p:nvPr/>
        </p:nvSpPr>
        <p:spPr>
          <a:xfrm>
            <a:off x="3200400" y="5105520"/>
            <a:ext cx="990720" cy="30456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276720" y="5562720"/>
            <a:ext cx="990360" cy="30456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276720" y="6019920"/>
            <a:ext cx="990360" cy="3808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276720" y="6553080"/>
            <a:ext cx="990360" cy="30492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7010280" y="2971800"/>
            <a:ext cx="53352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772400" y="2971800"/>
            <a:ext cx="53352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7620120" y="3733920"/>
            <a:ext cx="53316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8381880" y="2743200"/>
            <a:ext cx="53352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114800" y="457200"/>
            <a:ext cx="609480" cy="3808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4267080" y="1143000"/>
            <a:ext cx="609840" cy="3808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4343400" y="0"/>
            <a:ext cx="609480" cy="3808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4191120" y="838080"/>
            <a:ext cx="609480" cy="30492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523880" y="3048120"/>
            <a:ext cx="60984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990720" y="2819520"/>
            <a:ext cx="60948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80880" y="2819520"/>
            <a:ext cx="60984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0" y="2438280"/>
            <a:ext cx="609480" cy="60984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3200400" y="4343400"/>
            <a:ext cx="24098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Next Lap!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1517" dur="indefinite" restart="never" nodeType="tmRoot">
          <p:childTnLst>
            <p:seq>
              <p:cTn id="1518" restart="whenNotActive" nodeType="interactiveSeq" fill="hold">
                <p:stCondLst>
                  <p:cond evt="onClick">
                    <p:tgtEl>
                      <p:spTgt spid="403"/>
                    </p:tgtEl>
                  </p:cond>
                </p:stCondLst>
                <p:childTnLst>
                  <p:par>
                    <p:cTn id="1519" fill="hold">
                      <p:stCondLst>
                        <p:cond evt="onClick">
                          <p:tgtEl>
                            <p:spTgt spid="403"/>
                          </p:tgtEl>
                        </p:cond>
                      </p:stCondLst>
                      <p:childTnLst>
                        <p:par>
                          <p:cTn id="1520" fill="hold">
                            <p:stCondLst>
                              <p:cond delay="0"/>
                            </p:stCondLst>
                            <p:childTnLst>
                              <p:par>
                                <p:cTn id="15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j0074852.wav"/>
                                        </p:tgtEl>
                                      </p:cMediaNode>
                                    </p:audio>
                                    <p:animMotion origin="layout" path="M 0.0573 -0.00046 C 0.11181 -0.00162 0.33004 0.03403 0.3849 -0.00764 C 0.43976 -0.0493 0.3856 -0.20694 0.38664 -0.25 C 0.38768 -0.29305 0.38959 -0.2794 0.39167 -0.26551 E">
                                      <p:cBhvr>
                                        <p:cTn id="1522" dur="2000" fill="hold"/>
                                        <p:tgtEl>
                                          <p:spTgt spid="3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23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5400000">
                                      <p:cBhvr>
                                        <p:cTn id="1524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25" restart="whenNotActive" nodeType="interactiveSeq" fill="hold">
                <p:stCondLst>
                  <p:cond evt="onClick">
                    <p:tgtEl>
                      <p:spTgt spid="404"/>
                    </p:tgtEl>
                  </p:cond>
                </p:stCondLst>
                <p:childTnLst>
                  <p:par>
                    <p:cTn id="1526" fill="hold">
                      <p:stCondLst>
                        <p:cond evt="onClick">
                          <p:tgtEl>
                            <p:spTgt spid="404"/>
                          </p:tgtEl>
                        </p:cond>
                      </p:stCondLst>
                      <p:childTnLst>
                        <p:par>
                          <p:cTn id="1527" fill="hold">
                            <p:stCondLst>
                              <p:cond delay="0"/>
                            </p:stCondLst>
                            <p:childTnLst>
                              <p:par>
                                <p:cTn id="152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j0074852.wav"/>
                                        </p:tgtEl>
                                      </p:cMediaNode>
                                    </p:audio>
                                    <p:animMotion origin="layout" path="M 0.05504 0.00116 C 0.10973 0.00046 0.17049 0.02824 0.21927 -0.00856 C 0.22466 -0.0125 0.22691 -0.01782 0.23264 -0.02106 C 0.23941 -0.03055 0.24723 -0.03912 0.25625 -0.04329 C 0.26407 -0.05139 0.2698 -0.05463 0.27795 -0.06088 C 0.28507 -0.06597 0.29028 -0.07616 0.29636 -0.0831 C 0.29948 -0.0868 0.30365 -0.08866 0.30643 -0.09305 C 0.31198 -0.10116 0.31389 -0.10926 0.32153 -0.11296 C 0.32969 -0.13148 0.34289 -0.14768 0.35504 -0.16018 C 0.35938 -0.16458 0.36407 -0.16852 0.36858 -0.17268 C 0.37275 -0.17662 0.38195 -0.18241 0.38195 -0.18217 C 0.38976 -0.19421 0.38507 -0.18819 0.39705 -0.19977 C 0.39879 -0.20139 0.40035 -0.20324 0.40209 -0.20486 C 0.40382 -0.20648 0.40712 -0.20995 0.40712 -0.20972 C 0.41164 -0.22014 0.4191 -0.22477 0.42552 -0.23217 C 0.43594 -0.24467 0.44618 -0.25856 0.45747 -0.26944 C 0.475 -0.30903 0.47084 -0.31041 0.47084 -0.37129 E">
                                      <p:cBhvr>
                                        <p:cTn id="1529" dur="2000" fill="hold"/>
                                        <p:tgtEl>
                                          <p:spTgt spid="4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30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5400000">
                                      <p:cBhvr>
                                        <p:cTn id="1531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32" restart="whenNotActive" nodeType="interactiveSeq" fill="hold">
                <p:stCondLst>
                  <p:cond evt="onClick">
                    <p:tgtEl>
                      <p:spTgt spid="405"/>
                    </p:tgtEl>
                  </p:cond>
                </p:stCondLst>
                <p:childTnLst>
                  <p:par>
                    <p:cTn id="1533" fill="hold">
                      <p:stCondLst>
                        <p:cond evt="onClick">
                          <p:tgtEl>
                            <p:spTgt spid="405"/>
                          </p:tgtEl>
                        </p:cond>
                      </p:stCondLst>
                      <p:childTnLst>
                        <p:par>
                          <p:cTn id="1534" fill="hold">
                            <p:stCondLst>
                              <p:cond delay="0"/>
                            </p:stCondLst>
                            <p:childTnLst>
                              <p:par>
                                <p:cTn id="153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j0074852.wav"/>
                                        </p:tgtEl>
                                      </p:cMediaNode>
                                    </p:audio>
                                    <p:animMotion origin="layout" path="M 0.06858 -0.01366 C 0.13681 -0.01481 0.20712 -0.0162 0.27553 -0.02338 C 0.2816 -0.02546 0.28785 -0.02592 0.29393 -0.02801 C 0.30521 -0.03217 0.31598 -0.04097 0.32726 -0.0456 C 0.33421 -0.05231 0.34237 -0.06018 0.35053 -0.06342 C 0.36459 -0.07569 0.38091 -0.08379 0.39549 -0.09467 C 0.41407 -0.10833 0.43125 -0.12523 0.44879 -0.1412 C 0.45469 -0.15254 0.46146 -0.16296 0.46719 -0.17453 C 0.4724 -0.18518 0.47309 -0.20231 0.47553 -0.21458 C 0.475 -0.2331 0.47518 -0.25162 0.47379 -0.27014 C 0.47292 -0.28217 0.4625 -0.30486 0.45556 -0.31227 C 0.43507 -0.33379 0.46407 -0.29653 0.44723 -0.31898 E">
                                      <p:cBhvr>
                                        <p:cTn id="1536" dur="2000" fill="hold"/>
                                        <p:tgtEl>
                                          <p:spTgt spid="4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37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5400000">
                                      <p:cBhvr>
                                        <p:cTn id="1538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39" restart="whenNotActive" nodeType="interactiveSeq" fill="hold">
                <p:stCondLst>
                  <p:cond evt="onClick">
                    <p:tgtEl>
                      <p:spTgt spid="406"/>
                    </p:tgtEl>
                  </p:cond>
                </p:stCondLst>
                <p:childTnLst>
                  <p:par>
                    <p:cTn id="1540" fill="hold">
                      <p:stCondLst>
                        <p:cond evt="onClick">
                          <p:tgtEl>
                            <p:spTgt spid="406"/>
                          </p:tgtEl>
                        </p:cond>
                      </p:stCondLst>
                      <p:childTnLst>
                        <p:par>
                          <p:cTn id="1541" fill="hold">
                            <p:stCondLst>
                              <p:cond delay="0"/>
                            </p:stCondLst>
                            <p:childTnLst>
                              <p:par>
                                <p:cTn id="154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j0074852.wav"/>
                                        </p:tgtEl>
                                      </p:cMediaNode>
                                    </p:audio>
                                    <p:animMotion origin="layout" path="M 0.05417 -0.00509 C 0.06007 -0.00394 0.07709 -0.00162 0.09028 -0.00046 C 0.10348 0.00069 0.11563 0.00231 0.13334 0.00162 C 0.16511 -0.00324 0.1408 0.00023 0.19671 -0.00509 C 0.20452 -0.00579 0.21997 -0.00741 0.21997 -0.00718 C 0.24271 -0.01204 0.26563 -0.01204 0.28837 -0.0162 C 0.304 -0.01921 0.28941 -0.01736 0.30504 -0.02292 C 0.31719 -0.02732 0.33091 -0.02778 0.34341 -0.02963 C 0.35296 -0.03264 0.36025 -0.03843 0.36997 -0.04074 C 0.38091 -0.04792 0.39323 -0.05347 0.40504 -0.05833 C 0.41233 -0.06505 0.41962 -0.07153 0.42674 -0.07847 C 0.4408 -0.09236 0.43126 -0.0875 0.44167 -0.09167 C 0.44966 -0.10278 0.43907 -0.08912 0.45174 -0.1007 C 0.45834 -0.10671 0.46823 -0.12153 0.47674 -0.125 C 0.47969 -0.1375 0.48941 -0.14421 0.49671 -0.15185 C 0.50382 -0.15926 0.50712 -0.17014 0.51337 -0.17847 C 0.51771 -0.19722 0.51146 -0.17431 0.51841 -0.18958 C 0.52101 -0.19514 0.52275 -0.20139 0.52501 -0.20741 C 0.52674 -0.21204 0.5316 -0.2206 0.5316 -0.22037 C 0.55608 -0.34745 0.53994 -0.20093 0.53994 -0.54282 E">
                                      <p:cBhvr>
                                        <p:cTn id="1543" dur="2000" fill="hold"/>
                                        <p:tgtEl>
                                          <p:spTgt spid="4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44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5400000">
                                      <p:cBhvr>
                                        <p:cTn id="1545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46" restart="whenNotActive" nodeType="interactiveSeq" fill="hold">
                <p:stCondLst>
                  <p:cond evt="onClick">
                    <p:tgtEl>
                      <p:spTgt spid="407"/>
                    </p:tgtEl>
                  </p:cond>
                </p:stCondLst>
                <p:childTnLst>
                  <p:par>
                    <p:cTn id="1547" fill="hold">
                      <p:stCondLst>
                        <p:cond evt="onClick">
                          <p:tgtEl>
                            <p:spTgt spid="407"/>
                          </p:tgtEl>
                        </p:cond>
                      </p:stCondLst>
                      <p:childTnLst>
                        <p:par>
                          <p:cTn id="1548" fill="hold">
                            <p:stCondLst>
                              <p:cond delay="0"/>
                            </p:stCondLst>
                            <p:childTnLst>
                              <p:par>
                                <p:cTn id="15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j0074852.wav"/>
                                        </p:tgtEl>
                                      </p:cMediaNode>
                                    </p:audio>
                                    <p:animMotion origin="layout" path="M 0.39167 -0.29305 C 0.39237 -0.33657 0.38664 -0.38889 0.39844 -0.43287 C 0.39757 -0.46366 0.40296 -0.48241 0.39167 -0.50416 C 0.38837 -0.51991 0.38403 -0.52893 0.37848 -0.54398 C 0.37674 -0.54838 0.37119 -0.54907 0.36841 -0.55069 C 0.35886 -0.55602 0.35105 -0.56805 0.34011 -0.56852 C 0.30296 -0.56991 0.26563 -0.57014 0.22848 -0.57083 C 0.22032 -0.57291 0.21719 -0.575 0.21007 -0.57963 C 0.20573 -0.58241 0.20087 -0.58333 0.19671 -0.58634 C 0.18976 -0.59143 0.18403 -0.59768 0.17674 -0.60185 C 0.17466 -0.60301 0.16546 -0.60555 0.16337 -0.60625 C 0.15313 -0.61018 0.1474 -0.61319 0.13681 -0.61528 C 0.12744 -0.62338 0.11563 -0.62592 0.10504 -0.63078 C 0.10278 -0.6331 0.10035 -0.63495 0.09844 -0.6375 C 0.09705 -0.63935 0.09671 -0.64236 0.09513 -0.64398 C 0.09376 -0.64537 0.09323 -0.6493 0.09167 -0.65046 C 0.0882 -0.65301 0.08525 -0.65486 0.08195 -0.65787 C 0.08039 -0.65926 0.08264 -0.65509 0.07501 -0.65717 E">
                                      <p:cBhvr>
                                        <p:cTn id="1550" dur="2000" fill="hold"/>
                                        <p:tgtEl>
                                          <p:spTgt spid="3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51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552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53" restart="whenNotActive" nodeType="interactiveSeq" fill="hold">
                <p:stCondLst>
                  <p:cond evt="onClick">
                    <p:tgtEl>
                      <p:spTgt spid="408"/>
                    </p:tgtEl>
                  </p:cond>
                </p:stCondLst>
                <p:childTnLst>
                  <p:par>
                    <p:cTn id="1554" fill="hold">
                      <p:stCondLst>
                        <p:cond evt="onClick">
                          <p:tgtEl>
                            <p:spTgt spid="408"/>
                          </p:tgtEl>
                        </p:cond>
                      </p:stCondLst>
                      <p:childTnLst>
                        <p:par>
                          <p:cTn id="1555" fill="hold">
                            <p:stCondLst>
                              <p:cond delay="0"/>
                            </p:stCondLst>
                            <p:childTnLst>
                              <p:par>
                                <p:cTn id="155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j0074852.wav"/>
                                        </p:tgtEl>
                                      </p:cMediaNode>
                                    </p:audio>
                                    <p:animMotion origin="layout" path="M 0.47084 -0.37129 C 0.4724 -0.44166 0.48525 -0.53009 0.45417 -0.59352 C 0.45139 -0.60972 0.45469 -0.5956 0.44914 -0.60903 C 0.43716 -0.63842 0.43004 -0.65833 0.40417 -0.66898 C 0.39827 -0.67731 0.404 -0.67106 0.39428 -0.67569 C 0.38317 -0.68102 0.38577 -0.68403 0.37257 -0.6868 C 0.32639 -0.68518 0.32674 -0.68541 0.29584 -0.68009 C 0.27362 -0.66829 0.25157 -0.65648 0.22917 -0.64467 C 0.21806 -0.63889 0.20469 -0.6294 0.19254 -0.62916 C 0.15591 -0.62847 0.1191 -0.62916 0.08247 -0.62916 E">
                                      <p:cBhvr>
                                        <p:cTn id="1557" dur="2000" fill="hold"/>
                                        <p:tgtEl>
                                          <p:spTgt spid="4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58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559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60" restart="whenNotActive" nodeType="interactiveSeq" fill="hold">
                <p:stCondLst>
                  <p:cond evt="onClick">
                    <p:tgtEl>
                      <p:spTgt spid="409"/>
                    </p:tgtEl>
                  </p:cond>
                </p:stCondLst>
                <p:childTnLst>
                  <p:par>
                    <p:cTn id="1561" fill="hold">
                      <p:stCondLst>
                        <p:cond evt="onClick">
                          <p:tgtEl>
                            <p:spTgt spid="409"/>
                          </p:tgtEl>
                        </p:cond>
                      </p:stCondLst>
                      <p:childTnLst>
                        <p:par>
                          <p:cTn id="1562" fill="hold">
                            <p:stCondLst>
                              <p:cond delay="0"/>
                            </p:stCondLst>
                            <p:childTnLst>
                              <p:par>
                                <p:cTn id="15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j0074852.wav"/>
                                        </p:tgtEl>
                                      </p:cMediaNode>
                                    </p:audio>
                                    <p:animMotion origin="layout" path="M 0.44723 -0.31898 C 0.44132 -0.32685 0.44427 -0.32152 0.44046 -0.3368 C 0.43941 -0.3412 0.43716 -0.35023 0.43716 -0.35023 C 0.43872 -0.39004 0.43455 -0.41157 0.46216 -0.43032 C 0.46823 -0.43865 0.47743 -0.44027 0.48386 -0.44791 C 0.49671 -0.46342 0.50521 -0.47939 0.51042 -0.50138 C 0.51302 -0.52731 0.51719 -0.55231 0.50209 -0.57245 C 0.50157 -0.57546 0.50191 -0.57916 0.50052 -0.58125 C 0.49983 -0.58263 0.48907 -0.58564 0.48889 -0.58564 C 0.47639 -0.59027 0.46771 -0.59097 0.45382 -0.59236 C 0.43855 -0.59583 0.43629 -0.60254 0.42379 -0.6125 C 0.42275 -0.61551 0.42223 -0.61898 0.42049 -0.62129 C 0.41927 -0.62291 0.41667 -0.62199 0.41546 -0.62361 C 0.41372 -0.62592 0.41355 -0.62963 0.41216 -0.6324 C 0.40921 -0.63796 0.40625 -0.64004 0.40209 -0.64351 C 0.39948 -0.64884 0.39618 -0.65347 0.39375 -0.65902 C 0.39289 -0.66111 0.39289 -0.66365 0.39219 -0.66574 C 0.38941 -0.67338 0.38559 -0.68101 0.38212 -0.68796 C 0.37709 -0.70995 0.37171 -0.73611 0.35886 -0.75231 C 0.35504 -0.76713 0.36007 -0.74976 0.35209 -0.76805 C 0.34966 -0.77361 0.34896 -0.78125 0.34549 -0.78564 C 0.33629 -0.79791 0.32691 -0.81481 0.31389 -0.81898 C 0.31059 -0.82199 0.30764 -0.82638 0.30382 -0.82801 C 0.29792 -0.83055 0.2908 -0.83287 0.28542 -0.8368 C 0.2783 -0.84213 0.27014 -0.85138 0.26216 -0.85463 C 0.24584 -0.86134 0.22743 -0.86319 0.21042 -0.86574 C 0.19514 -0.87106 0.21355 -0.86527 0.18542 -0.87013 C 0.17396 -0.87222 0.16181 -0.87685 0.15052 -0.87916 C 0.13021 -0.8831 0.10938 -0.87916 0.08889 -0.87916 E">
                                      <p:cBhvr>
                                        <p:cTn id="1564" dur="2000" fill="hold"/>
                                        <p:tgtEl>
                                          <p:spTgt spid="4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65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566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67" restart="whenNotActive" nodeType="interactiveSeq" fill="hold">
                <p:stCondLst>
                  <p:cond evt="onClick">
                    <p:tgtEl>
                      <p:spTgt spid="410"/>
                    </p:tgtEl>
                  </p:cond>
                </p:stCondLst>
                <p:childTnLst>
                  <p:par>
                    <p:cTn id="1568" fill="hold">
                      <p:stCondLst>
                        <p:cond evt="onClick">
                          <p:tgtEl>
                            <p:spTgt spid="410"/>
                          </p:tgtEl>
                        </p:cond>
                      </p:stCondLst>
                      <p:childTnLst>
                        <p:par>
                          <p:cTn id="1569" fill="hold">
                            <p:stCondLst>
                              <p:cond delay="0"/>
                            </p:stCondLst>
                            <p:childTnLst>
                              <p:par>
                                <p:cTn id="157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j0074852.wav"/>
                                        </p:tgtEl>
                                      </p:cMediaNode>
                                    </p:audio>
                                    <p:animMotion origin="layout" path="M 0.53993 -0.54283 C 0.53924 -0.58334 0.54323 -0.64908 0.52483 -0.68959 C 0.52274 -0.71065 0.51754 -0.72986 0.51163 -0.74954 C 0.50816 -0.76088 0.50642 -0.77431 0.50156 -0.78496 C 0.49965 -0.78889 0.49688 -0.79213 0.49497 -0.79607 C 0.49149 -0.81389 0.49636 -0.79699 0.48663 -0.81181 C 0.47674 -0.82709 0.49063 -0.81574 0.47656 -0.825 C 0.47153 -0.83426 0.46684 -0.8463 0.4599 -0.85394 C 0.45295 -0.86158 0.45712 -0.85556 0.44983 -0.86065 C 0.4467 -0.86274 0.44479 -0.86783 0.44149 -0.86945 C 0.43663 -0.87199 0.42708 -0.87431 0.42153 -0.87616 C 0.41823 -0.87709 0.41493 -0.87778 0.41163 -0.87848 C 0.40434 -0.8801 0.38993 -0.88287 0.38993 -0.88287 C 0.37986 -0.88704 0.37031 -0.88982 0.3599 -0.89167 C 0.33767 -0.90186 0.30799 -0.90486 0.2849 -0.90718 C 0.26997 -0.90649 0.25486 -0.90672 0.23993 -0.9051 C 0.23038 -0.90394 0.22118 -0.89977 0.21163 -0.89838 C 0.19948 -0.89306 0.20504 -0.89514 0.19497 -0.89167 C 0.18507 -0.88311 0.18281 -0.88125 0.17153 -0.87848 C 0.16597 -0.87454 0.16024 -0.87315 0.15486 -0.86945 C 0.1434 -0.86181 0.1559 -0.8676 0.14497 -0.86274 C 0.13993 -0.86042 0.12986 -0.85625 0.12986 -0.85625 C 0.12396 -0.84792 0.12969 -0.85417 0.11997 -0.84954 C 0.10243 -0.84098 0.09219 -0.83403 0.07326 -0.83403 E">
                                      <p:cBhvr>
                                        <p:cTn id="1571" dur="2000" fill="hold"/>
                                        <p:tgtEl>
                                          <p:spTgt spid="4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72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573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74" restart="whenNotActive" nodeType="interactiveSeq" fill="hold">
                <p:stCondLst>
                  <p:cond evt="onClick">
                    <p:tgtEl>
                      <p:spTgt spid="411"/>
                    </p:tgtEl>
                  </p:cond>
                </p:stCondLst>
                <p:childTnLst>
                  <p:par>
                    <p:cTn id="1575" fill="hold">
                      <p:stCondLst>
                        <p:cond evt="onClick">
                          <p:tgtEl>
                            <p:spTgt spid="411"/>
                          </p:tgtEl>
                        </p:cond>
                      </p:stCondLst>
                      <p:childTnLst>
                        <p:par>
                          <p:cTn id="1576" fill="hold">
                            <p:stCondLst>
                              <p:cond delay="0"/>
                            </p:stCondLst>
                            <p:childTnLst>
                              <p:par>
                                <p:cTn id="157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j0074852.wav"/>
                                        </p:tgtEl>
                                      </p:cMediaNode>
                                    </p:audio>
                                    <p:animMotion origin="layout" path="M 0.07396 -0.65879 C 0.04757 -0.65463 0.05521 -0.66666 0.00452 -0.66991 C -0.01822 -0.67315 -0.04045 -0.66018 -0.06371 -0.6618 C -0.12674 -0.66088 -0.19289 -0.68009 -0.2533 -0.65509 C -0.25365 -0.65463 -0.26216 -0.64653 -0.26337 -0.64398 C -0.27084 -0.62731 -0.27657 -0.60856 -0.2816 -0.59051 C -0.28299 -0.58541 -0.28386 -0.58009 -0.2849 -0.575 C -0.28612 -0.56898 -0.28837 -0.55717 -0.28837 -0.55694 C -0.2908 -0.52384 -0.29428 -0.48842 -0.28004 -0.45949 C -0.27761 -0.44676 -0.27257 -0.44004 -0.26667 -0.43055 C -0.26546 -0.42847 -0.26424 -0.42616 -0.26337 -0.42384 C -0.26268 -0.42176 -0.26268 -0.41921 -0.26164 -0.41736 C -0.25747 -0.41041 -0.25278 -0.40393 -0.24827 -0.39722 C -0.2441 -0.39097 -0.23941 -0.38541 -0.2349 -0.3794 C -0.23334 -0.37731 -0.23004 -0.37291 -0.23004 -0.37268 C -0.2283 -0.3662 -0.22726 -0.35926 -0.225 -0.35278 C -0.22414 -0.35046 -0.22257 -0.34861 -0.22171 -0.34606 C -0.22032 -0.3419 -0.21823 -0.33287 -0.21823 -0.33264 C -0.21771 -0.32778 -0.21737 -0.32245 -0.21667 -0.31736 C -0.21546 -0.30856 -0.2099 -0.2993 -0.2099 -0.29051 C -0.2099 -0.28171 -0.2099 -0.27268 -0.2099 -0.26389 E">
                                      <p:cBhvr>
                                        <p:cTn id="1578" dur="2000" fill="hold"/>
                                        <p:tgtEl>
                                          <p:spTgt spid="3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79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580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81" restart="whenNotActive" nodeType="interactiveSeq" fill="hold">
                <p:stCondLst>
                  <p:cond evt="onClick">
                    <p:tgtEl>
                      <p:spTgt spid="412"/>
                    </p:tgtEl>
                  </p:cond>
                </p:stCondLst>
                <p:childTnLst>
                  <p:par>
                    <p:cTn id="1582" fill="hold">
                      <p:stCondLst>
                        <p:cond evt="onClick">
                          <p:tgtEl>
                            <p:spTgt spid="412"/>
                          </p:tgtEl>
                        </p:cond>
                      </p:stCondLst>
                      <p:childTnLst>
                        <p:par>
                          <p:cTn id="1583" fill="hold">
                            <p:stCondLst>
                              <p:cond delay="0"/>
                            </p:stCondLst>
                            <p:childTnLst>
                              <p:par>
                                <p:cTn id="158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j0074852.wav"/>
                                        </p:tgtEl>
                                      </p:cMediaNode>
                                    </p:audio>
                                    <p:animMotion origin="layout" path="M 0.08247 -0.62917 C 0.07587 -0.62986 0.0691 -0.62986 0.06251 -0.63148 C 0.05678 -0.63287 0.05018 -0.63843 0.04428 -0.64028 C 0.03594 -0.65093 0.02674 -0.65139 0.01754 -0.6581 C 0.00139 -0.66991 0.01407 -0.66505 -0.00086 -0.66921 C -0.00815 -0.6757 -0.01562 -0.67801 -0.02413 -0.68033 C -0.03229 -0.68588 -0.0401 -0.69121 -0.04913 -0.69375 C -0.05885 -0.70023 -0.06874 -0.70301 -0.07916 -0.70695 C -0.08836 -0.71042 -0.0802 -0.70764 -0.08906 -0.71366 C -0.09392 -0.7169 -0.10034 -0.71829 -0.10572 -0.72037 C -0.12847 -0.72894 -0.1526 -0.73125 -0.17586 -0.73588 C -0.21041 -0.74283 -0.24427 -0.75185 -0.27916 -0.75579 C -0.28854 -0.75509 -0.29808 -0.75556 -0.30746 -0.75371 C -0.31545 -0.75208 -0.31909 -0.7382 -0.32413 -0.73148 C -0.32552 -0.72963 -0.3276 -0.72871 -0.32916 -0.72708 C -0.33038 -0.7257 -0.33142 -0.72408 -0.33246 -0.72246 C -0.33454 -0.71435 -0.33732 -0.70741 -0.34079 -0.70023 C -0.34357 -0.68634 -0.34583 -0.67222 -0.34739 -0.6581 C -0.346 -0.64306 -0.34548 -0.6375 -0.34079 -0.62477 C -0.3394 -0.61111 -0.33749 -0.59583 -0.3342 -0.58264 C -0.33124 -0.5706 -0.32499 -0.5625 -0.32083 -0.55139 C -0.31527 -0.53658 -0.3092 -0.52315 -0.30243 -0.50926 C -0.29895 -0.50232 -0.29288 -0.5 -0.28906 -0.49375 C -0.28437 -0.48611 -0.28194 -0.47708 -0.27743 -0.46921 C -0.27552 -0.46134 -0.27361 -0.45046 -0.27083 -0.44259 C -0.26909 -0.43773 -0.26597 -0.43496 -0.26579 -0.42917 C -0.26527 -0.40625 -0.26579 -0.38333 -0.26579 -0.36042 E">
                                      <p:cBhvr>
                                        <p:cTn id="1585" dur="2000" fill="hold"/>
                                        <p:tgtEl>
                                          <p:spTgt spid="4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86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587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88" restart="whenNotActive" nodeType="interactiveSeq" fill="hold">
                <p:stCondLst>
                  <p:cond evt="onClick">
                    <p:tgtEl>
                      <p:spTgt spid="413"/>
                    </p:tgtEl>
                  </p:cond>
                </p:stCondLst>
                <p:childTnLst>
                  <p:par>
                    <p:cTn id="1589" fill="hold">
                      <p:stCondLst>
                        <p:cond evt="onClick">
                          <p:tgtEl>
                            <p:spTgt spid="413"/>
                          </p:tgtEl>
                        </p:cond>
                      </p:stCondLst>
                      <p:childTnLst>
                        <p:par>
                          <p:cTn id="1590" fill="hold">
                            <p:stCondLst>
                              <p:cond delay="0"/>
                            </p:stCondLst>
                            <p:childTnLst>
                              <p:par>
                                <p:cTn id="159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j0074852.wav"/>
                                        </p:tgtEl>
                                      </p:cMediaNode>
                                    </p:audio>
                                    <p:animMotion origin="layout" path="M 0.08889 -0.87917 C 0.0198 -0.87801 -0.03698 -0.88195 -0.10121 -0.87037 C -0.10312 -0.86968 -0.10468 -0.86921 -0.10625 -0.86806 C -0.10798 -0.8669 -0.10954 -0.86482 -0.11111 -0.86366 C -0.11441 -0.86181 -0.12118 -0.85926 -0.12118 -0.85926 C -0.1276 -0.85023 -0.14392 -0.84236 -0.15277 -0.83912 C -0.15816 -0.83449 -0.16441 -0.83148 -0.16944 -0.82593 C -0.18281 -0.81134 -0.19652 -0.79653 -0.20954 -0.78148 C -0.21666 -0.77315 -0.22187 -0.76158 -0.22951 -0.75463 C -0.23767 -0.73287 -0.22569 -0.76227 -0.24288 -0.73241 C -0.24739 -0.72454 -0.25104 -0.71713 -0.25625 -0.71019 C -0.25972 -0.69607 -0.25486 -0.70995 -0.26284 -0.70139 C -0.26441 -0.69977 -0.26475 -0.69653 -0.26614 -0.69468 C -0.26927 -0.69051 -0.27309 -0.68773 -0.27621 -0.68357 C -0.27882 -0.67269 -0.2809 -0.66713 -0.28611 -0.65695 C -0.28732 -0.65463 -0.28958 -0.65023 -0.28958 -0.65023 C -0.29149 -0.6419 -0.29427 -0.63519 -0.29791 -0.62801 C -0.29965 -0.6206 -0.3026 -0.61528 -0.30451 -0.6081 C -0.30555 -0.58773 -0.3059 -0.56366 -0.31111 -0.54352 C -0.31232 -0.53912 -0.31354 -0.53472 -0.31458 -0.53033 C -0.31562 -0.52593 -0.31788 -0.5169 -0.31788 -0.5169 C -0.31909 -0.5037 -0.31805 -0.49699 -0.32448 -0.48796 C -0.3302 -0.46644 -0.32951 -0.4632 -0.32951 -0.43704 E">
                                      <p:cBhvr>
                                        <p:cTn id="1592" dur="2000" fill="hold"/>
                                        <p:tgtEl>
                                          <p:spTgt spid="4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93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594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95" restart="whenNotActive" nodeType="interactiveSeq" fill="hold">
                <p:stCondLst>
                  <p:cond evt="onClick">
                    <p:tgtEl>
                      <p:spTgt spid="414"/>
                    </p:tgtEl>
                  </p:cond>
                </p:stCondLst>
                <p:childTnLst>
                  <p:par>
                    <p:cTn id="1596" fill="hold">
                      <p:stCondLst>
                        <p:cond evt="onClick">
                          <p:tgtEl>
                            <p:spTgt spid="414"/>
                          </p:tgtEl>
                        </p:cond>
                      </p:stCondLst>
                      <p:childTnLst>
                        <p:par>
                          <p:cTn id="1597" fill="hold">
                            <p:stCondLst>
                              <p:cond delay="0"/>
                            </p:stCondLst>
                            <p:childTnLst>
                              <p:par>
                                <p:cTn id="159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j0074852.wav"/>
                                        </p:tgtEl>
                                      </p:cMediaNode>
                                    </p:audio>
                                    <p:animMotion origin="layout" path="M 0.07292 -0.83472 C 0.05244 -0.83796 0.04879 -0.8537 0.0349 -0.85347 C -0.06736 -0.85208 -0.16945 -0.85208 -0.27171 -0.85139 C -0.28056 -0.84722 -0.28733 -0.84028 -0.29497 -0.83357 C -0.29983 -0.82917 -0.30157 -0.82245 -0.30678 -0.81806 C -0.30782 -0.81574 -0.30921 -0.81366 -0.31007 -0.81134 C -0.31077 -0.80926 -0.31077 -0.80671 -0.31164 -0.80463 C -0.3125 -0.80278 -0.31407 -0.80185 -0.31511 -0.80023 C -0.32014 -0.7919 -0.32639 -0.78079 -0.33004 -0.7713 C -0.33542 -0.75695 -0.33941 -0.74051 -0.34844 -0.72917 C -0.3507 -0.71945 -0.35487 -0.71134 -0.35834 -0.70255 C -0.36233 -0.69236 -0.36441 -0.68426 -0.37171 -0.67801 C -0.38073 -0.63218 -0.3783 -0.62407 -0.3783 -0.5581 E">
                                      <p:cBhvr>
                                        <p:cTn id="1599" dur="2000" fill="hold"/>
                                        <p:tgtEl>
                                          <p:spTgt spid="4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00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601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02" restart="whenNotActive" nodeType="interactiveSeq" fill="hold">
                <p:stCondLst>
                  <p:cond evt="onClick">
                    <p:tgtEl>
                      <p:spTgt spid="415"/>
                    </p:tgtEl>
                  </p:cond>
                </p:stCondLst>
                <p:childTnLst>
                  <p:par>
                    <p:cTn id="1603" fill="hold">
                      <p:stCondLst>
                        <p:cond evt="onClick">
                          <p:tgtEl>
                            <p:spTgt spid="415"/>
                          </p:tgtEl>
                        </p:cond>
                      </p:stCondLst>
                      <p:childTnLst>
                        <p:par>
                          <p:cTn id="1604" fill="hold">
                            <p:stCondLst>
                              <p:cond delay="0"/>
                            </p:stCondLst>
                            <p:childTnLst>
                              <p:par>
                                <p:cTn id="160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j0074852.wav"/>
                                        </p:tgtEl>
                                      </p:cMediaNode>
                                    </p:audio>
                                    <p:animMotion origin="layout" path="M -0.2099 -0.26389 C -0.20122 -0.2287 -0.21007 -0.26736 -0.20573 -0.17708 C -0.20539 -0.17037 -0.20226 -0.16389 -0.20139 -0.15717 C -0.19636 -0.11643 -0.1875 -0.0919 -0.16285 -0.05926 C -0.15244 -0.04583 -0.13803 -0.02893 -0.12188 -0.02384 C -0.11494 -0.01898 -0.10851 -0.01528 -0.10035 -0.01273 C -0.08732 -0.00347 -0.08124 -0.00208 -0.06631 0.00278 C -0.04236 0.00486 0.000869999999999999 -0.00046 0.02153 -0.00092 C 0.04219 -0.00139 0.04983 0.00023 0.0573 0.00047 E">
                                      <p:cBhvr>
                                        <p:cTn id="1606" dur="2000" fill="hold"/>
                                        <p:tgtEl>
                                          <p:spTgt spid="3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07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608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09" restart="whenNotActive" nodeType="interactiveSeq" fill="hold">
                <p:stCondLst>
                  <p:cond evt="onClick">
                    <p:tgtEl>
                      <p:spTgt spid="416"/>
                    </p:tgtEl>
                  </p:cond>
                </p:stCondLst>
                <p:childTnLst>
                  <p:par>
                    <p:cTn id="1610" fill="hold">
                      <p:stCondLst>
                        <p:cond evt="onClick">
                          <p:tgtEl>
                            <p:spTgt spid="416"/>
                          </p:tgtEl>
                        </p:cond>
                      </p:stCondLst>
                      <p:childTnLst>
                        <p:par>
                          <p:cTn id="1611" fill="hold">
                            <p:stCondLst>
                              <p:cond delay="0"/>
                            </p:stCondLst>
                            <p:childTnLst>
                              <p:par>
                                <p:cTn id="161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j0074852.wav"/>
                                        </p:tgtEl>
                                      </p:cMediaNode>
                                    </p:audio>
                                    <p:animMotion origin="layout" path="M -0.26579 -0.36041 C -0.26562 -0.34699 -0.28107 -0.2162 -0.25572 -0.16712 C -0.25381 -0.15902 -0.25034 -0.15254 -0.24739 -0.1449 C -0.246 -0.13449 -0.24479 -0.128 -0.23906 -0.12037 C -0.23663 -0.11018 -0.23263 -0.09976 -0.22586 -0.09374 C -0.21163 -0.06597 -0.19444 -0.04606 -0.17239 -0.02939 C -0.16562 -0.0243 -0.15781 -0.02268 -0.15086 -0.01828 C -0.14479 -0.01435 -0.13836 -0.01319 -0.13246 -0.00925 C -0.12152 -0.00185 -0.13402 -0.00694 -0.12083 -0.00277 C -0.0644 0.03588 -0.11666 0.00186 0.05417 0.00186 E">
                                      <p:cBhvr>
                                        <p:cTn id="1613" dur="2000" fill="hold"/>
                                        <p:tgtEl>
                                          <p:spTgt spid="4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14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615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16" restart="whenNotActive" nodeType="interactiveSeq" fill="hold">
                <p:stCondLst>
                  <p:cond evt="onClick">
                    <p:tgtEl>
                      <p:spTgt spid="417"/>
                    </p:tgtEl>
                  </p:cond>
                </p:stCondLst>
                <p:childTnLst>
                  <p:par>
                    <p:cTn id="1617" fill="hold">
                      <p:stCondLst>
                        <p:cond evt="onClick">
                          <p:tgtEl>
                            <p:spTgt spid="417"/>
                          </p:tgtEl>
                        </p:cond>
                      </p:stCondLst>
                      <p:childTnLst>
                        <p:par>
                          <p:cTn id="1618" fill="hold">
                            <p:stCondLst>
                              <p:cond delay="0"/>
                            </p:stCondLst>
                            <p:childTnLst>
                              <p:par>
                                <p:cTn id="161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j0074852.wav"/>
                                        </p:tgtEl>
                                      </p:cMediaNode>
                                    </p:audio>
                                    <p:animMotion origin="layout" path="M -0.32951 -0.43703 C -0.34409 -0.39837 -0.33767 -0.29166 -0.33784 -0.28587 C -0.33611 -0.23587 -0.33524 -0.18981 -0.32621 -0.14143 C -0.32517 -0.13564 -0.32152 -0.13124 -0.31944 -0.12592 C -0.31198 -0.1074 -0.3059 -0.08865 -0.29791 -0.07036 C -0.28906 -0.04999 -0.27621 -0.02036 -0.25781 -0.01273 C -0.24965 -0.00439 -0.23941 -0.00069 -0.23125 0.00741 C -0.22899 0.00973 -0.22708 0.01251 -0.22448 0.01413 C -0.22239 0.01551 -0.22013 0.01528 -0.21788 0.01621 C -0.21614 0.0169 -0.21441 0.01737 -0.21284 0.01852 C -0.19722 0.02894 -0.22309 0.01598 -0.19791 0.02732 C -0.19618 0.02801 -0.19288 0.02964 -0.19288 0.02964 C -0.17569 0.02894 -0.15833 0.02871 -0.14114 0.02732 C -0.13125 0.02663 -0.12378 0.02107 -0.11284 0.02061 C -0.08576 0.01945 -0.0585 0.01922 -0.03125 0.01852 C -0.01024 0.01436 0.01094 0.01251 0.03212 0.0095 C 0.03837 0.00764 0.04445 0.00579 0.05052 0.00301 C 0.05382 0.00163 0.06042 -0.00161 0.06042 -0.00161 C 0.06285 -0.00462 0.06563 -0.01273 0.06875 -0.01273 E">
                                      <p:cBhvr>
                                        <p:cTn id="1620" dur="2000" fill="hold"/>
                                        <p:tgtEl>
                                          <p:spTgt spid="4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21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622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23" restart="whenNotActive" nodeType="interactiveSeq" fill="hold">
                <p:stCondLst>
                  <p:cond evt="onClick">
                    <p:tgtEl>
                      <p:spTgt spid="418"/>
                    </p:tgtEl>
                  </p:cond>
                </p:stCondLst>
                <p:childTnLst>
                  <p:par>
                    <p:cTn id="1624" fill="hold">
                      <p:stCondLst>
                        <p:cond evt="onClick">
                          <p:tgtEl>
                            <p:spTgt spid="418"/>
                          </p:tgtEl>
                        </p:cond>
                      </p:stCondLst>
                      <p:childTnLst>
                        <p:par>
                          <p:cTn id="1625" fill="hold">
                            <p:stCondLst>
                              <p:cond delay="0"/>
                            </p:stCondLst>
                            <p:childTnLst>
                              <p:par>
                                <p:cTn id="162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j0074852.wav"/>
                                        </p:tgtEl>
                                      </p:cMediaNode>
                                    </p:audio>
                                    <p:animMotion origin="layout" path="M -0.3783 -0.5581 C -0.37534 -0.49028 -0.37812 -0.42222 -0.375 -0.3544 C -0.37465 -0.34792 -0.36961 -0.34306 -0.3684 -0.33681 C -0.36527 -0.32083 -0.36059 -0.30671 -0.35503 -0.2919 C -0.35208 -0.2838 -0.35121 -0.27315 -0.34826 -0.26482 C -0.3408 -0.24491 -0.34357 -0.25833 -0.33663 -0.24259 C -0.32413 -0.21343 -0.30573 -0.17222 -0.28333 -0.15532 C -0.26076 -0.13843 -0.2875 -0.16204 -0.26857 -0.14653 C -0.25416 -0.13495 -0.26354 -0.13958 -0.2533 -0.13519 C -0.24392 -0.12662 -0.25034 -0.13148 -0.2335 -0.12407 C -0.19722 -0.10833 -0.15104 -0.06713 -0.10833 -0.05232 C -0.10086 -0.04583 -0.09305 -0.04653 -0.08524 -0.0412 C -0.075 -0.03403 -0.06319 -0.02847 -0.05173 -0.02546 C -0.03645 -0.01551 -0.01857 -0.01921 -0.00173 -0.01667 C 0.01407 -0.01134 0.03039 -0.00926 0.0467 -0.00764 C 0.05209 -0.00509 0.05 -0.00556 0.05313 -0.00556 E">
                                      <p:cBhvr>
                                        <p:cTn id="1627" dur="2000" fill="hold"/>
                                        <p:tgtEl>
                                          <p:spTgt spid="4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28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629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21" name=""/>
            <p:cNvSpPr/>
            <p:nvPr/>
          </p:nvSpPr>
          <p:spPr>
            <a:xfrm>
              <a:off x="0" y="0"/>
              <a:ext cx="9144000" cy="6858000"/>
            </a:xfrm>
            <a:prstGeom prst="roundRect">
              <a:avLst>
                <a:gd name="adj" fmla="val 33449"/>
              </a:avLst>
            </a:prstGeom>
            <a:solidFill>
              <a:srgbClr val="c0c0c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981080" y="1676520"/>
              <a:ext cx="4876920" cy="3352680"/>
            </a:xfrm>
            <a:prstGeom prst="roundRect">
              <a:avLst>
                <a:gd name="adj" fmla="val 33449"/>
              </a:avLst>
            </a:prstGeom>
            <a:gradFill rotWithShape="0">
              <a:gsLst>
                <a:gs pos="0">
                  <a:srgbClr val="008000"/>
                </a:gs>
                <a:gs pos="50000">
                  <a:srgbClr val="009900"/>
                </a:gs>
                <a:gs pos="100000">
                  <a:srgbClr val="008000"/>
                </a:gs>
              </a:gsLst>
              <a:lin ang="135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990720" y="762120"/>
              <a:ext cx="6781680" cy="5105160"/>
            </a:xfrm>
            <a:prstGeom prst="roundRect">
              <a:avLst>
                <a:gd name="adj" fmla="val 33449"/>
              </a:avLst>
            </a:prstGeom>
            <a:noFill/>
            <a:ln w="572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4343400" y="502920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" descr=""/>
          <p:cNvPicPr/>
          <p:nvPr/>
        </p:nvPicPr>
        <p:blipFill>
          <a:blip r:embed="rId1"/>
          <a:stretch/>
        </p:blipFill>
        <p:spPr>
          <a:xfrm>
            <a:off x="3286080" y="5011560"/>
            <a:ext cx="914400" cy="398520"/>
          </a:xfrm>
          <a:prstGeom prst="rect">
            <a:avLst/>
          </a:prstGeom>
          <a:ln w="0">
            <a:noFill/>
          </a:ln>
        </p:spPr>
      </p:pic>
      <p:pic>
        <p:nvPicPr>
          <p:cNvPr id="426" name="" descr=""/>
          <p:cNvPicPr/>
          <p:nvPr/>
        </p:nvPicPr>
        <p:blipFill>
          <a:blip r:embed="rId2"/>
          <a:stretch/>
        </p:blipFill>
        <p:spPr>
          <a:xfrm>
            <a:off x="3286080" y="5475240"/>
            <a:ext cx="914400" cy="392040"/>
          </a:xfrm>
          <a:prstGeom prst="rect">
            <a:avLst/>
          </a:prstGeom>
          <a:ln w="0">
            <a:noFill/>
          </a:ln>
        </p:spPr>
      </p:pic>
      <p:pic>
        <p:nvPicPr>
          <p:cNvPr id="427" name="" descr=""/>
          <p:cNvPicPr/>
          <p:nvPr/>
        </p:nvPicPr>
        <p:blipFill>
          <a:blip r:embed="rId3"/>
          <a:stretch/>
        </p:blipFill>
        <p:spPr>
          <a:xfrm>
            <a:off x="3276720" y="5992920"/>
            <a:ext cx="923760" cy="407880"/>
          </a:xfrm>
          <a:prstGeom prst="rect">
            <a:avLst/>
          </a:prstGeom>
          <a:ln w="0">
            <a:noFill/>
          </a:ln>
        </p:spPr>
      </p:pic>
      <p:pic>
        <p:nvPicPr>
          <p:cNvPr id="428" name="" descr=""/>
          <p:cNvPicPr/>
          <p:nvPr/>
        </p:nvPicPr>
        <p:blipFill>
          <a:blip r:embed="rId4"/>
          <a:stretch/>
        </p:blipFill>
        <p:spPr>
          <a:xfrm>
            <a:off x="3286080" y="6470640"/>
            <a:ext cx="914400" cy="38736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/>
          <p:nvPr/>
        </p:nvSpPr>
        <p:spPr>
          <a:xfrm>
            <a:off x="3200400" y="5105520"/>
            <a:ext cx="990720" cy="30456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276720" y="5562720"/>
            <a:ext cx="990360" cy="30456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3276720" y="6019920"/>
            <a:ext cx="990360" cy="3808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3276720" y="6553080"/>
            <a:ext cx="990360" cy="30492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7010280" y="2971800"/>
            <a:ext cx="53352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7772400" y="2971800"/>
            <a:ext cx="53352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7620120" y="3733920"/>
            <a:ext cx="53316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8381880" y="2743200"/>
            <a:ext cx="53352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4114800" y="457200"/>
            <a:ext cx="609480" cy="3808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4267080" y="1143000"/>
            <a:ext cx="609840" cy="3808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4343400" y="0"/>
            <a:ext cx="609480" cy="3808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4191120" y="838080"/>
            <a:ext cx="609480" cy="30492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1523880" y="3048120"/>
            <a:ext cx="60984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990720" y="2819520"/>
            <a:ext cx="60948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80880" y="2819520"/>
            <a:ext cx="60984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0" y="2438280"/>
            <a:ext cx="609480" cy="60984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30" dur="indefinite" restart="never" nodeType="tmRoot">
          <p:childTnLst>
            <p:seq>
              <p:cTn id="1631" restart="whenNotActive" nodeType="interactiveSeq" fill="hold">
                <p:stCondLst>
                  <p:cond evt="onClick">
                    <p:tgtEl>
                      <p:spTgt spid="429"/>
                    </p:tgtEl>
                  </p:cond>
                </p:stCondLst>
                <p:childTnLst>
                  <p:par>
                    <p:cTn id="1632" fill="hold">
                      <p:stCondLst>
                        <p:cond evt="onClick">
                          <p:tgtEl>
                            <p:spTgt spid="429"/>
                          </p:tgtEl>
                        </p:cond>
                      </p:stCondLst>
                      <p:childTnLst>
                        <p:par>
                          <p:cTn id="1633" fill="hold">
                            <p:stCondLst>
                              <p:cond delay="0"/>
                            </p:stCondLst>
                            <p:childTnLst>
                              <p:par>
                                <p:cTn id="163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j0074852.wav"/>
                                        </p:tgtEl>
                                      </p:cMediaNode>
                                    </p:audio>
                                    <p:animMotion origin="layout" path="M 0.0573 -0.00046 C 0.11181 -0.00162 0.33004 0.03403 0.3849 -0.00764 C 0.43976 -0.0493 0.3856 -0.20694 0.38664 -0.25 C 0.38768 -0.29305 0.38959 -0.2794 0.39167 -0.26551 E">
                                      <p:cBhvr>
                                        <p:cTn id="1635" dur="2000" fill="hold"/>
                                        <p:tgtEl>
                                          <p:spTgt spid="4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36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5400000">
                                      <p:cBhvr>
                                        <p:cTn id="1637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38" restart="whenNotActive" nodeType="interactiveSeq" fill="hold">
                <p:stCondLst>
                  <p:cond evt="onClick">
                    <p:tgtEl>
                      <p:spTgt spid="430"/>
                    </p:tgtEl>
                  </p:cond>
                </p:stCondLst>
                <p:childTnLst>
                  <p:par>
                    <p:cTn id="1639" fill="hold">
                      <p:stCondLst>
                        <p:cond evt="onClick">
                          <p:tgtEl>
                            <p:spTgt spid="430"/>
                          </p:tgtEl>
                        </p:cond>
                      </p:stCondLst>
                      <p:childTnLst>
                        <p:par>
                          <p:cTn id="1640" fill="hold">
                            <p:stCondLst>
                              <p:cond delay="0"/>
                            </p:stCondLst>
                            <p:childTnLst>
                              <p:par>
                                <p:cTn id="164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j0074852.wav"/>
                                        </p:tgtEl>
                                      </p:cMediaNode>
                                    </p:audio>
                                    <p:animMotion origin="layout" path="M 0.05504 0.00116 C 0.10973 0.00046 0.17049 0.02824 0.21927 -0.00856 C 0.22466 -0.0125 0.22691 -0.01782 0.23264 -0.02106 C 0.23941 -0.03055 0.24723 -0.03912 0.25625 -0.04329 C 0.26407 -0.05139 0.2698 -0.05463 0.27795 -0.06088 C 0.28507 -0.06597 0.29028 -0.07616 0.29636 -0.0831 C 0.29948 -0.0868 0.30365 -0.08866 0.30643 -0.09305 C 0.31198 -0.10116 0.31389 -0.10926 0.32153 -0.11296 C 0.32969 -0.13148 0.34289 -0.14768 0.35504 -0.16018 C 0.35938 -0.16458 0.36407 -0.16852 0.36858 -0.17268 C 0.37275 -0.17662 0.38195 -0.18241 0.38195 -0.18217 C 0.38976 -0.19421 0.38507 -0.18819 0.39705 -0.19977 C 0.39879 -0.20139 0.40035 -0.20324 0.40209 -0.20486 C 0.40382 -0.20648 0.40712 -0.20995 0.40712 -0.20972 C 0.41164 -0.22014 0.4191 -0.22477 0.42552 -0.23217 C 0.43594 -0.24467 0.44618 -0.25856 0.45747 -0.26944 C 0.475 -0.30903 0.47084 -0.31041 0.47084 -0.37129 E">
                                      <p:cBhvr>
                                        <p:cTn id="1642" dur="2000" fill="hold"/>
                                        <p:tgtEl>
                                          <p:spTgt spid="4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43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5400000">
                                      <p:cBhvr>
                                        <p:cTn id="1644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45" restart="whenNotActive" nodeType="interactiveSeq" fill="hold">
                <p:stCondLst>
                  <p:cond evt="onClick">
                    <p:tgtEl>
                      <p:spTgt spid="431"/>
                    </p:tgtEl>
                  </p:cond>
                </p:stCondLst>
                <p:childTnLst>
                  <p:par>
                    <p:cTn id="1646" fill="hold">
                      <p:stCondLst>
                        <p:cond evt="onClick">
                          <p:tgtEl>
                            <p:spTgt spid="431"/>
                          </p:tgtEl>
                        </p:cond>
                      </p:stCondLst>
                      <p:childTnLst>
                        <p:par>
                          <p:cTn id="1647" fill="hold">
                            <p:stCondLst>
                              <p:cond delay="0"/>
                            </p:stCondLst>
                            <p:childTnLst>
                              <p:par>
                                <p:cTn id="164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j0074852.wav"/>
                                        </p:tgtEl>
                                      </p:cMediaNode>
                                    </p:audio>
                                    <p:animMotion origin="layout" path="M 0.06858 -0.01366 C 0.13681 -0.01481 0.20712 -0.0162 0.27553 -0.02338 C 0.2816 -0.02546 0.28785 -0.02592 0.29393 -0.02801 C 0.30521 -0.03217 0.31598 -0.04097 0.32726 -0.0456 C 0.33421 -0.05231 0.34237 -0.06018 0.35053 -0.06342 C 0.36459 -0.07569 0.38091 -0.08379 0.39549 -0.09467 C 0.41407 -0.10833 0.43125 -0.12523 0.44879 -0.1412 C 0.45469 -0.15254 0.46146 -0.16296 0.46719 -0.17453 C 0.4724 -0.18518 0.47309 -0.20231 0.47553 -0.21458 C 0.475 -0.2331 0.47518 -0.25162 0.47379 -0.27014 C 0.47292 -0.28217 0.4625 -0.30486 0.45556 -0.31227 C 0.43507 -0.33379 0.46407 -0.29653 0.44723 -0.31898 E">
                                      <p:cBhvr>
                                        <p:cTn id="1649" dur="2000" fill="hold"/>
                                        <p:tgtEl>
                                          <p:spTgt spid="4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50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5400000">
                                      <p:cBhvr>
                                        <p:cTn id="1651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52" restart="whenNotActive" nodeType="interactiveSeq" fill="hold">
                <p:stCondLst>
                  <p:cond evt="onClick">
                    <p:tgtEl>
                      <p:spTgt spid="432"/>
                    </p:tgtEl>
                  </p:cond>
                </p:stCondLst>
                <p:childTnLst>
                  <p:par>
                    <p:cTn id="1653" fill="hold">
                      <p:stCondLst>
                        <p:cond evt="onClick">
                          <p:tgtEl>
                            <p:spTgt spid="432"/>
                          </p:tgtEl>
                        </p:cond>
                      </p:stCondLst>
                      <p:childTnLst>
                        <p:par>
                          <p:cTn id="1654" fill="hold">
                            <p:stCondLst>
                              <p:cond delay="0"/>
                            </p:stCondLst>
                            <p:childTnLst>
                              <p:par>
                                <p:cTn id="16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j0074852.wav"/>
                                        </p:tgtEl>
                                      </p:cMediaNode>
                                    </p:audio>
                                    <p:animMotion origin="layout" path="M 0.05417 -0.00509 C 0.06007 -0.00394 0.07709 -0.00162 0.09028 -0.00046 C 0.10348 0.00069 0.11563 0.00231 0.13334 0.00162 C 0.16511 -0.00324 0.1408 0.00023 0.19671 -0.00509 C 0.20452 -0.00579 0.21997 -0.00741 0.21997 -0.00718 C 0.24271 -0.01204 0.26563 -0.01204 0.28837 -0.0162 C 0.304 -0.01921 0.28941 -0.01736 0.30504 -0.02292 C 0.31719 -0.02732 0.33091 -0.02778 0.34341 -0.02963 C 0.35296 -0.03264 0.36025 -0.03843 0.36997 -0.04074 C 0.38091 -0.04792 0.39323 -0.05347 0.40504 -0.05833 C 0.41233 -0.06505 0.41962 -0.07153 0.42674 -0.07847 C 0.4408 -0.09236 0.43126 -0.0875 0.44167 -0.09167 C 0.44966 -0.10278 0.43907 -0.08912 0.45174 -0.1007 C 0.45834 -0.10671 0.46823 -0.12153 0.47674 -0.125 C 0.47969 -0.1375 0.48941 -0.14421 0.49671 -0.15185 C 0.50382 -0.15926 0.50712 -0.17014 0.51337 -0.17847 C 0.51771 -0.19722 0.51146 -0.17431 0.51841 -0.18958 C 0.52101 -0.19514 0.52275 -0.20139 0.52501 -0.20741 C 0.52674 -0.21204 0.5316 -0.2206 0.5316 -0.22037 C 0.55608 -0.34745 0.53994 -0.20093 0.53994 -0.54282 E">
                                      <p:cBhvr>
                                        <p:cTn id="1656" dur="2000" fill="hold"/>
                                        <p:tgtEl>
                                          <p:spTgt spid="4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57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5400000">
                                      <p:cBhvr>
                                        <p:cTn id="1658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59" restart="whenNotActive" nodeType="interactiveSeq" fill="hold">
                <p:stCondLst>
                  <p:cond evt="onClick">
                    <p:tgtEl>
                      <p:spTgt spid="433"/>
                    </p:tgtEl>
                  </p:cond>
                </p:stCondLst>
                <p:childTnLst>
                  <p:par>
                    <p:cTn id="1660" fill="hold">
                      <p:stCondLst>
                        <p:cond evt="onClick">
                          <p:tgtEl>
                            <p:spTgt spid="433"/>
                          </p:tgtEl>
                        </p:cond>
                      </p:stCondLst>
                      <p:childTnLst>
                        <p:par>
                          <p:cTn id="1661" fill="hold">
                            <p:stCondLst>
                              <p:cond delay="0"/>
                            </p:stCondLst>
                            <p:childTnLst>
                              <p:par>
                                <p:cTn id="166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j0074852.wav"/>
                                        </p:tgtEl>
                                      </p:cMediaNode>
                                    </p:audio>
                                    <p:animMotion origin="layout" path="M 0.39167 -0.29305 C 0.39237 -0.33657 0.38664 -0.38889 0.39844 -0.43287 C 0.39757 -0.46366 0.40296 -0.48241 0.39167 -0.50416 C 0.38837 -0.51991 0.38403 -0.52893 0.37848 -0.54398 C 0.37674 -0.54838 0.37119 -0.54907 0.36841 -0.55069 C 0.35886 -0.55602 0.35105 -0.56805 0.34011 -0.56852 C 0.30296 -0.56991 0.26563 -0.57014 0.22848 -0.57083 C 0.22032 -0.57291 0.21719 -0.575 0.21007 -0.57963 C 0.20573 -0.58241 0.20087 -0.58333 0.19671 -0.58634 C 0.18976 -0.59143 0.18403 -0.59768 0.17674 -0.60185 C 0.17466 -0.60301 0.16546 -0.60555 0.16337 -0.60625 C 0.15313 -0.61018 0.1474 -0.61319 0.13681 -0.61528 C 0.12744 -0.62338 0.11563 -0.62592 0.10504 -0.63078 C 0.10278 -0.6331 0.10035 -0.63495 0.09844 -0.6375 C 0.09705 -0.63935 0.09671 -0.64236 0.09513 -0.64398 C 0.09376 -0.64537 0.09323 -0.6493 0.09167 -0.65046 C 0.0882 -0.65301 0.08525 -0.65486 0.08195 -0.65787 C 0.08039 -0.65926 0.08264 -0.65509 0.07501 -0.65717 E">
                                      <p:cBhvr>
                                        <p:cTn id="1663" dur="2000" fill="hold"/>
                                        <p:tgtEl>
                                          <p:spTgt spid="4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64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665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66" restart="whenNotActive" nodeType="interactiveSeq" fill="hold">
                <p:stCondLst>
                  <p:cond evt="onClick">
                    <p:tgtEl>
                      <p:spTgt spid="434"/>
                    </p:tgtEl>
                  </p:cond>
                </p:stCondLst>
                <p:childTnLst>
                  <p:par>
                    <p:cTn id="1667" fill="hold">
                      <p:stCondLst>
                        <p:cond evt="onClick">
                          <p:tgtEl>
                            <p:spTgt spid="434"/>
                          </p:tgtEl>
                        </p:cond>
                      </p:stCondLst>
                      <p:childTnLst>
                        <p:par>
                          <p:cTn id="1668" fill="hold">
                            <p:stCondLst>
                              <p:cond delay="0"/>
                            </p:stCondLst>
                            <p:childTnLst>
                              <p:par>
                                <p:cTn id="166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j0074852.wav"/>
                                        </p:tgtEl>
                                      </p:cMediaNode>
                                    </p:audio>
                                    <p:animMotion origin="layout" path="M 0.47084 -0.37129 C 0.4724 -0.44166 0.48525 -0.53009 0.45417 -0.59352 C 0.45139 -0.60972 0.45469 -0.5956 0.44914 -0.60903 C 0.43716 -0.63842 0.43004 -0.65833 0.40417 -0.66898 C 0.39827 -0.67731 0.404 -0.67106 0.39428 -0.67569 C 0.38317 -0.68102 0.38577 -0.68403 0.37257 -0.6868 C 0.32639 -0.68518 0.32674 -0.68541 0.29584 -0.68009 C 0.27362 -0.66829 0.25157 -0.65648 0.22917 -0.64467 C 0.21806 -0.63889 0.20469 -0.6294 0.19254 -0.62916 C 0.15591 -0.62847 0.1191 -0.62916 0.08247 -0.62916 E">
                                      <p:cBhvr>
                                        <p:cTn id="1670" dur="2000" fill="hold"/>
                                        <p:tgtEl>
                                          <p:spTgt spid="4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71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672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73" restart="whenNotActive" nodeType="interactiveSeq" fill="hold">
                <p:stCondLst>
                  <p:cond evt="onClick">
                    <p:tgtEl>
                      <p:spTgt spid="435"/>
                    </p:tgtEl>
                  </p:cond>
                </p:stCondLst>
                <p:childTnLst>
                  <p:par>
                    <p:cTn id="1674" fill="hold">
                      <p:stCondLst>
                        <p:cond evt="onClick">
                          <p:tgtEl>
                            <p:spTgt spid="435"/>
                          </p:tgtEl>
                        </p:cond>
                      </p:stCondLst>
                      <p:childTnLst>
                        <p:par>
                          <p:cTn id="1675" fill="hold">
                            <p:stCondLst>
                              <p:cond delay="0"/>
                            </p:stCondLst>
                            <p:childTnLst>
                              <p:par>
                                <p:cTn id="167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j0074852.wav"/>
                                        </p:tgtEl>
                                      </p:cMediaNode>
                                    </p:audio>
                                    <p:animMotion origin="layout" path="M 0.44723 -0.31898 C 0.44132 -0.32685 0.44427 -0.32152 0.44046 -0.3368 C 0.43941 -0.3412 0.43716 -0.35023 0.43716 -0.35023 C 0.43872 -0.39004 0.43455 -0.41157 0.46216 -0.43032 C 0.46823 -0.43865 0.47743 -0.44027 0.48386 -0.44791 C 0.49671 -0.46342 0.50521 -0.47939 0.51042 -0.50138 C 0.51302 -0.52731 0.51719 -0.55231 0.50209 -0.57245 C 0.50157 -0.57546 0.50191 -0.57916 0.50052 -0.58125 C 0.49983 -0.58263 0.48907 -0.58564 0.48889 -0.58564 C 0.47639 -0.59027 0.46771 -0.59097 0.45382 -0.59236 C 0.43855 -0.59583 0.43629 -0.60254 0.42379 -0.6125 C 0.42275 -0.61551 0.42223 -0.61898 0.42049 -0.62129 C 0.41927 -0.62291 0.41667 -0.62199 0.41546 -0.62361 C 0.41372 -0.62592 0.41355 -0.62963 0.41216 -0.6324 C 0.40921 -0.63796 0.40625 -0.64004 0.40209 -0.64351 C 0.39948 -0.64884 0.39618 -0.65347 0.39375 -0.65902 C 0.39289 -0.66111 0.39289 -0.66365 0.39219 -0.66574 C 0.38941 -0.67338 0.38559 -0.68101 0.38212 -0.68796 C 0.37709 -0.70995 0.37171 -0.73611 0.35886 -0.75231 C 0.35504 -0.76713 0.36007 -0.74976 0.35209 -0.76805 C 0.34966 -0.77361 0.34896 -0.78125 0.34549 -0.78564 C 0.33629 -0.79791 0.32691 -0.81481 0.31389 -0.81898 C 0.31059 -0.82199 0.30764 -0.82638 0.30382 -0.82801 C 0.29792 -0.83055 0.2908 -0.83287 0.28542 -0.8368 C 0.2783 -0.84213 0.27014 -0.85138 0.26216 -0.85463 C 0.24584 -0.86134 0.22743 -0.86319 0.21042 -0.86574 C 0.19514 -0.87106 0.21355 -0.86527 0.18542 -0.87013 C 0.17396 -0.87222 0.16181 -0.87685 0.15052 -0.87916 C 0.13021 -0.8831 0.10938 -0.87916 0.08889 -0.87916 E">
                                      <p:cBhvr>
                                        <p:cTn id="1677" dur="2000" fill="hold"/>
                                        <p:tgtEl>
                                          <p:spTgt spid="4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78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679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80" restart="whenNotActive" nodeType="interactiveSeq" fill="hold">
                <p:stCondLst>
                  <p:cond evt="onClick">
                    <p:tgtEl>
                      <p:spTgt spid="436"/>
                    </p:tgtEl>
                  </p:cond>
                </p:stCondLst>
                <p:childTnLst>
                  <p:par>
                    <p:cTn id="1681" fill="hold">
                      <p:stCondLst>
                        <p:cond evt="onClick">
                          <p:tgtEl>
                            <p:spTgt spid="436"/>
                          </p:tgtEl>
                        </p:cond>
                      </p:stCondLst>
                      <p:childTnLst>
                        <p:par>
                          <p:cTn id="1682" fill="hold">
                            <p:stCondLst>
                              <p:cond delay="0"/>
                            </p:stCondLst>
                            <p:childTnLst>
                              <p:par>
                                <p:cTn id="168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j0074852.wav"/>
                                        </p:tgtEl>
                                      </p:cMediaNode>
                                    </p:audio>
                                    <p:animMotion origin="layout" path="M 0.53993 -0.54283 C 0.53924 -0.58334 0.54323 -0.64908 0.52483 -0.68959 C 0.52274 -0.71065 0.51754 -0.72986 0.51163 -0.74954 C 0.50816 -0.76088 0.50642 -0.77431 0.50156 -0.78496 C 0.49965 -0.78889 0.49688 -0.79213 0.49497 -0.79607 C 0.49149 -0.81389 0.49636 -0.79699 0.48663 -0.81181 C 0.47674 -0.82709 0.49063 -0.81574 0.47656 -0.825 C 0.47153 -0.83426 0.46684 -0.8463 0.4599 -0.85394 C 0.45295 -0.86158 0.45712 -0.85556 0.44983 -0.86065 C 0.4467 -0.86274 0.44479 -0.86783 0.44149 -0.86945 C 0.43663 -0.87199 0.42708 -0.87431 0.42153 -0.87616 C 0.41823 -0.87709 0.41493 -0.87778 0.41163 -0.87848 C 0.40434 -0.8801 0.38993 -0.88287 0.38993 -0.88287 C 0.37986 -0.88704 0.37031 -0.88982 0.3599 -0.89167 C 0.33767 -0.90186 0.30799 -0.90486 0.2849 -0.90718 C 0.26997 -0.90649 0.25486 -0.90672 0.23993 -0.9051 C 0.23038 -0.90394 0.22118 -0.89977 0.21163 -0.89838 C 0.19948 -0.89306 0.20504 -0.89514 0.19497 -0.89167 C 0.18507 -0.88311 0.18281 -0.88125 0.17153 -0.87848 C 0.16597 -0.87454 0.16024 -0.87315 0.15486 -0.86945 C 0.1434 -0.86181 0.1559 -0.8676 0.14497 -0.86274 C 0.13993 -0.86042 0.12986 -0.85625 0.12986 -0.85625 C 0.12396 -0.84792 0.12969 -0.85417 0.11997 -0.84954 C 0.10243 -0.84098 0.09219 -0.83403 0.07326 -0.83403 E">
                                      <p:cBhvr>
                                        <p:cTn id="1684" dur="2000" fill="hold"/>
                                        <p:tgtEl>
                                          <p:spTgt spid="4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85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686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87" restart="whenNotActive" nodeType="interactiveSeq" fill="hold">
                <p:stCondLst>
                  <p:cond evt="onClick">
                    <p:tgtEl>
                      <p:spTgt spid="437"/>
                    </p:tgtEl>
                  </p:cond>
                </p:stCondLst>
                <p:childTnLst>
                  <p:par>
                    <p:cTn id="1688" fill="hold">
                      <p:stCondLst>
                        <p:cond evt="onClick">
                          <p:tgtEl>
                            <p:spTgt spid="437"/>
                          </p:tgtEl>
                        </p:cond>
                      </p:stCondLst>
                      <p:childTnLst>
                        <p:par>
                          <p:cTn id="1689" fill="hold">
                            <p:stCondLst>
                              <p:cond delay="0"/>
                            </p:stCondLst>
                            <p:childTnLst>
                              <p:par>
                                <p:cTn id="169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j0074852.wav"/>
                                        </p:tgtEl>
                                      </p:cMediaNode>
                                    </p:audio>
                                    <p:animMotion origin="layout" path="M 0.07396 -0.65879 C 0.04757 -0.65463 0.05521 -0.66666 0.00452 -0.66991 C -0.01822 -0.67315 -0.04045 -0.66018 -0.06371 -0.6618 C -0.12674 -0.66088 -0.19289 -0.68009 -0.2533 -0.65509 C -0.25365 -0.65463 -0.26216 -0.64653 -0.26337 -0.64398 C -0.27084 -0.62731 -0.27657 -0.60856 -0.2816 -0.59051 C -0.28299 -0.58541 -0.28386 -0.58009 -0.2849 -0.575 C -0.28612 -0.56898 -0.28837 -0.55717 -0.28837 -0.55694 C -0.2908 -0.52384 -0.29428 -0.48842 -0.28004 -0.45949 C -0.27761 -0.44676 -0.27257 -0.44004 -0.26667 -0.43055 C -0.26546 -0.42847 -0.26424 -0.42616 -0.26337 -0.42384 C -0.26268 -0.42176 -0.26268 -0.41921 -0.26164 -0.41736 C -0.25747 -0.41041 -0.25278 -0.40393 -0.24827 -0.39722 C -0.2441 -0.39097 -0.23941 -0.38541 -0.2349 -0.3794 C -0.23334 -0.37731 -0.23004 -0.37291 -0.23004 -0.37268 C -0.2283 -0.3662 -0.22726 -0.35926 -0.225 -0.35278 C -0.22414 -0.35046 -0.22257 -0.34861 -0.22171 -0.34606 C -0.22032 -0.3419 -0.21823 -0.33287 -0.21823 -0.33264 C -0.21771 -0.32778 -0.21737 -0.32245 -0.21667 -0.31736 C -0.21546 -0.30856 -0.2099 -0.2993 -0.2099 -0.29051 C -0.2099 -0.28171 -0.2099 -0.27268 -0.2099 -0.26389 E">
                                      <p:cBhvr>
                                        <p:cTn id="1691" dur="2000" fill="hold"/>
                                        <p:tgtEl>
                                          <p:spTgt spid="4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92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693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94" restart="whenNotActive" nodeType="interactiveSeq" fill="hold">
                <p:stCondLst>
                  <p:cond evt="onClick">
                    <p:tgtEl>
                      <p:spTgt spid="438"/>
                    </p:tgtEl>
                  </p:cond>
                </p:stCondLst>
                <p:childTnLst>
                  <p:par>
                    <p:cTn id="1695" fill="hold">
                      <p:stCondLst>
                        <p:cond evt="onClick">
                          <p:tgtEl>
                            <p:spTgt spid="438"/>
                          </p:tgtEl>
                        </p:cond>
                      </p:stCondLst>
                      <p:childTnLst>
                        <p:par>
                          <p:cTn id="1696" fill="hold">
                            <p:stCondLst>
                              <p:cond delay="0"/>
                            </p:stCondLst>
                            <p:childTnLst>
                              <p:par>
                                <p:cTn id="169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j0074852.wav"/>
                                        </p:tgtEl>
                                      </p:cMediaNode>
                                    </p:audio>
                                    <p:animMotion origin="layout" path="M 0.08247 -0.62917 C 0.07587 -0.62986 0.0691 -0.62986 0.06251 -0.63148 C 0.05678 -0.63287 0.05018 -0.63843 0.04428 -0.64028 C 0.03594 -0.65093 0.02674 -0.65139 0.01754 -0.6581 C 0.00139 -0.66991 0.01407 -0.66505 -0.00086 -0.66921 C -0.00815 -0.6757 -0.01562 -0.67801 -0.02413 -0.68033 C -0.03229 -0.68588 -0.0401 -0.69121 -0.04913 -0.69375 C -0.05885 -0.70023 -0.06874 -0.70301 -0.07916 -0.70695 C -0.08836 -0.71042 -0.0802 -0.70764 -0.08906 -0.71366 C -0.09392 -0.7169 -0.10034 -0.71829 -0.10572 -0.72037 C -0.12847 -0.72894 -0.1526 -0.73125 -0.17586 -0.73588 C -0.21041 -0.74283 -0.24427 -0.75185 -0.27916 -0.75579 C -0.28854 -0.75509 -0.29808 -0.75556 -0.30746 -0.75371 C -0.31545 -0.75208 -0.31909 -0.7382 -0.32413 -0.73148 C -0.32552 -0.72963 -0.3276 -0.72871 -0.32916 -0.72708 C -0.33038 -0.7257 -0.33142 -0.72408 -0.33246 -0.72246 C -0.33454 -0.71435 -0.33732 -0.70741 -0.34079 -0.70023 C -0.34357 -0.68634 -0.34583 -0.67222 -0.34739 -0.6581 C -0.346 -0.64306 -0.34548 -0.6375 -0.34079 -0.62477 C -0.3394 -0.61111 -0.33749 -0.59583 -0.3342 -0.58264 C -0.33124 -0.5706 -0.32499 -0.5625 -0.32083 -0.55139 C -0.31527 -0.53658 -0.3092 -0.52315 -0.30243 -0.50926 C -0.29895 -0.50232 -0.29288 -0.5 -0.28906 -0.49375 C -0.28437 -0.48611 -0.28194 -0.47708 -0.27743 -0.46921 C -0.27552 -0.46134 -0.27361 -0.45046 -0.27083 -0.44259 C -0.26909 -0.43773 -0.26597 -0.43496 -0.26579 -0.42917 C -0.26527 -0.40625 -0.26579 -0.38333 -0.26579 -0.36042 E">
                                      <p:cBhvr>
                                        <p:cTn id="1698" dur="2000" fill="hold"/>
                                        <p:tgtEl>
                                          <p:spTgt spid="4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99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700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01" restart="whenNotActive" nodeType="interactiveSeq" fill="hold">
                <p:stCondLst>
                  <p:cond evt="onClick">
                    <p:tgtEl>
                      <p:spTgt spid="439"/>
                    </p:tgtEl>
                  </p:cond>
                </p:stCondLst>
                <p:childTnLst>
                  <p:par>
                    <p:cTn id="1702" fill="hold">
                      <p:stCondLst>
                        <p:cond evt="onClick">
                          <p:tgtEl>
                            <p:spTgt spid="439"/>
                          </p:tgtEl>
                        </p:cond>
                      </p:stCondLst>
                      <p:childTnLst>
                        <p:par>
                          <p:cTn id="1703" fill="hold">
                            <p:stCondLst>
                              <p:cond delay="0"/>
                            </p:stCondLst>
                            <p:childTnLst>
                              <p:par>
                                <p:cTn id="170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j0074852.wav"/>
                                        </p:tgtEl>
                                      </p:cMediaNode>
                                    </p:audio>
                                    <p:animMotion origin="layout" path="M 0.08889 -0.87917 C 0.0198 -0.87801 -0.03698 -0.88195 -0.10121 -0.87037 C -0.10312 -0.86968 -0.10468 -0.86921 -0.10625 -0.86806 C -0.10798 -0.8669 -0.10954 -0.86482 -0.11111 -0.86366 C -0.11441 -0.86181 -0.12118 -0.85926 -0.12118 -0.85926 C -0.1276 -0.85023 -0.14392 -0.84236 -0.15277 -0.83912 C -0.15816 -0.83449 -0.16441 -0.83148 -0.16944 -0.82593 C -0.18281 -0.81134 -0.19652 -0.79653 -0.20954 -0.78148 C -0.21666 -0.77315 -0.22187 -0.76158 -0.22951 -0.75463 C -0.23767 -0.73287 -0.22569 -0.76227 -0.24288 -0.73241 C -0.24739 -0.72454 -0.25104 -0.71713 -0.25625 -0.71019 C -0.25972 -0.69607 -0.25486 -0.70995 -0.26284 -0.70139 C -0.26441 -0.69977 -0.26475 -0.69653 -0.26614 -0.69468 C -0.26927 -0.69051 -0.27309 -0.68773 -0.27621 -0.68357 C -0.27882 -0.67269 -0.2809 -0.66713 -0.28611 -0.65695 C -0.28732 -0.65463 -0.28958 -0.65023 -0.28958 -0.65023 C -0.29149 -0.6419 -0.29427 -0.63519 -0.29791 -0.62801 C -0.29965 -0.6206 -0.3026 -0.61528 -0.30451 -0.6081 C -0.30555 -0.58773 -0.3059 -0.56366 -0.31111 -0.54352 C -0.31232 -0.53912 -0.31354 -0.53472 -0.31458 -0.53033 C -0.31562 -0.52593 -0.31788 -0.5169 -0.31788 -0.5169 C -0.31909 -0.5037 -0.31805 -0.49699 -0.32448 -0.48796 C -0.3302 -0.46644 -0.32951 -0.4632 -0.32951 -0.43704 E">
                                      <p:cBhvr>
                                        <p:cTn id="1705" dur="2000" fill="hold"/>
                                        <p:tgtEl>
                                          <p:spTgt spid="4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06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707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08" restart="whenNotActive" nodeType="interactiveSeq" fill="hold">
                <p:stCondLst>
                  <p:cond evt="onClick">
                    <p:tgtEl>
                      <p:spTgt spid="440"/>
                    </p:tgtEl>
                  </p:cond>
                </p:stCondLst>
                <p:childTnLst>
                  <p:par>
                    <p:cTn id="1709" fill="hold">
                      <p:stCondLst>
                        <p:cond evt="onClick">
                          <p:tgtEl>
                            <p:spTgt spid="440"/>
                          </p:tgtEl>
                        </p:cond>
                      </p:stCondLst>
                      <p:childTnLst>
                        <p:par>
                          <p:cTn id="1710" fill="hold">
                            <p:stCondLst>
                              <p:cond delay="0"/>
                            </p:stCondLst>
                            <p:childTnLst>
                              <p:par>
                                <p:cTn id="171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j0074852.wav"/>
                                        </p:tgtEl>
                                      </p:cMediaNode>
                                    </p:audio>
                                    <p:animMotion origin="layout" path="M 0.07292 -0.83472 C 0.05244 -0.83796 0.04879 -0.8537 0.0349 -0.85347 C -0.06736 -0.85208 -0.16945 -0.85208 -0.27171 -0.85139 C -0.28056 -0.84722 -0.28733 -0.84028 -0.29497 -0.83357 C -0.29983 -0.82917 -0.30157 -0.82245 -0.30678 -0.81806 C -0.30782 -0.81574 -0.30921 -0.81366 -0.31007 -0.81134 C -0.31077 -0.80926 -0.31077 -0.80671 -0.31164 -0.80463 C -0.3125 -0.80278 -0.31407 -0.80185 -0.31511 -0.80023 C -0.32014 -0.7919 -0.32639 -0.78079 -0.33004 -0.7713 C -0.33542 -0.75695 -0.33941 -0.74051 -0.34844 -0.72917 C -0.3507 -0.71945 -0.35487 -0.71134 -0.35834 -0.70255 C -0.36233 -0.69236 -0.36441 -0.68426 -0.37171 -0.67801 C -0.38073 -0.63218 -0.3783 -0.62407 -0.3783 -0.5581 E">
                                      <p:cBhvr>
                                        <p:cTn id="1712" dur="2000" fill="hold"/>
                                        <p:tgtEl>
                                          <p:spTgt spid="4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13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714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15" restart="whenNotActive" nodeType="interactiveSeq" fill="hold">
                <p:stCondLst>
                  <p:cond evt="onClick">
                    <p:tgtEl>
                      <p:spTgt spid="441"/>
                    </p:tgtEl>
                  </p:cond>
                </p:stCondLst>
                <p:childTnLst>
                  <p:par>
                    <p:cTn id="1716" fill="hold">
                      <p:stCondLst>
                        <p:cond evt="onClick">
                          <p:tgtEl>
                            <p:spTgt spid="441"/>
                          </p:tgtEl>
                        </p:cond>
                      </p:stCondLst>
                      <p:childTnLst>
                        <p:par>
                          <p:cTn id="1717" fill="hold">
                            <p:stCondLst>
                              <p:cond delay="0"/>
                            </p:stCondLst>
                            <p:childTnLst>
                              <p:par>
                                <p:cTn id="17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j0074852.wav"/>
                                        </p:tgtEl>
                                      </p:cMediaNode>
                                    </p:audio>
                                    <p:animMotion origin="layout" path="M -0.2099 -0.26389 C -0.20122 -0.2287 -0.21007 -0.26736 -0.20573 -0.17708 C -0.20539 -0.17037 -0.20226 -0.16389 -0.20139 -0.15717 C -0.19636 -0.11643 -0.1875 -0.0919 -0.16285 -0.05926 C -0.15244 -0.04583 -0.13803 -0.02893 -0.12188 -0.02384 C -0.11494 -0.01898 -0.10851 -0.01528 -0.10035 -0.01273 C -0.08732 -0.00347 -0.08124 -0.00208 -0.06631 0.00278 C -0.04236 0.00486 0.000869999999999999 -0.00046 0.02153 -0.00092 C 0.04219 -0.00139 0.04983 0.00023 0.0573 0.00047 E">
                                      <p:cBhvr>
                                        <p:cTn id="1719" dur="2000" fill="hold"/>
                                        <p:tgtEl>
                                          <p:spTgt spid="4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20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721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22" restart="whenNotActive" nodeType="interactiveSeq" fill="hold">
                <p:stCondLst>
                  <p:cond evt="onClick">
                    <p:tgtEl>
                      <p:spTgt spid="442"/>
                    </p:tgtEl>
                  </p:cond>
                </p:stCondLst>
                <p:childTnLst>
                  <p:par>
                    <p:cTn id="1723" fill="hold">
                      <p:stCondLst>
                        <p:cond evt="onClick">
                          <p:tgtEl>
                            <p:spTgt spid="442"/>
                          </p:tgtEl>
                        </p:cond>
                      </p:stCondLst>
                      <p:childTnLst>
                        <p:par>
                          <p:cTn id="1724" fill="hold">
                            <p:stCondLst>
                              <p:cond delay="0"/>
                            </p:stCondLst>
                            <p:childTnLst>
                              <p:par>
                                <p:cTn id="17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j0074852.wav"/>
                                        </p:tgtEl>
                                      </p:cMediaNode>
                                    </p:audio>
                                    <p:animMotion origin="layout" path="M -0.26579 -0.36041 C -0.26562 -0.34699 -0.28107 -0.2162 -0.25572 -0.16712 C -0.25381 -0.15902 -0.25034 -0.15254 -0.24739 -0.1449 C -0.246 -0.13449 -0.24479 -0.128 -0.23906 -0.12037 C -0.23663 -0.11018 -0.23263 -0.09976 -0.22586 -0.09374 C -0.21163 -0.06597 -0.19444 -0.04606 -0.17239 -0.02939 C -0.16562 -0.0243 -0.15781 -0.02268 -0.15086 -0.01828 C -0.14479 -0.01435 -0.13836 -0.01319 -0.13246 -0.00925 C -0.12152 -0.00185 -0.13402 -0.00694 -0.12083 -0.00277 C -0.0644 0.03588 -0.11666 0.00186 0.05417 0.00186 E">
                                      <p:cBhvr>
                                        <p:cTn id="1726" dur="2000" fill="hold"/>
                                        <p:tgtEl>
                                          <p:spTgt spid="4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27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728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29" restart="whenNotActive" nodeType="interactiveSeq" fill="hold">
                <p:stCondLst>
                  <p:cond evt="onClick">
                    <p:tgtEl>
                      <p:spTgt spid="443"/>
                    </p:tgtEl>
                  </p:cond>
                </p:stCondLst>
                <p:childTnLst>
                  <p:par>
                    <p:cTn id="1730" fill="hold">
                      <p:stCondLst>
                        <p:cond evt="onClick">
                          <p:tgtEl>
                            <p:spTgt spid="443"/>
                          </p:tgtEl>
                        </p:cond>
                      </p:stCondLst>
                      <p:childTnLst>
                        <p:par>
                          <p:cTn id="1731" fill="hold">
                            <p:stCondLst>
                              <p:cond delay="0"/>
                            </p:stCondLst>
                            <p:childTnLst>
                              <p:par>
                                <p:cTn id="173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j0074852.wav"/>
                                        </p:tgtEl>
                                      </p:cMediaNode>
                                    </p:audio>
                                    <p:animMotion origin="layout" path="M -0.32951 -0.43703 C -0.34409 -0.39837 -0.33767 -0.29166 -0.33784 -0.28587 C -0.33611 -0.23587 -0.33524 -0.18981 -0.32621 -0.14143 C -0.32517 -0.13564 -0.32152 -0.13124 -0.31944 -0.12592 C -0.31198 -0.1074 -0.3059 -0.08865 -0.29791 -0.07036 C -0.28906 -0.04999 -0.27621 -0.02036 -0.25781 -0.01273 C -0.24965 -0.00439 -0.23941 -0.00069 -0.23125 0.00741 C -0.22899 0.00973 -0.22708 0.01251 -0.22448 0.01413 C -0.22239 0.01551 -0.22013 0.01528 -0.21788 0.01621 C -0.21614 0.0169 -0.21441 0.01737 -0.21284 0.01852 C -0.19722 0.02894 -0.22309 0.01598 -0.19791 0.02732 C -0.19618 0.02801 -0.19288 0.02964 -0.19288 0.02964 C -0.17569 0.02894 -0.15833 0.02871 -0.14114 0.02732 C -0.13125 0.02663 -0.12378 0.02107 -0.11284 0.02061 C -0.08576 0.01945 -0.0585 0.01922 -0.03125 0.01852 C -0.01024 0.01436 0.01094 0.01251 0.03212 0.0095 C 0.03837 0.00764 0.04445 0.00579 0.05052 0.00301 C 0.05382 0.00163 0.06042 -0.00161 0.06042 -0.00161 C 0.06285 -0.00462 0.06563 -0.01273 0.06875 -0.01273 E">
                                      <p:cBhvr>
                                        <p:cTn id="1733" dur="2000" fill="hold"/>
                                        <p:tgtEl>
                                          <p:spTgt spid="4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34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735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36" restart="whenNotActive" nodeType="interactiveSeq" fill="hold">
                <p:stCondLst>
                  <p:cond evt="onClick">
                    <p:tgtEl>
                      <p:spTgt spid="444"/>
                    </p:tgtEl>
                  </p:cond>
                </p:stCondLst>
                <p:childTnLst>
                  <p:par>
                    <p:cTn id="1737" fill="hold">
                      <p:stCondLst>
                        <p:cond evt="onClick">
                          <p:tgtEl>
                            <p:spTgt spid="444"/>
                          </p:tgtEl>
                        </p:cond>
                      </p:stCondLst>
                      <p:childTnLst>
                        <p:par>
                          <p:cTn id="1738" fill="hold">
                            <p:stCondLst>
                              <p:cond delay="0"/>
                            </p:stCondLst>
                            <p:childTnLst>
                              <p:par>
                                <p:cTn id="17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j0074852.wav"/>
                                        </p:tgtEl>
                                      </p:cMediaNode>
                                    </p:audio>
                                    <p:animMotion origin="layout" path="M -0.3783 -0.5581 C -0.37534 -0.49028 -0.37812 -0.42222 -0.375 -0.3544 C -0.37465 -0.34792 -0.36961 -0.34306 -0.3684 -0.33681 C -0.36527 -0.32083 -0.36059 -0.30671 -0.35503 -0.2919 C -0.35208 -0.2838 -0.35121 -0.27315 -0.34826 -0.26482 C -0.3408 -0.24491 -0.34357 -0.25833 -0.33663 -0.24259 C -0.32413 -0.21343 -0.30573 -0.17222 -0.28333 -0.15532 C -0.26076 -0.13843 -0.2875 -0.16204 -0.26857 -0.14653 C -0.25416 -0.13495 -0.26354 -0.13958 -0.2533 -0.13519 C -0.24392 -0.12662 -0.25034 -0.13148 -0.2335 -0.12407 C -0.19722 -0.10833 -0.15104 -0.06713 -0.10833 -0.05232 C -0.10086 -0.04583 -0.09305 -0.04653 -0.08524 -0.0412 C -0.075 -0.03403 -0.06319 -0.02847 -0.05173 -0.02546 C -0.03645 -0.01551 -0.01857 -0.01921 -0.00173 -0.01667 C 0.01407 -0.01134 0.03039 -0.00926 0.0467 -0.00764 C 0.05209 -0.00509 0.05 -0.00556 0.05313 -0.00556 E">
                                      <p:cBhvr>
                                        <p:cTn id="1740" dur="2000" fill="hold"/>
                                        <p:tgtEl>
                                          <p:spTgt spid="4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41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742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7" name=""/>
            <p:cNvSpPr/>
            <p:nvPr/>
          </p:nvSpPr>
          <p:spPr>
            <a:xfrm>
              <a:off x="0" y="0"/>
              <a:ext cx="9144000" cy="6858000"/>
            </a:xfrm>
            <a:prstGeom prst="roundRect">
              <a:avLst>
                <a:gd name="adj" fmla="val 33449"/>
              </a:avLst>
            </a:prstGeom>
            <a:solidFill>
              <a:srgbClr val="c0c0c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1676520"/>
              <a:ext cx="4876920" cy="3352680"/>
            </a:xfrm>
            <a:prstGeom prst="roundRect">
              <a:avLst>
                <a:gd name="adj" fmla="val 33449"/>
              </a:avLst>
            </a:prstGeom>
            <a:gradFill rotWithShape="0">
              <a:gsLst>
                <a:gs pos="0">
                  <a:srgbClr val="008000"/>
                </a:gs>
                <a:gs pos="50000">
                  <a:srgbClr val="009900"/>
                </a:gs>
                <a:gs pos="100000">
                  <a:srgbClr val="008000"/>
                </a:gs>
              </a:gsLst>
              <a:lin ang="135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990720" y="762120"/>
              <a:ext cx="6781680" cy="5105160"/>
            </a:xfrm>
            <a:prstGeom prst="roundRect">
              <a:avLst>
                <a:gd name="adj" fmla="val 33449"/>
              </a:avLst>
            </a:prstGeom>
            <a:noFill/>
            <a:ln w="572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4343400" y="502920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286080" y="5011560"/>
            <a:ext cx="914400" cy="3985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3286080" y="5475240"/>
            <a:ext cx="914400" cy="392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3276720" y="5992920"/>
            <a:ext cx="923760" cy="4078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3286080" y="6470640"/>
            <a:ext cx="914400" cy="3873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200400" y="5105520"/>
            <a:ext cx="990720" cy="30456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5562720"/>
            <a:ext cx="990360" cy="30456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276720" y="6019920"/>
            <a:ext cx="990360" cy="3808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010280" y="2971800"/>
            <a:ext cx="53352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772400" y="2971800"/>
            <a:ext cx="53352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620120" y="3733920"/>
            <a:ext cx="53316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381880" y="2743200"/>
            <a:ext cx="53352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114800" y="457200"/>
            <a:ext cx="609480" cy="3808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267080" y="1143000"/>
            <a:ext cx="609840" cy="3808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343400" y="0"/>
            <a:ext cx="609480" cy="3808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191120" y="838080"/>
            <a:ext cx="609480" cy="30492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523880" y="3048120"/>
            <a:ext cx="60984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200400" y="4343400"/>
            <a:ext cx="24098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Next Lap!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2819520"/>
            <a:ext cx="60948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80880" y="2819520"/>
            <a:ext cx="60984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2438280"/>
            <a:ext cx="609480" cy="60984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76720" y="6553080"/>
            <a:ext cx="990360" cy="30492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50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j0074852.wav"/>
                                        </p:tgtEl>
                                      </p:cMediaNode>
                                    </p:audio>
                                    <p:animMotion origin="layout" path="M 0.0573 -0.00046 C 0.11181 -0.00162 0.33004 0.03403 0.3849 -0.00764 C 0.43976 -0.0493 0.3856 -0.20694 0.38664 -0.25 C 0.38768 -0.29305 0.38959 -0.2794 0.39167 -0.26551 E">
                                      <p:cBhvr>
                                        <p:cTn id="53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5400000">
                                      <p:cBhvr>
                                        <p:cTn id="5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j0074852.wav"/>
                                        </p:tgtEl>
                                      </p:cMediaNode>
                                    </p:audio>
                                    <p:animMotion origin="layout" path="M 0.05504 0.00116 C 0.10973 0.00046 0.17049 0.02824 0.21927 -0.00856 C 0.22466 -0.0125 0.22691 -0.01782 0.23264 -0.02106 C 0.23941 -0.03055 0.24723 -0.03912 0.25625 -0.04329 C 0.26407 -0.05139 0.2698 -0.05463 0.27795 -0.06088 C 0.28507 -0.06597 0.29028 -0.07616 0.29636 -0.0831 C 0.29948 -0.0868 0.30365 -0.08866 0.30643 -0.09305 C 0.31198 -0.10116 0.31389 -0.10926 0.32153 -0.11296 C 0.32969 -0.13148 0.34289 -0.14768 0.35504 -0.16018 C 0.35938 -0.16458 0.36407 -0.16852 0.36858 -0.17268 C 0.37275 -0.17662 0.38195 -0.18241 0.38195 -0.18217 C 0.38976 -0.19421 0.38507 -0.18819 0.39705 -0.19977 C 0.39879 -0.20139 0.40035 -0.20324 0.40209 -0.20486 C 0.40382 -0.20648 0.40712 -0.20995 0.40712 -0.20972 C 0.41164 -0.22014 0.4191 -0.22477 0.42552 -0.23217 C 0.43594 -0.24467 0.44618 -0.25856 0.45747 -0.26944 C 0.475 -0.30903 0.47084 -0.31041 0.47084 -0.37129 E">
                                      <p:cBhvr>
                                        <p:cTn id="60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5400000">
                                      <p:cBhvr>
                                        <p:cTn id="6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64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j0074852.wav"/>
                                        </p:tgtEl>
                                      </p:cMediaNode>
                                    </p:audio>
                                    <p:animMotion origin="layout" path="M 0.06858 -0.01366 C 0.13681 -0.01481 0.20712 -0.0162 0.27553 -0.02338 C 0.2816 -0.02546 0.28785 -0.02592 0.29393 -0.02801 C 0.30521 -0.03217 0.31598 -0.04097 0.32726 -0.0456 C 0.33421 -0.05231 0.34237 -0.06018 0.35053 -0.06342 C 0.36459 -0.07569 0.38091 -0.08379 0.39549 -0.09467 C 0.41407 -0.10833 0.43125 -0.12523 0.44879 -0.1412 C 0.45469 -0.15254 0.46146 -0.16296 0.46719 -0.17453 C 0.4724 -0.18518 0.47309 -0.20231 0.47553 -0.21458 C 0.475 -0.2331 0.47518 -0.25162 0.47379 -0.27014 C 0.47292 -0.28217 0.4625 -0.30486 0.45556 -0.31227 C 0.43507 -0.33379 0.46407 -0.29653 0.44723 -0.31898 E">
                                      <p:cBhvr>
                                        <p:cTn id="67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5400000">
                                      <p:cBhvr>
                                        <p:cTn id="6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71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j0074852.wav"/>
                                        </p:tgtEl>
                                      </p:cMediaNode>
                                    </p:audio>
                                    <p:animMotion origin="layout" path="M 0.05417 -0.00509 C 0.06007 -0.00394 0.07709 -0.00162 0.09028 -0.00046 C 0.10348 0.00069 0.11563 0.00231 0.13334 0.00162 C 0.16511 -0.00324 0.1408 0.00023 0.19671 -0.00509 C 0.20452 -0.00579 0.21997 -0.00741 0.21997 -0.00718 C 0.24271 -0.01204 0.26563 -0.01204 0.28837 -0.0162 C 0.304 -0.01921 0.28941 -0.01736 0.30504 -0.02292 C 0.31719 -0.02732 0.33091 -0.02778 0.34341 -0.02963 C 0.35296 -0.03264 0.36025 -0.03843 0.36997 -0.04074 C 0.38091 -0.04792 0.39323 -0.05347 0.40504 -0.05833 C 0.41233 -0.06505 0.41962 -0.07153 0.42674 -0.07847 C 0.4408 -0.09236 0.43126 -0.0875 0.44167 -0.09167 C 0.44966 -0.10278 0.43907 -0.08912 0.45174 -0.1007 C 0.45834 -0.10671 0.46823 -0.12153 0.47674 -0.125 C 0.47969 -0.1375 0.48941 -0.14421 0.49671 -0.15185 C 0.50382 -0.15926 0.50712 -0.17014 0.51337 -0.17847 C 0.51771 -0.19722 0.51146 -0.17431 0.51841 -0.18958 C 0.52101 -0.19514 0.52275 -0.20139 0.52501 -0.20741 C 0.52674 -0.21204 0.5316 -0.2206 0.5316 -0.22037 C 0.55608 -0.34745 0.53994 -0.20093 0.53994 -0.54282 E">
                                      <p:cBhvr>
                                        <p:cTn id="74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5400000">
                                      <p:cBhvr>
                                        <p:cTn id="7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78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j0074852.wav"/>
                                        </p:tgtEl>
                                      </p:cMediaNode>
                                    </p:audio>
                                    <p:animMotion origin="layout" path="M 0.39167 -0.29305 C 0.39237 -0.33657 0.38664 -0.38889 0.39844 -0.43287 C 0.39757 -0.46366 0.40296 -0.48241 0.39167 -0.50416 C 0.38837 -0.51991 0.38403 -0.52893 0.37848 -0.54398 C 0.37674 -0.54838 0.37119 -0.54907 0.36841 -0.55069 C 0.35886 -0.55602 0.35105 -0.56805 0.34011 -0.56852 C 0.30296 -0.56991 0.26563 -0.57014 0.22848 -0.57083 C 0.22032 -0.57291 0.21719 -0.575 0.21007 -0.57963 C 0.20573 -0.58241 0.20087 -0.58333 0.19671 -0.58634 C 0.18976 -0.59143 0.18403 -0.59768 0.17674 -0.60185 C 0.17466 -0.60301 0.16546 -0.60555 0.16337 -0.60625 C 0.15313 -0.61018 0.1474 -0.61319 0.13681 -0.61528 C 0.12744 -0.62338 0.11563 -0.62592 0.10504 -0.63078 C 0.10278 -0.6331 0.10035 -0.63495 0.09844 -0.6375 C 0.09705 -0.63935 0.09671 -0.64236 0.09513 -0.64398 C 0.09376 -0.64537 0.09323 -0.6493 0.09167 -0.65046 C 0.0882 -0.65301 0.08525 -0.65486 0.08195 -0.65787 C 0.08039 -0.65926 0.08264 -0.65509 0.07501 -0.65717 E">
                                      <p:cBhvr>
                                        <p:cTn id="81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2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8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85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j0074852.wav"/>
                                        </p:tgtEl>
                                      </p:cMediaNode>
                                    </p:audio>
                                    <p:animMotion origin="layout" path="M 0.47084 -0.37129 C 0.4724 -0.44166 0.48525 -0.53009 0.45417 -0.59352 C 0.45139 -0.60972 0.45469 -0.5956 0.44914 -0.60903 C 0.43716 -0.63842 0.43004 -0.65833 0.40417 -0.66898 C 0.39827 -0.67731 0.404 -0.67106 0.39428 -0.67569 C 0.38317 -0.68102 0.38577 -0.68403 0.37257 -0.6868 C 0.32639 -0.68518 0.32674 -0.68541 0.29584 -0.68009 C 0.27362 -0.66829 0.25157 -0.65648 0.22917 -0.64467 C 0.21806 -0.63889 0.20469 -0.6294 0.19254 -0.62916 C 0.15591 -0.62847 0.1191 -0.62916 0.08247 -0.62916 E">
                                      <p:cBhvr>
                                        <p:cTn id="88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9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92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j0074852.wav"/>
                                        </p:tgtEl>
                                      </p:cMediaNode>
                                    </p:audio>
                                    <p:animMotion origin="layout" path="M 0.44723 -0.31898 C 0.44132 -0.32685 0.44427 -0.32152 0.44046 -0.3368 C 0.43941 -0.3412 0.43716 -0.35023 0.43716 -0.35023 C 0.43872 -0.39004 0.43455 -0.41157 0.46216 -0.43032 C 0.46823 -0.43865 0.47743 -0.44027 0.48386 -0.44791 C 0.49671 -0.46342 0.50521 -0.47939 0.51042 -0.50138 C 0.51302 -0.52731 0.51719 -0.55231 0.50209 -0.57245 C 0.50157 -0.57546 0.50191 -0.57916 0.50052 -0.58125 C 0.49983 -0.58263 0.48907 -0.58564 0.48889 -0.58564 C 0.47639 -0.59027 0.46771 -0.59097 0.45382 -0.59236 C 0.43855 -0.59583 0.43629 -0.60254 0.42379 -0.6125 C 0.42275 -0.61551 0.42223 -0.61898 0.42049 -0.62129 C 0.41927 -0.62291 0.41667 -0.62199 0.41546 -0.62361 C 0.41372 -0.62592 0.41355 -0.62963 0.41216 -0.6324 C 0.40921 -0.63796 0.40625 -0.64004 0.40209 -0.64351 C 0.39948 -0.64884 0.39618 -0.65347 0.39375 -0.65902 C 0.39289 -0.66111 0.39289 -0.66365 0.39219 -0.66574 C 0.38941 -0.67338 0.38559 -0.68101 0.38212 -0.68796 C 0.37709 -0.70995 0.37171 -0.73611 0.35886 -0.75231 C 0.35504 -0.76713 0.36007 -0.74976 0.35209 -0.76805 C 0.34966 -0.77361 0.34896 -0.78125 0.34549 -0.78564 C 0.33629 -0.79791 0.32691 -0.81481 0.31389 -0.81898 C 0.31059 -0.82199 0.30764 -0.82638 0.30382 -0.82801 C 0.29792 -0.83055 0.2908 -0.83287 0.28542 -0.8368 C 0.2783 -0.84213 0.27014 -0.85138 0.26216 -0.85463 C 0.24584 -0.86134 0.22743 -0.86319 0.21042 -0.86574 C 0.19514 -0.87106 0.21355 -0.86527 0.18542 -0.87013 C 0.17396 -0.87222 0.16181 -0.87685 0.15052 -0.87916 C 0.13021 -0.8831 0.10938 -0.87916 0.08889 -0.87916 E">
                                      <p:cBhvr>
                                        <p:cTn id="95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6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9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99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j0074852.wav"/>
                                        </p:tgtEl>
                                      </p:cMediaNode>
                                    </p:audio>
                                    <p:animMotion origin="layout" path="M 0.53993 -0.54283 C 0.53924 -0.58334 0.54323 -0.64908 0.52483 -0.68959 C 0.52274 -0.71065 0.51754 -0.72986 0.51163 -0.74954 C 0.50816 -0.76088 0.50642 -0.77431 0.50156 -0.78496 C 0.49965 -0.78889 0.49688 -0.79213 0.49497 -0.79607 C 0.49149 -0.81389 0.49636 -0.79699 0.48663 -0.81181 C 0.47674 -0.82709 0.49063 -0.81574 0.47656 -0.825 C 0.47153 -0.83426 0.46684 -0.8463 0.4599 -0.85394 C 0.45295 -0.86158 0.45712 -0.85556 0.44983 -0.86065 C 0.4467 -0.86274 0.44479 -0.86783 0.44149 -0.86945 C 0.43663 -0.87199 0.42708 -0.87431 0.42153 -0.87616 C 0.41823 -0.87709 0.41493 -0.87778 0.41163 -0.87848 C 0.40434 -0.8801 0.38993 -0.88287 0.38993 -0.88287 C 0.37986 -0.88704 0.37031 -0.88982 0.3599 -0.89167 C 0.33767 -0.90186 0.30799 -0.90486 0.2849 -0.90718 C 0.26997 -0.90649 0.25486 -0.90672 0.23993 -0.9051 C 0.23038 -0.90394 0.22118 -0.89977 0.21163 -0.89838 C 0.19948 -0.89306 0.20504 -0.89514 0.19497 -0.89167 C 0.18507 -0.88311 0.18281 -0.88125 0.17153 -0.87848 C 0.16597 -0.87454 0.16024 -0.87315 0.15486 -0.86945 C 0.1434 -0.86181 0.1559 -0.8676 0.14497 -0.86274 C 0.13993 -0.86042 0.12986 -0.85625 0.12986 -0.85625 C 0.12396 -0.84792 0.12969 -0.85417 0.11997 -0.84954 C 0.10243 -0.84098 0.09219 -0.83403 0.07326 -0.83403 E">
                                      <p:cBhvr>
                                        <p:cTn id="102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3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0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106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j0074852.wav"/>
                                        </p:tgtEl>
                                      </p:cMediaNode>
                                    </p:audio>
                                    <p:animMotion origin="layout" path="M 0.07396 -0.65879 C 0.04757 -0.65463 0.05521 -0.66666 0.00452 -0.66991 C -0.01822 -0.67315 -0.04045 -0.66018 -0.06371 -0.6618 C -0.12674 -0.66088 -0.19289 -0.68009 -0.2533 -0.65509 C -0.25365 -0.65463 -0.26216 -0.64653 -0.26337 -0.64398 C -0.27084 -0.62731 -0.27657 -0.60856 -0.2816 -0.59051 C -0.28299 -0.58541 -0.28386 -0.58009 -0.2849 -0.575 C -0.28612 -0.56898 -0.28837 -0.55717 -0.28837 -0.55694 C -0.2908 -0.52384 -0.29428 -0.48842 -0.28004 -0.45949 C -0.27761 -0.44676 -0.27257 -0.44004 -0.26667 -0.43055 C -0.26546 -0.42847 -0.26424 -0.42616 -0.26337 -0.42384 C -0.26268 -0.42176 -0.26268 -0.41921 -0.26164 -0.41736 C -0.25747 -0.41041 -0.25278 -0.40393 -0.24827 -0.39722 C -0.2441 -0.39097 -0.23941 -0.38541 -0.2349 -0.3794 C -0.23334 -0.37731 -0.23004 -0.37291 -0.23004 -0.37268 C -0.2283 -0.3662 -0.22726 -0.35926 -0.225 -0.35278 C -0.22414 -0.35046 -0.22257 -0.34861 -0.22171 -0.34606 C -0.22032 -0.3419 -0.21823 -0.33287 -0.21823 -0.33264 C -0.21771 -0.32778 -0.21737 -0.32245 -0.21667 -0.31736 C -0.21546 -0.30856 -0.2099 -0.2993 -0.2099 -0.29051 C -0.2099 -0.28171 -0.2099 -0.27268 -0.2099 -0.26389 E">
                                      <p:cBhvr>
                                        <p:cTn id="109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0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1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113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j0074852.wav"/>
                                        </p:tgtEl>
                                      </p:cMediaNode>
                                    </p:audio>
                                    <p:animMotion origin="layout" path="M 0.08247 -0.62917 C 0.07587 -0.62986 0.0691 -0.62986 0.06251 -0.63148 C 0.05678 -0.63287 0.05018 -0.63843 0.04428 -0.64028 C 0.03594 -0.65093 0.02674 -0.65139 0.01754 -0.6581 C 0.00139 -0.66991 0.01407 -0.66505 -0.00086 -0.66921 C -0.00815 -0.6757 -0.01562 -0.67801 -0.02413 -0.68033 C -0.03229 -0.68588 -0.0401 -0.69121 -0.04913 -0.69375 C -0.05885 -0.70023 -0.06874 -0.70301 -0.07916 -0.70695 C -0.08836 -0.71042 -0.0802 -0.70764 -0.08906 -0.71366 C -0.09392 -0.7169 -0.10034 -0.71829 -0.10572 -0.72037 C -0.12847 -0.72894 -0.1526 -0.73125 -0.17586 -0.73588 C -0.21041 -0.74283 -0.24427 -0.75185 -0.27916 -0.75579 C -0.28854 -0.75509 -0.29808 -0.75556 -0.30746 -0.75371 C -0.31545 -0.75208 -0.31909 -0.7382 -0.32413 -0.73148 C -0.32552 -0.72963 -0.3276 -0.72871 -0.32916 -0.72708 C -0.33038 -0.7257 -0.33142 -0.72408 -0.33246 -0.72246 C -0.33454 -0.71435 -0.33732 -0.70741 -0.34079 -0.70023 C -0.34357 -0.68634 -0.34583 -0.67222 -0.34739 -0.6581 C -0.346 -0.64306 -0.34548 -0.6375 -0.34079 -0.62477 C -0.3394 -0.61111 -0.33749 -0.59583 -0.3342 -0.58264 C -0.33124 -0.5706 -0.32499 -0.5625 -0.32083 -0.55139 C -0.31527 -0.53658 -0.3092 -0.52315 -0.30243 -0.50926 C -0.29895 -0.50232 -0.29288 -0.5 -0.28906 -0.49375 C -0.28437 -0.48611 -0.28194 -0.47708 -0.27743 -0.46921 C -0.27552 -0.46134 -0.27361 -0.45046 -0.27083 -0.44259 C -0.26909 -0.43773 -0.26597 -0.43496 -0.26579 -0.42917 C -0.26527 -0.40625 -0.26579 -0.38333 -0.26579 -0.36042 E">
                                      <p:cBhvr>
                                        <p:cTn id="116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7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1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120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j0074852.wav"/>
                                        </p:tgtEl>
                                      </p:cMediaNode>
                                    </p:audio>
                                    <p:animMotion origin="layout" path="M 0.08889 -0.87917 C 0.0198 -0.87801 -0.03698 -0.88195 -0.10121 -0.87037 C -0.10312 -0.86968 -0.10468 -0.86921 -0.10625 -0.86806 C -0.10798 -0.8669 -0.10954 -0.86482 -0.11111 -0.86366 C -0.11441 -0.86181 -0.12118 -0.85926 -0.12118 -0.85926 C -0.1276 -0.85023 -0.14392 -0.84236 -0.15277 -0.83912 C -0.15816 -0.83449 -0.16441 -0.83148 -0.16944 -0.82593 C -0.18281 -0.81134 -0.19652 -0.79653 -0.20954 -0.78148 C -0.21666 -0.77315 -0.22187 -0.76158 -0.22951 -0.75463 C -0.23767 -0.73287 -0.22569 -0.76227 -0.24288 -0.73241 C -0.24739 -0.72454 -0.25104 -0.71713 -0.25625 -0.71019 C -0.25972 -0.69607 -0.25486 -0.70995 -0.26284 -0.70139 C -0.26441 -0.69977 -0.26475 -0.69653 -0.26614 -0.69468 C -0.26927 -0.69051 -0.27309 -0.68773 -0.27621 -0.68357 C -0.27882 -0.67269 -0.2809 -0.66713 -0.28611 -0.65695 C -0.28732 -0.65463 -0.28958 -0.65023 -0.28958 -0.65023 C -0.29149 -0.6419 -0.29427 -0.63519 -0.29791 -0.62801 C -0.29965 -0.6206 -0.3026 -0.61528 -0.30451 -0.6081 C -0.30555 -0.58773 -0.3059 -0.56366 -0.31111 -0.54352 C -0.31232 -0.53912 -0.31354 -0.53472 -0.31458 -0.53033 C -0.31562 -0.52593 -0.31788 -0.5169 -0.31788 -0.5169 C -0.31909 -0.5037 -0.31805 -0.49699 -0.32448 -0.48796 C -0.3302 -0.46644 -0.32951 -0.4632 -0.32951 -0.43704 E">
                                      <p:cBhvr>
                                        <p:cTn id="123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4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2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127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j0074852.wav"/>
                                        </p:tgtEl>
                                      </p:cMediaNode>
                                    </p:audio>
                                    <p:animMotion origin="layout" path="M 0.07292 -0.83472 C 0.05244 -0.83796 0.04879 -0.8537 0.0349 -0.85347 C -0.06736 -0.85208 -0.16945 -0.85208 -0.27171 -0.85139 C -0.28056 -0.84722 -0.28733 -0.84028 -0.29497 -0.83357 C -0.29983 -0.82917 -0.30157 -0.82245 -0.30678 -0.81806 C -0.30782 -0.81574 -0.30921 -0.81366 -0.31007 -0.81134 C -0.31077 -0.80926 -0.31077 -0.80671 -0.31164 -0.80463 C -0.3125 -0.80278 -0.31407 -0.80185 -0.31511 -0.80023 C -0.32014 -0.7919 -0.32639 -0.78079 -0.33004 -0.7713 C -0.33542 -0.75695 -0.33941 -0.74051 -0.34844 -0.72917 C -0.3507 -0.71945 -0.35487 -0.71134 -0.35834 -0.70255 C -0.36233 -0.69236 -0.36441 -0.68426 -0.37171 -0.67801 C -0.38073 -0.63218 -0.3783 -0.62407 -0.3783 -0.5581 E">
                                      <p:cBhvr>
                                        <p:cTn id="130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1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3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134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j0074852.wav"/>
                                        </p:tgtEl>
                                      </p:cMediaNode>
                                    </p:audio>
                                    <p:animMotion origin="layout" path="M -0.2099 -0.26389 C -0.20122 -0.2287 -0.21007 -0.26736 -0.20573 -0.17708 C -0.20539 -0.17037 -0.20226 -0.16389 -0.20139 -0.15717 C -0.19636 -0.11643 -0.1875 -0.0919 -0.16285 -0.05926 C -0.15244 -0.04583 -0.13803 -0.02893 -0.12188 -0.02384 C -0.11494 -0.01898 -0.10851 -0.01528 -0.10035 -0.01273 C -0.08732 -0.00347 -0.08124 -0.00208 -0.06631 0.00278 C -0.04236 0.00486 0.000869999999999999 -0.00046 0.02153 -0.00092 C 0.04219 -0.00139 0.04983 0.00023 0.0573 0.00047 E">
                                      <p:cBhvr>
                                        <p:cTn id="137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8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3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141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j0074852.wav"/>
                                        </p:tgtEl>
                                      </p:cMediaNode>
                                    </p:audio>
                                    <p:animMotion origin="layout" path="M -0.26579 -0.36041 C -0.26562 -0.34699 -0.28107 -0.2162 -0.25572 -0.16712 C -0.25381 -0.15902 -0.25034 -0.15254 -0.24739 -0.1449 C -0.246 -0.13449 -0.24479 -0.128 -0.23906 -0.12037 C -0.23663 -0.11018 -0.23263 -0.09976 -0.22586 -0.09374 C -0.21163 -0.06597 -0.19444 -0.04606 -0.17239 -0.02939 C -0.16562 -0.0243 -0.15781 -0.02268 -0.15086 -0.01828 C -0.14479 -0.01435 -0.13836 -0.01319 -0.13246 -0.00925 C -0.12152 -0.00185 -0.13402 -0.00694 -0.12083 -0.00277 C -0.0644 0.03588 -0.11666 0.00186 0.05417 0.00186 E">
                                      <p:cBhvr>
                                        <p:cTn id="144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5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4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7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148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j0074852.wav"/>
                                        </p:tgtEl>
                                      </p:cMediaNode>
                                    </p:audio>
                                    <p:animMotion origin="layout" path="M -0.32951 -0.43703 C -0.34409 -0.39837 -0.33767 -0.29166 -0.33784 -0.28587 C -0.33611 -0.23587 -0.33524 -0.18981 -0.32621 -0.14143 C -0.32517 -0.13564 -0.32152 -0.13124 -0.31944 -0.12592 C -0.31198 -0.1074 -0.3059 -0.08865 -0.29791 -0.07036 C -0.28906 -0.04999 -0.27621 -0.02036 -0.25781 -0.01273 C -0.24965 -0.00439 -0.23941 -0.00069 -0.23125 0.00741 C -0.22899 0.00973 -0.22708 0.01251 -0.22448 0.01413 C -0.22239 0.01551 -0.22013 0.01528 -0.21788 0.01621 C -0.21614 0.0169 -0.21441 0.01737 -0.21284 0.01852 C -0.19722 0.02894 -0.22309 0.01598 -0.19791 0.02732 C -0.19618 0.02801 -0.19288 0.02964 -0.19288 0.02964 C -0.17569 0.02894 -0.15833 0.02871 -0.14114 0.02732 C -0.13125 0.02663 -0.12378 0.02107 -0.11284 0.02061 C -0.08576 0.01945 -0.0585 0.01922 -0.03125 0.01852 C -0.01024 0.01436 0.01094 0.01251 0.03212 0.0095 C 0.03837 0.00764 0.04445 0.00579 0.05052 0.00301 C 0.05382 0.00163 0.06042 -0.00161 0.06042 -0.00161 C 0.06285 -0.00462 0.06563 -0.01273 0.06875 -0.01273 E">
                                      <p:cBhvr>
                                        <p:cTn id="151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2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5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4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155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j0074852.wav"/>
                                        </p:tgtEl>
                                      </p:cMediaNode>
                                    </p:audio>
                                    <p:animMotion origin="layout" path="M -0.3783 -0.5581 C -0.37534 -0.49028 -0.37812 -0.42222 -0.375 -0.3544 C -0.37465 -0.34792 -0.36961 -0.34306 -0.3684 -0.33681 C -0.36527 -0.32083 -0.36059 -0.30671 -0.35503 -0.2919 C -0.35208 -0.2838 -0.35121 -0.27315 -0.34826 -0.26482 C -0.3408 -0.24491 -0.34357 -0.25833 -0.33663 -0.24259 C -0.32413 -0.21343 -0.30573 -0.17222 -0.28333 -0.15532 C -0.26076 -0.13843 -0.2875 -0.16204 -0.26857 -0.14653 C -0.25416 -0.13495 -0.26354 -0.13958 -0.2533 -0.13519 C -0.24392 -0.12662 -0.25034 -0.13148 -0.2335 -0.12407 C -0.19722 -0.10833 -0.15104 -0.06713 -0.10833 -0.05232 C -0.10086 -0.04583 -0.09305 -0.04653 -0.08524 -0.0412 C -0.075 -0.03403 -0.06319 -0.02847 -0.05173 -0.02546 C -0.03645 -0.01551 -0.01857 -0.01921 -0.00173 -0.01667 C 0.01407 -0.01134 0.03039 -0.00926 0.0467 -0.00764 C 0.05209 -0.00509 0.05 -0.00556 0.05313 -0.00556 E">
                                      <p:cBhvr>
                                        <p:cTn id="158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6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83" name=""/>
            <p:cNvSpPr/>
            <p:nvPr/>
          </p:nvSpPr>
          <p:spPr>
            <a:xfrm>
              <a:off x="0" y="0"/>
              <a:ext cx="9144000" cy="6858000"/>
            </a:xfrm>
            <a:prstGeom prst="roundRect">
              <a:avLst>
                <a:gd name="adj" fmla="val 33449"/>
              </a:avLst>
            </a:prstGeom>
            <a:solidFill>
              <a:srgbClr val="c0c0c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981080" y="1676520"/>
              <a:ext cx="4876920" cy="3352680"/>
            </a:xfrm>
            <a:prstGeom prst="roundRect">
              <a:avLst>
                <a:gd name="adj" fmla="val 33449"/>
              </a:avLst>
            </a:prstGeom>
            <a:gradFill rotWithShape="0">
              <a:gsLst>
                <a:gs pos="0">
                  <a:srgbClr val="008000"/>
                </a:gs>
                <a:gs pos="50000">
                  <a:srgbClr val="009900"/>
                </a:gs>
                <a:gs pos="100000">
                  <a:srgbClr val="008000"/>
                </a:gs>
              </a:gsLst>
              <a:lin ang="135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990720" y="762120"/>
              <a:ext cx="6781680" cy="5105160"/>
            </a:xfrm>
            <a:prstGeom prst="roundRect">
              <a:avLst>
                <a:gd name="adj" fmla="val 33449"/>
              </a:avLst>
            </a:prstGeom>
            <a:noFill/>
            <a:ln w="572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4343400" y="502920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286080" y="5011560"/>
            <a:ext cx="914400" cy="3985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286080" y="5475240"/>
            <a:ext cx="914400" cy="3920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3276720" y="5992920"/>
            <a:ext cx="923760" cy="4078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3286080" y="6470640"/>
            <a:ext cx="914400" cy="3873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200400" y="5105520"/>
            <a:ext cx="990720" cy="30456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76720" y="5562720"/>
            <a:ext cx="990360" cy="30456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76720" y="6019920"/>
            <a:ext cx="990360" cy="3808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76720" y="6553080"/>
            <a:ext cx="990360" cy="30492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010280" y="2971800"/>
            <a:ext cx="53352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772400" y="2971800"/>
            <a:ext cx="53352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620120" y="3733920"/>
            <a:ext cx="53316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381880" y="2743200"/>
            <a:ext cx="53352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14800" y="457200"/>
            <a:ext cx="609480" cy="3808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267080" y="1143000"/>
            <a:ext cx="609840" cy="3808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343400" y="0"/>
            <a:ext cx="609480" cy="3808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191120" y="838080"/>
            <a:ext cx="609480" cy="30492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523880" y="3048120"/>
            <a:ext cx="60984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90720" y="2819520"/>
            <a:ext cx="60948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2819520"/>
            <a:ext cx="60984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2438280"/>
            <a:ext cx="609480" cy="60984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200400" y="4343400"/>
            <a:ext cx="24098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Next Lap!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163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j0074852.wav"/>
                                        </p:tgtEl>
                                      </p:cMediaNode>
                                    </p:audio>
                                    <p:animMotion origin="layout" path="M 0.0573 -0.00046 C 0.11181 -0.00162 0.33004 0.03403 0.3849 -0.00764 C 0.43976 -0.0493 0.3856 -0.20694 0.38664 -0.25 C 0.38768 -0.29305 0.38959 -0.2794 0.39167 -0.26551 E">
                                      <p:cBhvr>
                                        <p:cTn id="166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7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5400000">
                                      <p:cBhvr>
                                        <p:cTn id="16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9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170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j0074852.wav"/>
                                        </p:tgtEl>
                                      </p:cMediaNode>
                                    </p:audio>
                                    <p:animMotion origin="layout" path="M 0.05504 0.00116 C 0.10973 0.00046 0.17049 0.02824 0.21927 -0.00856 C 0.22466 -0.0125 0.22691 -0.01782 0.23264 -0.02106 C 0.23941 -0.03055 0.24723 -0.03912 0.25625 -0.04329 C 0.26407 -0.05139 0.2698 -0.05463 0.27795 -0.06088 C 0.28507 -0.06597 0.29028 -0.07616 0.29636 -0.0831 C 0.29948 -0.0868 0.30365 -0.08866 0.30643 -0.09305 C 0.31198 -0.10116 0.31389 -0.10926 0.32153 -0.11296 C 0.32969 -0.13148 0.34289 -0.14768 0.35504 -0.16018 C 0.35938 -0.16458 0.36407 -0.16852 0.36858 -0.17268 C 0.37275 -0.17662 0.38195 -0.18241 0.38195 -0.18217 C 0.38976 -0.19421 0.38507 -0.18819 0.39705 -0.19977 C 0.39879 -0.20139 0.40035 -0.20324 0.40209 -0.20486 C 0.40382 -0.20648 0.40712 -0.20995 0.40712 -0.20972 C 0.41164 -0.22014 0.4191 -0.22477 0.42552 -0.23217 C 0.43594 -0.24467 0.44618 -0.25856 0.45747 -0.26944 C 0.475 -0.30903 0.47084 -0.31041 0.47084 -0.37129 E">
                                      <p:cBhvr>
                                        <p:cTn id="173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4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5400000">
                                      <p:cBhvr>
                                        <p:cTn id="17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6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177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j0074852.wav"/>
                                        </p:tgtEl>
                                      </p:cMediaNode>
                                    </p:audio>
                                    <p:animMotion origin="layout" path="M 0.06858 -0.01366 C 0.13681 -0.01481 0.20712 -0.0162 0.27553 -0.02338 C 0.2816 -0.02546 0.28785 -0.02592 0.29393 -0.02801 C 0.30521 -0.03217 0.31598 -0.04097 0.32726 -0.0456 C 0.33421 -0.05231 0.34237 -0.06018 0.35053 -0.06342 C 0.36459 -0.07569 0.38091 -0.08379 0.39549 -0.09467 C 0.41407 -0.10833 0.43125 -0.12523 0.44879 -0.1412 C 0.45469 -0.15254 0.46146 -0.16296 0.46719 -0.17453 C 0.4724 -0.18518 0.47309 -0.20231 0.47553 -0.21458 C 0.475 -0.2331 0.47518 -0.25162 0.47379 -0.27014 C 0.47292 -0.28217 0.4625 -0.30486 0.45556 -0.31227 C 0.43507 -0.33379 0.46407 -0.29653 0.44723 -0.31898 E">
                                      <p:cBhvr>
                                        <p:cTn id="180" dur="2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1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5400000">
                                      <p:cBhvr>
                                        <p:cTn id="18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3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184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j0074852.wav"/>
                                        </p:tgtEl>
                                      </p:cMediaNode>
                                    </p:audio>
                                    <p:animMotion origin="layout" path="M 0.05417 -0.00509 C 0.06007 -0.00394 0.07709 -0.00162 0.09028 -0.00046 C 0.10348 0.00069 0.11563 0.00231 0.13334 0.00162 C 0.16511 -0.00324 0.1408 0.00023 0.19671 -0.00509 C 0.20452 -0.00579 0.21997 -0.00741 0.21997 -0.00718 C 0.24271 -0.01204 0.26563 -0.01204 0.28837 -0.0162 C 0.304 -0.01921 0.28941 -0.01736 0.30504 -0.02292 C 0.31719 -0.02732 0.33091 -0.02778 0.34341 -0.02963 C 0.35296 -0.03264 0.36025 -0.03843 0.36997 -0.04074 C 0.38091 -0.04792 0.39323 -0.05347 0.40504 -0.05833 C 0.41233 -0.06505 0.41962 -0.07153 0.42674 -0.07847 C 0.4408 -0.09236 0.43126 -0.0875 0.44167 -0.09167 C 0.44966 -0.10278 0.43907 -0.08912 0.45174 -0.1007 C 0.45834 -0.10671 0.46823 -0.12153 0.47674 -0.125 C 0.47969 -0.1375 0.48941 -0.14421 0.49671 -0.15185 C 0.50382 -0.15926 0.50712 -0.17014 0.51337 -0.17847 C 0.51771 -0.19722 0.51146 -0.17431 0.51841 -0.18958 C 0.52101 -0.19514 0.52275 -0.20139 0.52501 -0.20741 C 0.52674 -0.21204 0.5316 -0.2206 0.5316 -0.22037 C 0.55608 -0.34745 0.53994 -0.20093 0.53994 -0.54282 E">
                                      <p:cBhvr>
                                        <p:cTn id="187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8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5400000">
                                      <p:cBhvr>
                                        <p:cTn id="18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0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191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j0074852.wav"/>
                                        </p:tgtEl>
                                      </p:cMediaNode>
                                    </p:audio>
                                    <p:animMotion origin="layout" path="M 0.39167 -0.29305 C 0.39237 -0.33657 0.38664 -0.38889 0.39844 -0.43287 C 0.39757 -0.46366 0.40296 -0.48241 0.39167 -0.50416 C 0.38837 -0.51991 0.38403 -0.52893 0.37848 -0.54398 C 0.37674 -0.54838 0.37119 -0.54907 0.36841 -0.55069 C 0.35886 -0.55602 0.35105 -0.56805 0.34011 -0.56852 C 0.30296 -0.56991 0.26563 -0.57014 0.22848 -0.57083 C 0.22032 -0.57291 0.21719 -0.575 0.21007 -0.57963 C 0.20573 -0.58241 0.20087 -0.58333 0.19671 -0.58634 C 0.18976 -0.59143 0.18403 -0.59768 0.17674 -0.60185 C 0.17466 -0.60301 0.16546 -0.60555 0.16337 -0.60625 C 0.15313 -0.61018 0.1474 -0.61319 0.13681 -0.61528 C 0.12744 -0.62338 0.11563 -0.62592 0.10504 -0.63078 C 0.10278 -0.6331 0.10035 -0.63495 0.09844 -0.6375 C 0.09705 -0.63935 0.09671 -0.64236 0.09513 -0.64398 C 0.09376 -0.64537 0.09323 -0.6493 0.09167 -0.65046 C 0.0882 -0.65301 0.08525 -0.65486 0.08195 -0.65787 C 0.08039 -0.65926 0.08264 -0.65509 0.07501 -0.65717 E">
                                      <p:cBhvr>
                                        <p:cTn id="194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19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7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198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j0074852.wav"/>
                                        </p:tgtEl>
                                      </p:cMediaNode>
                                    </p:audio>
                                    <p:animMotion origin="layout" path="M 0.47084 -0.37129 C 0.4724 -0.44166 0.48525 -0.53009 0.45417 -0.59352 C 0.45139 -0.60972 0.45469 -0.5956 0.44914 -0.60903 C 0.43716 -0.63842 0.43004 -0.65833 0.40417 -0.66898 C 0.39827 -0.67731 0.404 -0.67106 0.39428 -0.67569 C 0.38317 -0.68102 0.38577 -0.68403 0.37257 -0.6868 C 0.32639 -0.68518 0.32674 -0.68541 0.29584 -0.68009 C 0.27362 -0.66829 0.25157 -0.65648 0.22917 -0.64467 C 0.21806 -0.63889 0.20469 -0.6294 0.19254 -0.62916 C 0.15591 -0.62847 0.1191 -0.62916 0.08247 -0.62916 E">
                                      <p:cBhvr>
                                        <p:cTn id="201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2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20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20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j0074852.wav"/>
                                        </p:tgtEl>
                                      </p:cMediaNode>
                                    </p:audio>
                                    <p:animMotion origin="layout" path="M 0.44723 -0.31898 C 0.44132 -0.32685 0.44427 -0.32152 0.44046 -0.3368 C 0.43941 -0.3412 0.43716 -0.35023 0.43716 -0.35023 C 0.43872 -0.39004 0.43455 -0.41157 0.46216 -0.43032 C 0.46823 -0.43865 0.47743 -0.44027 0.48386 -0.44791 C 0.49671 -0.46342 0.50521 -0.47939 0.51042 -0.50138 C 0.51302 -0.52731 0.51719 -0.55231 0.50209 -0.57245 C 0.50157 -0.57546 0.50191 -0.57916 0.50052 -0.58125 C 0.49983 -0.58263 0.48907 -0.58564 0.48889 -0.58564 C 0.47639 -0.59027 0.46771 -0.59097 0.45382 -0.59236 C 0.43855 -0.59583 0.43629 -0.60254 0.42379 -0.6125 C 0.42275 -0.61551 0.42223 -0.61898 0.42049 -0.62129 C 0.41927 -0.62291 0.41667 -0.62199 0.41546 -0.62361 C 0.41372 -0.62592 0.41355 -0.62963 0.41216 -0.6324 C 0.40921 -0.63796 0.40625 -0.64004 0.40209 -0.64351 C 0.39948 -0.64884 0.39618 -0.65347 0.39375 -0.65902 C 0.39289 -0.66111 0.39289 -0.66365 0.39219 -0.66574 C 0.38941 -0.67338 0.38559 -0.68101 0.38212 -0.68796 C 0.37709 -0.70995 0.37171 -0.73611 0.35886 -0.75231 C 0.35504 -0.76713 0.36007 -0.74976 0.35209 -0.76805 C 0.34966 -0.77361 0.34896 -0.78125 0.34549 -0.78564 C 0.33629 -0.79791 0.32691 -0.81481 0.31389 -0.81898 C 0.31059 -0.82199 0.30764 -0.82638 0.30382 -0.82801 C 0.29792 -0.83055 0.2908 -0.83287 0.28542 -0.8368 C 0.2783 -0.84213 0.27014 -0.85138 0.26216 -0.85463 C 0.24584 -0.86134 0.22743 -0.86319 0.21042 -0.86574 C 0.19514 -0.87106 0.21355 -0.86527 0.18542 -0.87013 C 0.17396 -0.87222 0.16181 -0.87685 0.15052 -0.87916 C 0.13021 -0.8831 0.10938 -0.87916 0.08889 -0.87916 E">
                                      <p:cBhvr>
                                        <p:cTn id="208" dur="2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21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1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212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j0074852.wav"/>
                                        </p:tgtEl>
                                      </p:cMediaNode>
                                    </p:audio>
                                    <p:animMotion origin="layout" path="M 0.53993 -0.54283 C 0.53924 -0.58334 0.54323 -0.64908 0.52483 -0.68959 C 0.52274 -0.71065 0.51754 -0.72986 0.51163 -0.74954 C 0.50816 -0.76088 0.50642 -0.77431 0.50156 -0.78496 C 0.49965 -0.78889 0.49688 -0.79213 0.49497 -0.79607 C 0.49149 -0.81389 0.49636 -0.79699 0.48663 -0.81181 C 0.47674 -0.82709 0.49063 -0.81574 0.47656 -0.825 C 0.47153 -0.83426 0.46684 -0.8463 0.4599 -0.85394 C 0.45295 -0.86158 0.45712 -0.85556 0.44983 -0.86065 C 0.4467 -0.86274 0.44479 -0.86783 0.44149 -0.86945 C 0.43663 -0.87199 0.42708 -0.87431 0.42153 -0.87616 C 0.41823 -0.87709 0.41493 -0.87778 0.41163 -0.87848 C 0.40434 -0.8801 0.38993 -0.88287 0.38993 -0.88287 C 0.37986 -0.88704 0.37031 -0.88982 0.3599 -0.89167 C 0.33767 -0.90186 0.30799 -0.90486 0.2849 -0.90718 C 0.26997 -0.90649 0.25486 -0.90672 0.23993 -0.9051 C 0.23038 -0.90394 0.22118 -0.89977 0.21163 -0.89838 C 0.19948 -0.89306 0.20504 -0.89514 0.19497 -0.89167 C 0.18507 -0.88311 0.18281 -0.88125 0.17153 -0.87848 C 0.16597 -0.87454 0.16024 -0.87315 0.15486 -0.86945 C 0.1434 -0.86181 0.1559 -0.8676 0.14497 -0.86274 C 0.13993 -0.86042 0.12986 -0.85625 0.12986 -0.85625 C 0.12396 -0.84792 0.12969 -0.85417 0.11997 -0.84954 C 0.10243 -0.84098 0.09219 -0.83403 0.07326 -0.83403 E">
                                      <p:cBhvr>
                                        <p:cTn id="215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6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21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8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219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j0074852.wav"/>
                                        </p:tgtEl>
                                      </p:cMediaNode>
                                    </p:audio>
                                    <p:animMotion origin="layout" path="M 0.07396 -0.65879 C 0.04757 -0.65463 0.05521 -0.66666 0.00452 -0.66991 C -0.01822 -0.67315 -0.04045 -0.66018 -0.06371 -0.6618 C -0.12674 -0.66088 -0.19289 -0.68009 -0.2533 -0.65509 C -0.25365 -0.65463 -0.26216 -0.64653 -0.26337 -0.64398 C -0.27084 -0.62731 -0.27657 -0.60856 -0.2816 -0.59051 C -0.28299 -0.58541 -0.28386 -0.58009 -0.2849 -0.575 C -0.28612 -0.56898 -0.28837 -0.55717 -0.28837 -0.55694 C -0.2908 -0.52384 -0.29428 -0.48842 -0.28004 -0.45949 C -0.27761 -0.44676 -0.27257 -0.44004 -0.26667 -0.43055 C -0.26546 -0.42847 -0.26424 -0.42616 -0.26337 -0.42384 C -0.26268 -0.42176 -0.26268 -0.41921 -0.26164 -0.41736 C -0.25747 -0.41041 -0.25278 -0.40393 -0.24827 -0.39722 C -0.2441 -0.39097 -0.23941 -0.38541 -0.2349 -0.3794 C -0.23334 -0.37731 -0.23004 -0.37291 -0.23004 -0.37268 C -0.2283 -0.3662 -0.22726 -0.35926 -0.225 -0.35278 C -0.22414 -0.35046 -0.22257 -0.34861 -0.22171 -0.34606 C -0.22032 -0.3419 -0.21823 -0.33287 -0.21823 -0.33264 C -0.21771 -0.32778 -0.21737 -0.32245 -0.21667 -0.31736 C -0.21546 -0.30856 -0.2099 -0.2993 -0.2099 -0.29051 C -0.2099 -0.28171 -0.2099 -0.27268 -0.2099 -0.26389 E">
                                      <p:cBhvr>
                                        <p:cTn id="222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3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22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5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226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j0074852.wav"/>
                                        </p:tgtEl>
                                      </p:cMediaNode>
                                    </p:audio>
                                    <p:animMotion origin="layout" path="M 0.08247 -0.62917 C 0.07587 -0.62986 0.0691 -0.62986 0.06251 -0.63148 C 0.05678 -0.63287 0.05018 -0.63843 0.04428 -0.64028 C 0.03594 -0.65093 0.02674 -0.65139 0.01754 -0.6581 C 0.00139 -0.66991 0.01407 -0.66505 -0.00086 -0.66921 C -0.00815 -0.6757 -0.01562 -0.67801 -0.02413 -0.68033 C -0.03229 -0.68588 -0.0401 -0.69121 -0.04913 -0.69375 C -0.05885 -0.70023 -0.06874 -0.70301 -0.07916 -0.70695 C -0.08836 -0.71042 -0.0802 -0.70764 -0.08906 -0.71366 C -0.09392 -0.7169 -0.10034 -0.71829 -0.10572 -0.72037 C -0.12847 -0.72894 -0.1526 -0.73125 -0.17586 -0.73588 C -0.21041 -0.74283 -0.24427 -0.75185 -0.27916 -0.75579 C -0.28854 -0.75509 -0.29808 -0.75556 -0.30746 -0.75371 C -0.31545 -0.75208 -0.31909 -0.7382 -0.32413 -0.73148 C -0.32552 -0.72963 -0.3276 -0.72871 -0.32916 -0.72708 C -0.33038 -0.7257 -0.33142 -0.72408 -0.33246 -0.72246 C -0.33454 -0.71435 -0.33732 -0.70741 -0.34079 -0.70023 C -0.34357 -0.68634 -0.34583 -0.67222 -0.34739 -0.6581 C -0.346 -0.64306 -0.34548 -0.6375 -0.34079 -0.62477 C -0.3394 -0.61111 -0.33749 -0.59583 -0.3342 -0.58264 C -0.33124 -0.5706 -0.32499 -0.5625 -0.32083 -0.55139 C -0.31527 -0.53658 -0.3092 -0.52315 -0.30243 -0.50926 C -0.29895 -0.50232 -0.29288 -0.5 -0.28906 -0.49375 C -0.28437 -0.48611 -0.28194 -0.47708 -0.27743 -0.46921 C -0.27552 -0.46134 -0.27361 -0.45046 -0.27083 -0.44259 C -0.26909 -0.43773 -0.26597 -0.43496 -0.26579 -0.42917 C -0.26527 -0.40625 -0.26579 -0.38333 -0.26579 -0.36042 E">
                                      <p:cBhvr>
                                        <p:cTn id="229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0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23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2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233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j0074852.wav"/>
                                        </p:tgtEl>
                                      </p:cMediaNode>
                                    </p:audio>
                                    <p:animMotion origin="layout" path="M 0.08889 -0.87917 C 0.0198 -0.87801 -0.03698 -0.88195 -0.10121 -0.87037 C -0.10312 -0.86968 -0.10468 -0.86921 -0.10625 -0.86806 C -0.10798 -0.8669 -0.10954 -0.86482 -0.11111 -0.86366 C -0.11441 -0.86181 -0.12118 -0.85926 -0.12118 -0.85926 C -0.1276 -0.85023 -0.14392 -0.84236 -0.15277 -0.83912 C -0.15816 -0.83449 -0.16441 -0.83148 -0.16944 -0.82593 C -0.18281 -0.81134 -0.19652 -0.79653 -0.20954 -0.78148 C -0.21666 -0.77315 -0.22187 -0.76158 -0.22951 -0.75463 C -0.23767 -0.73287 -0.22569 -0.76227 -0.24288 -0.73241 C -0.24739 -0.72454 -0.25104 -0.71713 -0.25625 -0.71019 C -0.25972 -0.69607 -0.25486 -0.70995 -0.26284 -0.70139 C -0.26441 -0.69977 -0.26475 -0.69653 -0.26614 -0.69468 C -0.26927 -0.69051 -0.27309 -0.68773 -0.27621 -0.68357 C -0.27882 -0.67269 -0.2809 -0.66713 -0.28611 -0.65695 C -0.28732 -0.65463 -0.28958 -0.65023 -0.28958 -0.65023 C -0.29149 -0.6419 -0.29427 -0.63519 -0.29791 -0.62801 C -0.29965 -0.6206 -0.3026 -0.61528 -0.30451 -0.6081 C -0.30555 -0.58773 -0.3059 -0.56366 -0.31111 -0.54352 C -0.31232 -0.53912 -0.31354 -0.53472 -0.31458 -0.53033 C -0.31562 -0.52593 -0.31788 -0.5169 -0.31788 -0.5169 C -0.31909 -0.5037 -0.31805 -0.49699 -0.32448 -0.48796 C -0.3302 -0.46644 -0.32951 -0.4632 -0.32951 -0.43704 E">
                                      <p:cBhvr>
                                        <p:cTn id="236" dur="2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7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23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9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240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j0074852.wav"/>
                                        </p:tgtEl>
                                      </p:cMediaNode>
                                    </p:audio>
                                    <p:animMotion origin="layout" path="M 0.07292 -0.83472 C 0.05244 -0.83796 0.04879 -0.8537 0.0349 -0.85347 C -0.06736 -0.85208 -0.16945 -0.85208 -0.27171 -0.85139 C -0.28056 -0.84722 -0.28733 -0.84028 -0.29497 -0.83357 C -0.29983 -0.82917 -0.30157 -0.82245 -0.30678 -0.81806 C -0.30782 -0.81574 -0.30921 -0.81366 -0.31007 -0.81134 C -0.31077 -0.80926 -0.31077 -0.80671 -0.31164 -0.80463 C -0.3125 -0.80278 -0.31407 -0.80185 -0.31511 -0.80023 C -0.32014 -0.7919 -0.32639 -0.78079 -0.33004 -0.7713 C -0.33542 -0.75695 -0.33941 -0.74051 -0.34844 -0.72917 C -0.3507 -0.71945 -0.35487 -0.71134 -0.35834 -0.70255 C -0.36233 -0.69236 -0.36441 -0.68426 -0.37171 -0.67801 C -0.38073 -0.63218 -0.3783 -0.62407 -0.3783 -0.5581 E">
                                      <p:cBhvr>
                                        <p:cTn id="243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4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24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6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247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j0074852.wav"/>
                                        </p:tgtEl>
                                      </p:cMediaNode>
                                    </p:audio>
                                    <p:animMotion origin="layout" path="M -0.2099 -0.26389 C -0.20122 -0.2287 -0.21007 -0.26736 -0.20573 -0.17708 C -0.20539 -0.17037 -0.20226 -0.16389 -0.20139 -0.15717 C -0.19636 -0.11643 -0.1875 -0.0919 -0.16285 -0.05926 C -0.15244 -0.04583 -0.13803 -0.02893 -0.12188 -0.02384 C -0.11494 -0.01898 -0.10851 -0.01528 -0.10035 -0.01273 C -0.08732 -0.00347 -0.08124 -0.00208 -0.06631 0.00278 C -0.04236 0.00486 0.000869999999999999 -0.00046 0.02153 -0.00092 C 0.04219 -0.00139 0.04983 0.00023 0.0573 0.00047 E">
                                      <p:cBhvr>
                                        <p:cTn id="250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1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25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3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254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j0074852.wav"/>
                                        </p:tgtEl>
                                      </p:cMediaNode>
                                    </p:audio>
                                    <p:animMotion origin="layout" path="M -0.26579 -0.36041 C -0.26562 -0.34699 -0.28107 -0.2162 -0.25572 -0.16712 C -0.25381 -0.15902 -0.25034 -0.15254 -0.24739 -0.1449 C -0.246 -0.13449 -0.24479 -0.128 -0.23906 -0.12037 C -0.23663 -0.11018 -0.23263 -0.09976 -0.22586 -0.09374 C -0.21163 -0.06597 -0.19444 -0.04606 -0.17239 -0.02939 C -0.16562 -0.0243 -0.15781 -0.02268 -0.15086 -0.01828 C -0.14479 -0.01435 -0.13836 -0.01319 -0.13246 -0.00925 C -0.12152 -0.00185 -0.13402 -0.00694 -0.12083 -0.00277 C -0.0644 0.03588 -0.11666 0.00186 0.05417 0.00186 E">
                                      <p:cBhvr>
                                        <p:cTn id="257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8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25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6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j0074852.wav"/>
                                        </p:tgtEl>
                                      </p:cMediaNode>
                                    </p:audio>
                                    <p:animMotion origin="layout" path="M -0.32951 -0.43703 C -0.34409 -0.39837 -0.33767 -0.29166 -0.33784 -0.28587 C -0.33611 -0.23587 -0.33524 -0.18981 -0.32621 -0.14143 C -0.32517 -0.13564 -0.32152 -0.13124 -0.31944 -0.12592 C -0.31198 -0.1074 -0.3059 -0.08865 -0.29791 -0.07036 C -0.28906 -0.04999 -0.27621 -0.02036 -0.25781 -0.01273 C -0.24965 -0.00439 -0.23941 -0.00069 -0.23125 0.00741 C -0.22899 0.00973 -0.22708 0.01251 -0.22448 0.01413 C -0.22239 0.01551 -0.22013 0.01528 -0.21788 0.01621 C -0.21614 0.0169 -0.21441 0.01737 -0.21284 0.01852 C -0.19722 0.02894 -0.22309 0.01598 -0.19791 0.02732 C -0.19618 0.02801 -0.19288 0.02964 -0.19288 0.02964 C -0.17569 0.02894 -0.15833 0.02871 -0.14114 0.02732 C -0.13125 0.02663 -0.12378 0.02107 -0.11284 0.02061 C -0.08576 0.01945 -0.0585 0.01922 -0.03125 0.01852 C -0.01024 0.01436 0.01094 0.01251 0.03212 0.0095 C 0.03837 0.00764 0.04445 0.00579 0.05052 0.00301 C 0.05382 0.00163 0.06042 -0.00161 0.06042 -0.00161 C 0.06285 -0.00462 0.06563 -0.01273 0.06875 -0.01273 E">
                                      <p:cBhvr>
                                        <p:cTn id="264" dur="2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5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26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7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268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j0074852.wav"/>
                                        </p:tgtEl>
                                      </p:cMediaNode>
                                    </p:audio>
                                    <p:animMotion origin="layout" path="M -0.3783 -0.5581 C -0.37534 -0.49028 -0.37812 -0.42222 -0.375 -0.3544 C -0.37465 -0.34792 -0.36961 -0.34306 -0.3684 -0.33681 C -0.36527 -0.32083 -0.36059 -0.30671 -0.35503 -0.2919 C -0.35208 -0.2838 -0.35121 -0.27315 -0.34826 -0.26482 C -0.3408 -0.24491 -0.34357 -0.25833 -0.33663 -0.24259 C -0.32413 -0.21343 -0.30573 -0.17222 -0.28333 -0.15532 C -0.26076 -0.13843 -0.2875 -0.16204 -0.26857 -0.14653 C -0.25416 -0.13495 -0.26354 -0.13958 -0.2533 -0.13519 C -0.24392 -0.12662 -0.25034 -0.13148 -0.2335 -0.12407 C -0.19722 -0.10833 -0.15104 -0.06713 -0.10833 -0.05232 C -0.10086 -0.04583 -0.09305 -0.04653 -0.08524 -0.0412 C -0.075 -0.03403 -0.06319 -0.02847 -0.05173 -0.02546 C -0.03645 -0.01551 -0.01857 -0.01921 -0.00173 -0.01667 C 0.01407 -0.01134 0.03039 -0.00926 0.0467 -0.00764 C 0.05209 -0.00509 0.05 -0.00556 0.05313 -0.00556 E">
                                      <p:cBhvr>
                                        <p:cTn id="271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2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27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9" name=""/>
            <p:cNvSpPr/>
            <p:nvPr/>
          </p:nvSpPr>
          <p:spPr>
            <a:xfrm>
              <a:off x="0" y="0"/>
              <a:ext cx="9144000" cy="6858000"/>
            </a:xfrm>
            <a:prstGeom prst="roundRect">
              <a:avLst>
                <a:gd name="adj" fmla="val 33449"/>
              </a:avLst>
            </a:prstGeom>
            <a:solidFill>
              <a:srgbClr val="c0c0c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981080" y="1676520"/>
              <a:ext cx="4876920" cy="3352680"/>
            </a:xfrm>
            <a:prstGeom prst="roundRect">
              <a:avLst>
                <a:gd name="adj" fmla="val 33449"/>
              </a:avLst>
            </a:prstGeom>
            <a:gradFill rotWithShape="0">
              <a:gsLst>
                <a:gs pos="0">
                  <a:srgbClr val="008000"/>
                </a:gs>
                <a:gs pos="50000">
                  <a:srgbClr val="009900"/>
                </a:gs>
                <a:gs pos="100000">
                  <a:srgbClr val="008000"/>
                </a:gs>
              </a:gsLst>
              <a:lin ang="135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90720" y="762120"/>
              <a:ext cx="6781680" cy="5105160"/>
            </a:xfrm>
            <a:prstGeom prst="roundRect">
              <a:avLst>
                <a:gd name="adj" fmla="val 33449"/>
              </a:avLst>
            </a:prstGeom>
            <a:noFill/>
            <a:ln w="572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4343400" y="502920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286080" y="5011560"/>
            <a:ext cx="914400" cy="3985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3286080" y="5475240"/>
            <a:ext cx="914400" cy="3920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3276720" y="5992920"/>
            <a:ext cx="923760" cy="4078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3286080" y="6470640"/>
            <a:ext cx="914400" cy="3873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3200400" y="5105520"/>
            <a:ext cx="990720" cy="30456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76720" y="5562720"/>
            <a:ext cx="990360" cy="30456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276720" y="6019920"/>
            <a:ext cx="990360" cy="3808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276720" y="6553080"/>
            <a:ext cx="990360" cy="30492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010280" y="2971800"/>
            <a:ext cx="53352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772400" y="2971800"/>
            <a:ext cx="53352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620120" y="3733920"/>
            <a:ext cx="53316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8381880" y="2743200"/>
            <a:ext cx="53352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114800" y="457200"/>
            <a:ext cx="609480" cy="3808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267080" y="1143000"/>
            <a:ext cx="609840" cy="3808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343400" y="0"/>
            <a:ext cx="609480" cy="3808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191120" y="838080"/>
            <a:ext cx="609480" cy="30492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523880" y="3048120"/>
            <a:ext cx="60984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90720" y="2819520"/>
            <a:ext cx="60948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80880" y="2819520"/>
            <a:ext cx="60984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2438280"/>
            <a:ext cx="609480" cy="60984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200400" y="4343400"/>
            <a:ext cx="24098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Next Lap!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274" dur="indefinite" restart="never" nodeType="tmRoot">
          <p:childTnLst>
            <p:seq>
              <p:cTn id="275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276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j0074852.wav"/>
                                        </p:tgtEl>
                                      </p:cMediaNode>
                                    </p:audio>
                                    <p:animMotion origin="layout" path="M 0.0573 -0.00046 C 0.11181 -0.00162 0.33004 0.03403 0.3849 -0.00764 C 0.43976 -0.0493 0.3856 -0.20694 0.38664 -0.25 C 0.38768 -0.29305 0.38959 -0.2794 0.39167 -0.26551 E">
                                      <p:cBhvr>
                                        <p:cTn id="279" dur="2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0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5400000">
                                      <p:cBhvr>
                                        <p:cTn id="28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2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283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j0074852.wav"/>
                                        </p:tgtEl>
                                      </p:cMediaNode>
                                    </p:audio>
                                    <p:animMotion origin="layout" path="M 0.05504 0.00116 C 0.10973 0.00046 0.17049 0.02824 0.21927 -0.00856 C 0.22466 -0.0125 0.22691 -0.01782 0.23264 -0.02106 C 0.23941 -0.03055 0.24723 -0.03912 0.25625 -0.04329 C 0.26407 -0.05139 0.2698 -0.05463 0.27795 -0.06088 C 0.28507 -0.06597 0.29028 -0.07616 0.29636 -0.0831 C 0.29948 -0.0868 0.30365 -0.08866 0.30643 -0.09305 C 0.31198 -0.10116 0.31389 -0.10926 0.32153 -0.11296 C 0.32969 -0.13148 0.34289 -0.14768 0.35504 -0.16018 C 0.35938 -0.16458 0.36407 -0.16852 0.36858 -0.17268 C 0.37275 -0.17662 0.38195 -0.18241 0.38195 -0.18217 C 0.38976 -0.19421 0.38507 -0.18819 0.39705 -0.19977 C 0.39879 -0.20139 0.40035 -0.20324 0.40209 -0.20486 C 0.40382 -0.20648 0.40712 -0.20995 0.40712 -0.20972 C 0.41164 -0.22014 0.4191 -0.22477 0.42552 -0.23217 C 0.43594 -0.24467 0.44618 -0.25856 0.45747 -0.26944 C 0.475 -0.30903 0.47084 -0.31041 0.47084 -0.37129 E">
                                      <p:cBhvr>
                                        <p:cTn id="286" dur="2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7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5400000">
                                      <p:cBhvr>
                                        <p:cTn id="28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9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290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j0074852.wav"/>
                                        </p:tgtEl>
                                      </p:cMediaNode>
                                    </p:audio>
                                    <p:animMotion origin="layout" path="M 0.06858 -0.01366 C 0.13681 -0.01481 0.20712 -0.0162 0.27553 -0.02338 C 0.2816 -0.02546 0.28785 -0.02592 0.29393 -0.02801 C 0.30521 -0.03217 0.31598 -0.04097 0.32726 -0.0456 C 0.33421 -0.05231 0.34237 -0.06018 0.35053 -0.06342 C 0.36459 -0.07569 0.38091 -0.08379 0.39549 -0.09467 C 0.41407 -0.10833 0.43125 -0.12523 0.44879 -0.1412 C 0.45469 -0.15254 0.46146 -0.16296 0.46719 -0.17453 C 0.4724 -0.18518 0.47309 -0.20231 0.47553 -0.21458 C 0.475 -0.2331 0.47518 -0.25162 0.47379 -0.27014 C 0.47292 -0.28217 0.4625 -0.30486 0.45556 -0.31227 C 0.43507 -0.33379 0.46407 -0.29653 0.44723 -0.31898 E">
                                      <p:cBhvr>
                                        <p:cTn id="293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4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5400000">
                                      <p:cBhvr>
                                        <p:cTn id="29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6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297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j0074852.wav"/>
                                        </p:tgtEl>
                                      </p:cMediaNode>
                                    </p:audio>
                                    <p:animMotion origin="layout" path="M 0.05417 -0.00509 C 0.06007 -0.00394 0.07709 -0.00162 0.09028 -0.00046 C 0.10348 0.00069 0.11563 0.00231 0.13334 0.00162 C 0.16511 -0.00324 0.1408 0.00023 0.19671 -0.00509 C 0.20452 -0.00579 0.21997 -0.00741 0.21997 -0.00718 C 0.24271 -0.01204 0.26563 -0.01204 0.28837 -0.0162 C 0.304 -0.01921 0.28941 -0.01736 0.30504 -0.02292 C 0.31719 -0.02732 0.33091 -0.02778 0.34341 -0.02963 C 0.35296 -0.03264 0.36025 -0.03843 0.36997 -0.04074 C 0.38091 -0.04792 0.39323 -0.05347 0.40504 -0.05833 C 0.41233 -0.06505 0.41962 -0.07153 0.42674 -0.07847 C 0.4408 -0.09236 0.43126 -0.0875 0.44167 -0.09167 C 0.44966 -0.10278 0.43907 -0.08912 0.45174 -0.1007 C 0.45834 -0.10671 0.46823 -0.12153 0.47674 -0.125 C 0.47969 -0.1375 0.48941 -0.14421 0.49671 -0.15185 C 0.50382 -0.15926 0.50712 -0.17014 0.51337 -0.17847 C 0.51771 -0.19722 0.51146 -0.17431 0.51841 -0.18958 C 0.52101 -0.19514 0.52275 -0.20139 0.52501 -0.20741 C 0.52674 -0.21204 0.5316 -0.2206 0.5316 -0.22037 C 0.55608 -0.34745 0.53994 -0.20093 0.53994 -0.54282 E">
                                      <p:cBhvr>
                                        <p:cTn id="300" dur="2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1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5400000">
                                      <p:cBhvr>
                                        <p:cTn id="30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3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304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j0074852.wav"/>
                                        </p:tgtEl>
                                      </p:cMediaNode>
                                    </p:audio>
                                    <p:animMotion origin="layout" path="M 0.39167 -0.29305 C 0.39237 -0.33657 0.38664 -0.38889 0.39844 -0.43287 C 0.39757 -0.46366 0.40296 -0.48241 0.39167 -0.50416 C 0.38837 -0.51991 0.38403 -0.52893 0.37848 -0.54398 C 0.37674 -0.54838 0.37119 -0.54907 0.36841 -0.55069 C 0.35886 -0.55602 0.35105 -0.56805 0.34011 -0.56852 C 0.30296 -0.56991 0.26563 -0.57014 0.22848 -0.57083 C 0.22032 -0.57291 0.21719 -0.575 0.21007 -0.57963 C 0.20573 -0.58241 0.20087 -0.58333 0.19671 -0.58634 C 0.18976 -0.59143 0.18403 -0.59768 0.17674 -0.60185 C 0.17466 -0.60301 0.16546 -0.60555 0.16337 -0.60625 C 0.15313 -0.61018 0.1474 -0.61319 0.13681 -0.61528 C 0.12744 -0.62338 0.11563 -0.62592 0.10504 -0.63078 C 0.10278 -0.6331 0.10035 -0.63495 0.09844 -0.6375 C 0.09705 -0.63935 0.09671 -0.64236 0.09513 -0.64398 C 0.09376 -0.64537 0.09323 -0.6493 0.09167 -0.65046 C 0.0882 -0.65301 0.08525 -0.65486 0.08195 -0.65787 C 0.08039 -0.65926 0.08264 -0.65509 0.07501 -0.65717 E">
                                      <p:cBhvr>
                                        <p:cTn id="307" dur="2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8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30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0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311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j0074852.wav"/>
                                        </p:tgtEl>
                                      </p:cMediaNode>
                                    </p:audio>
                                    <p:animMotion origin="layout" path="M 0.47084 -0.37129 C 0.4724 -0.44166 0.48525 -0.53009 0.45417 -0.59352 C 0.45139 -0.60972 0.45469 -0.5956 0.44914 -0.60903 C 0.43716 -0.63842 0.43004 -0.65833 0.40417 -0.66898 C 0.39827 -0.67731 0.404 -0.67106 0.39428 -0.67569 C 0.38317 -0.68102 0.38577 -0.68403 0.37257 -0.6868 C 0.32639 -0.68518 0.32674 -0.68541 0.29584 -0.68009 C 0.27362 -0.66829 0.25157 -0.65648 0.22917 -0.64467 C 0.21806 -0.63889 0.20469 -0.6294 0.19254 -0.62916 C 0.15591 -0.62847 0.1191 -0.62916 0.08247 -0.62916 E">
                                      <p:cBhvr>
                                        <p:cTn id="314" dur="2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5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31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7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318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j0074852.wav"/>
                                        </p:tgtEl>
                                      </p:cMediaNode>
                                    </p:audio>
                                    <p:animMotion origin="layout" path="M 0.44723 -0.31898 C 0.44132 -0.32685 0.44427 -0.32152 0.44046 -0.3368 C 0.43941 -0.3412 0.43716 -0.35023 0.43716 -0.35023 C 0.43872 -0.39004 0.43455 -0.41157 0.46216 -0.43032 C 0.46823 -0.43865 0.47743 -0.44027 0.48386 -0.44791 C 0.49671 -0.46342 0.50521 -0.47939 0.51042 -0.50138 C 0.51302 -0.52731 0.51719 -0.55231 0.50209 -0.57245 C 0.50157 -0.57546 0.50191 -0.57916 0.50052 -0.58125 C 0.49983 -0.58263 0.48907 -0.58564 0.48889 -0.58564 C 0.47639 -0.59027 0.46771 -0.59097 0.45382 -0.59236 C 0.43855 -0.59583 0.43629 -0.60254 0.42379 -0.6125 C 0.42275 -0.61551 0.42223 -0.61898 0.42049 -0.62129 C 0.41927 -0.62291 0.41667 -0.62199 0.41546 -0.62361 C 0.41372 -0.62592 0.41355 -0.62963 0.41216 -0.6324 C 0.40921 -0.63796 0.40625 -0.64004 0.40209 -0.64351 C 0.39948 -0.64884 0.39618 -0.65347 0.39375 -0.65902 C 0.39289 -0.66111 0.39289 -0.66365 0.39219 -0.66574 C 0.38941 -0.67338 0.38559 -0.68101 0.38212 -0.68796 C 0.37709 -0.70995 0.37171 -0.73611 0.35886 -0.75231 C 0.35504 -0.76713 0.36007 -0.74976 0.35209 -0.76805 C 0.34966 -0.77361 0.34896 -0.78125 0.34549 -0.78564 C 0.33629 -0.79791 0.32691 -0.81481 0.31389 -0.81898 C 0.31059 -0.82199 0.30764 -0.82638 0.30382 -0.82801 C 0.29792 -0.83055 0.2908 -0.83287 0.28542 -0.8368 C 0.2783 -0.84213 0.27014 -0.85138 0.26216 -0.85463 C 0.24584 -0.86134 0.22743 -0.86319 0.21042 -0.86574 C 0.19514 -0.87106 0.21355 -0.86527 0.18542 -0.87013 C 0.17396 -0.87222 0.16181 -0.87685 0.15052 -0.87916 C 0.13021 -0.8831 0.10938 -0.87916 0.08889 -0.87916 E">
                                      <p:cBhvr>
                                        <p:cTn id="321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2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32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4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325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j0074852.wav"/>
                                        </p:tgtEl>
                                      </p:cMediaNode>
                                    </p:audio>
                                    <p:animMotion origin="layout" path="M 0.53993 -0.54283 C 0.53924 -0.58334 0.54323 -0.64908 0.52483 -0.68959 C 0.52274 -0.71065 0.51754 -0.72986 0.51163 -0.74954 C 0.50816 -0.76088 0.50642 -0.77431 0.50156 -0.78496 C 0.49965 -0.78889 0.49688 -0.79213 0.49497 -0.79607 C 0.49149 -0.81389 0.49636 -0.79699 0.48663 -0.81181 C 0.47674 -0.82709 0.49063 -0.81574 0.47656 -0.825 C 0.47153 -0.83426 0.46684 -0.8463 0.4599 -0.85394 C 0.45295 -0.86158 0.45712 -0.85556 0.44983 -0.86065 C 0.4467 -0.86274 0.44479 -0.86783 0.44149 -0.86945 C 0.43663 -0.87199 0.42708 -0.87431 0.42153 -0.87616 C 0.41823 -0.87709 0.41493 -0.87778 0.41163 -0.87848 C 0.40434 -0.8801 0.38993 -0.88287 0.38993 -0.88287 C 0.37986 -0.88704 0.37031 -0.88982 0.3599 -0.89167 C 0.33767 -0.90186 0.30799 -0.90486 0.2849 -0.90718 C 0.26997 -0.90649 0.25486 -0.90672 0.23993 -0.9051 C 0.23038 -0.90394 0.22118 -0.89977 0.21163 -0.89838 C 0.19948 -0.89306 0.20504 -0.89514 0.19497 -0.89167 C 0.18507 -0.88311 0.18281 -0.88125 0.17153 -0.87848 C 0.16597 -0.87454 0.16024 -0.87315 0.15486 -0.86945 C 0.1434 -0.86181 0.1559 -0.8676 0.14497 -0.86274 C 0.13993 -0.86042 0.12986 -0.85625 0.12986 -0.85625 C 0.12396 -0.84792 0.12969 -0.85417 0.11997 -0.84954 C 0.10243 -0.84098 0.09219 -0.83403 0.07326 -0.83403 E">
                                      <p:cBhvr>
                                        <p:cTn id="328" dur="2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9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33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1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332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j0074852.wav"/>
                                        </p:tgtEl>
                                      </p:cMediaNode>
                                    </p:audio>
                                    <p:animMotion origin="layout" path="M 0.07396 -0.65879 C 0.04757 -0.65463 0.05521 -0.66666 0.00452 -0.66991 C -0.01822 -0.67315 -0.04045 -0.66018 -0.06371 -0.6618 C -0.12674 -0.66088 -0.19289 -0.68009 -0.2533 -0.65509 C -0.25365 -0.65463 -0.26216 -0.64653 -0.26337 -0.64398 C -0.27084 -0.62731 -0.27657 -0.60856 -0.2816 -0.59051 C -0.28299 -0.58541 -0.28386 -0.58009 -0.2849 -0.575 C -0.28612 -0.56898 -0.28837 -0.55717 -0.28837 -0.55694 C -0.2908 -0.52384 -0.29428 -0.48842 -0.28004 -0.45949 C -0.27761 -0.44676 -0.27257 -0.44004 -0.26667 -0.43055 C -0.26546 -0.42847 -0.26424 -0.42616 -0.26337 -0.42384 C -0.26268 -0.42176 -0.26268 -0.41921 -0.26164 -0.41736 C -0.25747 -0.41041 -0.25278 -0.40393 -0.24827 -0.39722 C -0.2441 -0.39097 -0.23941 -0.38541 -0.2349 -0.3794 C -0.23334 -0.37731 -0.23004 -0.37291 -0.23004 -0.37268 C -0.2283 -0.3662 -0.22726 -0.35926 -0.225 -0.35278 C -0.22414 -0.35046 -0.22257 -0.34861 -0.22171 -0.34606 C -0.22032 -0.3419 -0.21823 -0.33287 -0.21823 -0.33264 C -0.21771 -0.32778 -0.21737 -0.32245 -0.21667 -0.31736 C -0.21546 -0.30856 -0.2099 -0.2993 -0.2099 -0.29051 C -0.2099 -0.28171 -0.2099 -0.27268 -0.2099 -0.26389 E">
                                      <p:cBhvr>
                                        <p:cTn id="335" dur="2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6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33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8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339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j0074852.wav"/>
                                        </p:tgtEl>
                                      </p:cMediaNode>
                                    </p:audio>
                                    <p:animMotion origin="layout" path="M 0.08247 -0.62917 C 0.07587 -0.62986 0.0691 -0.62986 0.06251 -0.63148 C 0.05678 -0.63287 0.05018 -0.63843 0.04428 -0.64028 C 0.03594 -0.65093 0.02674 -0.65139 0.01754 -0.6581 C 0.00139 -0.66991 0.01407 -0.66505 -0.00086 -0.66921 C -0.00815 -0.6757 -0.01562 -0.67801 -0.02413 -0.68033 C -0.03229 -0.68588 -0.0401 -0.69121 -0.04913 -0.69375 C -0.05885 -0.70023 -0.06874 -0.70301 -0.07916 -0.70695 C -0.08836 -0.71042 -0.0802 -0.70764 -0.08906 -0.71366 C -0.09392 -0.7169 -0.10034 -0.71829 -0.10572 -0.72037 C -0.12847 -0.72894 -0.1526 -0.73125 -0.17586 -0.73588 C -0.21041 -0.74283 -0.24427 -0.75185 -0.27916 -0.75579 C -0.28854 -0.75509 -0.29808 -0.75556 -0.30746 -0.75371 C -0.31545 -0.75208 -0.31909 -0.7382 -0.32413 -0.73148 C -0.32552 -0.72963 -0.3276 -0.72871 -0.32916 -0.72708 C -0.33038 -0.7257 -0.33142 -0.72408 -0.33246 -0.72246 C -0.33454 -0.71435 -0.33732 -0.70741 -0.34079 -0.70023 C -0.34357 -0.68634 -0.34583 -0.67222 -0.34739 -0.6581 C -0.346 -0.64306 -0.34548 -0.6375 -0.34079 -0.62477 C -0.3394 -0.61111 -0.33749 -0.59583 -0.3342 -0.58264 C -0.33124 -0.5706 -0.32499 -0.5625 -0.32083 -0.55139 C -0.31527 -0.53658 -0.3092 -0.52315 -0.30243 -0.50926 C -0.29895 -0.50232 -0.29288 -0.5 -0.28906 -0.49375 C -0.28437 -0.48611 -0.28194 -0.47708 -0.27743 -0.46921 C -0.27552 -0.46134 -0.27361 -0.45046 -0.27083 -0.44259 C -0.26909 -0.43773 -0.26597 -0.43496 -0.26579 -0.42917 C -0.26527 -0.40625 -0.26579 -0.38333 -0.26579 -0.36042 E">
                                      <p:cBhvr>
                                        <p:cTn id="342" dur="2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3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34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5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346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j0074852.wav"/>
                                        </p:tgtEl>
                                      </p:cMediaNode>
                                    </p:audio>
                                    <p:animMotion origin="layout" path="M 0.08889 -0.87917 C 0.0198 -0.87801 -0.03698 -0.88195 -0.10121 -0.87037 C -0.10312 -0.86968 -0.10468 -0.86921 -0.10625 -0.86806 C -0.10798 -0.8669 -0.10954 -0.86482 -0.11111 -0.86366 C -0.11441 -0.86181 -0.12118 -0.85926 -0.12118 -0.85926 C -0.1276 -0.85023 -0.14392 -0.84236 -0.15277 -0.83912 C -0.15816 -0.83449 -0.16441 -0.83148 -0.16944 -0.82593 C -0.18281 -0.81134 -0.19652 -0.79653 -0.20954 -0.78148 C -0.21666 -0.77315 -0.22187 -0.76158 -0.22951 -0.75463 C -0.23767 -0.73287 -0.22569 -0.76227 -0.24288 -0.73241 C -0.24739 -0.72454 -0.25104 -0.71713 -0.25625 -0.71019 C -0.25972 -0.69607 -0.25486 -0.70995 -0.26284 -0.70139 C -0.26441 -0.69977 -0.26475 -0.69653 -0.26614 -0.69468 C -0.26927 -0.69051 -0.27309 -0.68773 -0.27621 -0.68357 C -0.27882 -0.67269 -0.2809 -0.66713 -0.28611 -0.65695 C -0.28732 -0.65463 -0.28958 -0.65023 -0.28958 -0.65023 C -0.29149 -0.6419 -0.29427 -0.63519 -0.29791 -0.62801 C -0.29965 -0.6206 -0.3026 -0.61528 -0.30451 -0.6081 C -0.30555 -0.58773 -0.3059 -0.56366 -0.31111 -0.54352 C -0.31232 -0.53912 -0.31354 -0.53472 -0.31458 -0.53033 C -0.31562 -0.52593 -0.31788 -0.5169 -0.31788 -0.5169 C -0.31909 -0.5037 -0.31805 -0.49699 -0.32448 -0.48796 C -0.3302 -0.46644 -0.32951 -0.4632 -0.32951 -0.43704 E">
                                      <p:cBhvr>
                                        <p:cTn id="349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0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35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2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353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j0074852.wav"/>
                                        </p:tgtEl>
                                      </p:cMediaNode>
                                    </p:audio>
                                    <p:animMotion origin="layout" path="M 0.07292 -0.83472 C 0.05244 -0.83796 0.04879 -0.8537 0.0349 -0.85347 C -0.06736 -0.85208 -0.16945 -0.85208 -0.27171 -0.85139 C -0.28056 -0.84722 -0.28733 -0.84028 -0.29497 -0.83357 C -0.29983 -0.82917 -0.30157 -0.82245 -0.30678 -0.81806 C -0.30782 -0.81574 -0.30921 -0.81366 -0.31007 -0.81134 C -0.31077 -0.80926 -0.31077 -0.80671 -0.31164 -0.80463 C -0.3125 -0.80278 -0.31407 -0.80185 -0.31511 -0.80023 C -0.32014 -0.7919 -0.32639 -0.78079 -0.33004 -0.7713 C -0.33542 -0.75695 -0.33941 -0.74051 -0.34844 -0.72917 C -0.3507 -0.71945 -0.35487 -0.71134 -0.35834 -0.70255 C -0.36233 -0.69236 -0.36441 -0.68426 -0.37171 -0.67801 C -0.38073 -0.63218 -0.3783 -0.62407 -0.3783 -0.5581 E">
                                      <p:cBhvr>
                                        <p:cTn id="356" dur="2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7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35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9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360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j0074852.wav"/>
                                        </p:tgtEl>
                                      </p:cMediaNode>
                                    </p:audio>
                                    <p:animMotion origin="layout" path="M -0.2099 -0.26389 C -0.20122 -0.2287 -0.21007 -0.26736 -0.20573 -0.17708 C -0.20539 -0.17037 -0.20226 -0.16389 -0.20139 -0.15717 C -0.19636 -0.11643 -0.1875 -0.0919 -0.16285 -0.05926 C -0.15244 -0.04583 -0.13803 -0.02893 -0.12188 -0.02384 C -0.11494 -0.01898 -0.10851 -0.01528 -0.10035 -0.01273 C -0.08732 -0.00347 -0.08124 -0.00208 -0.06631 0.00278 C -0.04236 0.00486 0.000869999999999999 -0.00046 0.02153 -0.00092 C 0.04219 -0.00139 0.04983 0.00023 0.0573 0.00047 E">
                                      <p:cBhvr>
                                        <p:cTn id="363" dur="2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4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36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6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367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j0074852.wav"/>
                                        </p:tgtEl>
                                      </p:cMediaNode>
                                    </p:audio>
                                    <p:animMotion origin="layout" path="M -0.26579 -0.36041 C -0.26562 -0.34699 -0.28107 -0.2162 -0.25572 -0.16712 C -0.25381 -0.15902 -0.25034 -0.15254 -0.24739 -0.1449 C -0.246 -0.13449 -0.24479 -0.128 -0.23906 -0.12037 C -0.23663 -0.11018 -0.23263 -0.09976 -0.22586 -0.09374 C -0.21163 -0.06597 -0.19444 -0.04606 -0.17239 -0.02939 C -0.16562 -0.0243 -0.15781 -0.02268 -0.15086 -0.01828 C -0.14479 -0.01435 -0.13836 -0.01319 -0.13246 -0.00925 C -0.12152 -0.00185 -0.13402 -0.00694 -0.12083 -0.00277 C -0.0644 0.03588 -0.11666 0.00186 0.05417 0.00186 E">
                                      <p:cBhvr>
                                        <p:cTn id="370" dur="2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1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37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3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374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j0074852.wav"/>
                                        </p:tgtEl>
                                      </p:cMediaNode>
                                    </p:audio>
                                    <p:animMotion origin="layout" path="M -0.32951 -0.43703 C -0.34409 -0.39837 -0.33767 -0.29166 -0.33784 -0.28587 C -0.33611 -0.23587 -0.33524 -0.18981 -0.32621 -0.14143 C -0.32517 -0.13564 -0.32152 -0.13124 -0.31944 -0.12592 C -0.31198 -0.1074 -0.3059 -0.08865 -0.29791 -0.07036 C -0.28906 -0.04999 -0.27621 -0.02036 -0.25781 -0.01273 C -0.24965 -0.00439 -0.23941 -0.00069 -0.23125 0.00741 C -0.22899 0.00973 -0.22708 0.01251 -0.22448 0.01413 C -0.22239 0.01551 -0.22013 0.01528 -0.21788 0.01621 C -0.21614 0.0169 -0.21441 0.01737 -0.21284 0.01852 C -0.19722 0.02894 -0.22309 0.01598 -0.19791 0.02732 C -0.19618 0.02801 -0.19288 0.02964 -0.19288 0.02964 C -0.17569 0.02894 -0.15833 0.02871 -0.14114 0.02732 C -0.13125 0.02663 -0.12378 0.02107 -0.11284 0.02061 C -0.08576 0.01945 -0.0585 0.01922 -0.03125 0.01852 C -0.01024 0.01436 0.01094 0.01251 0.03212 0.0095 C 0.03837 0.00764 0.04445 0.00579 0.05052 0.00301 C 0.05382 0.00163 0.06042 -0.00161 0.06042 -0.00161 C 0.06285 -0.00462 0.06563 -0.01273 0.06875 -0.01273 E">
                                      <p:cBhvr>
                                        <p:cTn id="377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8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37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0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381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j0074852.wav"/>
                                        </p:tgtEl>
                                      </p:cMediaNode>
                                    </p:audio>
                                    <p:animMotion origin="layout" path="M -0.3783 -0.5581 C -0.37534 -0.49028 -0.37812 -0.42222 -0.375 -0.3544 C -0.37465 -0.34792 -0.36961 -0.34306 -0.3684 -0.33681 C -0.36527 -0.32083 -0.36059 -0.30671 -0.35503 -0.2919 C -0.35208 -0.2838 -0.35121 -0.27315 -0.34826 -0.26482 C -0.3408 -0.24491 -0.34357 -0.25833 -0.33663 -0.24259 C -0.32413 -0.21343 -0.30573 -0.17222 -0.28333 -0.15532 C -0.26076 -0.13843 -0.2875 -0.16204 -0.26857 -0.14653 C -0.25416 -0.13495 -0.26354 -0.13958 -0.2533 -0.13519 C -0.24392 -0.12662 -0.25034 -0.13148 -0.2335 -0.12407 C -0.19722 -0.10833 -0.15104 -0.06713 -0.10833 -0.05232 C -0.10086 -0.04583 -0.09305 -0.04653 -0.08524 -0.0412 C -0.075 -0.03403 -0.06319 -0.02847 -0.05173 -0.02546 C -0.03645 -0.01551 -0.01857 -0.01921 -0.00173 -0.01667 C 0.01407 -0.01134 0.03039 -0.00926 0.0467 -0.00764 C 0.05209 -0.00509 0.05 -0.00556 0.05313 -0.00556 E">
                                      <p:cBhvr>
                                        <p:cTn id="384" dur="2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5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38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35" name=""/>
            <p:cNvSpPr/>
            <p:nvPr/>
          </p:nvSpPr>
          <p:spPr>
            <a:xfrm>
              <a:off x="0" y="0"/>
              <a:ext cx="9144000" cy="6858000"/>
            </a:xfrm>
            <a:prstGeom prst="roundRect">
              <a:avLst>
                <a:gd name="adj" fmla="val 33449"/>
              </a:avLst>
            </a:prstGeom>
            <a:solidFill>
              <a:srgbClr val="c0c0c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981080" y="1676520"/>
              <a:ext cx="4876920" cy="3352680"/>
            </a:xfrm>
            <a:prstGeom prst="roundRect">
              <a:avLst>
                <a:gd name="adj" fmla="val 33449"/>
              </a:avLst>
            </a:prstGeom>
            <a:gradFill rotWithShape="0">
              <a:gsLst>
                <a:gs pos="0">
                  <a:srgbClr val="008000"/>
                </a:gs>
                <a:gs pos="50000">
                  <a:srgbClr val="009900"/>
                </a:gs>
                <a:gs pos="100000">
                  <a:srgbClr val="008000"/>
                </a:gs>
              </a:gsLst>
              <a:lin ang="135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990720" y="762120"/>
              <a:ext cx="6781680" cy="5105160"/>
            </a:xfrm>
            <a:prstGeom prst="roundRect">
              <a:avLst>
                <a:gd name="adj" fmla="val 33449"/>
              </a:avLst>
            </a:prstGeom>
            <a:noFill/>
            <a:ln w="572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4343400" y="502920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286080" y="5011560"/>
            <a:ext cx="914400" cy="3985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286080" y="5475240"/>
            <a:ext cx="914400" cy="3920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3276720" y="5992920"/>
            <a:ext cx="923760" cy="4078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3286080" y="6470640"/>
            <a:ext cx="914400" cy="3873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3200400" y="5105520"/>
            <a:ext cx="990720" cy="30456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76720" y="5562720"/>
            <a:ext cx="990360" cy="30456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6019920"/>
            <a:ext cx="990360" cy="3808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6553080"/>
            <a:ext cx="990360" cy="30492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010280" y="2971800"/>
            <a:ext cx="53352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772400" y="2971800"/>
            <a:ext cx="53352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620120" y="3733920"/>
            <a:ext cx="53316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381880" y="2743200"/>
            <a:ext cx="53352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114800" y="457200"/>
            <a:ext cx="609480" cy="3808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1143000"/>
            <a:ext cx="609840" cy="3808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343400" y="0"/>
            <a:ext cx="609480" cy="3808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191120" y="838080"/>
            <a:ext cx="609480" cy="30492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523880" y="3048120"/>
            <a:ext cx="60984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990720" y="2819520"/>
            <a:ext cx="60948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2819520"/>
            <a:ext cx="60984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2438280"/>
            <a:ext cx="609480" cy="60984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200400" y="4343400"/>
            <a:ext cx="24098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Next Lap!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387" dur="indefinite" restart="never" nodeType="tmRoot">
          <p:childTnLst>
            <p:seq>
              <p:cTn id="388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389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j0074852.wav"/>
                                        </p:tgtEl>
                                      </p:cMediaNode>
                                    </p:audio>
                                    <p:animMotion origin="layout" path="M 0.0573 -0.00046 C 0.11181 -0.00162 0.33004 0.03403 0.3849 -0.00764 C 0.43976 -0.0493 0.3856 -0.20694 0.38664 -0.25 C 0.38768 -0.29305 0.38959 -0.2794 0.39167 -0.26551 E">
                                      <p:cBhvr>
                                        <p:cTn id="392" dur="20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3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5400000">
                                      <p:cBhvr>
                                        <p:cTn id="39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5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396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j0074852.wav"/>
                                        </p:tgtEl>
                                      </p:cMediaNode>
                                    </p:audio>
                                    <p:animMotion origin="layout" path="M 0.05504 0.00116 C 0.10973 0.00046 0.17049 0.02824 0.21927 -0.00856 C 0.22466 -0.0125 0.22691 -0.01782 0.23264 -0.02106 C 0.23941 -0.03055 0.24723 -0.03912 0.25625 -0.04329 C 0.26407 -0.05139 0.2698 -0.05463 0.27795 -0.06088 C 0.28507 -0.06597 0.29028 -0.07616 0.29636 -0.0831 C 0.29948 -0.0868 0.30365 -0.08866 0.30643 -0.09305 C 0.31198 -0.10116 0.31389 -0.10926 0.32153 -0.11296 C 0.32969 -0.13148 0.34289 -0.14768 0.35504 -0.16018 C 0.35938 -0.16458 0.36407 -0.16852 0.36858 -0.17268 C 0.37275 -0.17662 0.38195 -0.18241 0.38195 -0.18217 C 0.38976 -0.19421 0.38507 -0.18819 0.39705 -0.19977 C 0.39879 -0.20139 0.40035 -0.20324 0.40209 -0.20486 C 0.40382 -0.20648 0.40712 -0.20995 0.40712 -0.20972 C 0.41164 -0.22014 0.4191 -0.22477 0.42552 -0.23217 C 0.43594 -0.24467 0.44618 -0.25856 0.45747 -0.26944 C 0.475 -0.30903 0.47084 -0.31041 0.47084 -0.37129 E">
                                      <p:cBhvr>
                                        <p:cTn id="399" dur="2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0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5400000">
                                      <p:cBhvr>
                                        <p:cTn id="40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2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403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j0074852.wav"/>
                                        </p:tgtEl>
                                      </p:cMediaNode>
                                    </p:audio>
                                    <p:animMotion origin="layout" path="M 0.06858 -0.01366 C 0.13681 -0.01481 0.20712 -0.0162 0.27553 -0.02338 C 0.2816 -0.02546 0.28785 -0.02592 0.29393 -0.02801 C 0.30521 -0.03217 0.31598 -0.04097 0.32726 -0.0456 C 0.33421 -0.05231 0.34237 -0.06018 0.35053 -0.06342 C 0.36459 -0.07569 0.38091 -0.08379 0.39549 -0.09467 C 0.41407 -0.10833 0.43125 -0.12523 0.44879 -0.1412 C 0.45469 -0.15254 0.46146 -0.16296 0.46719 -0.17453 C 0.4724 -0.18518 0.47309 -0.20231 0.47553 -0.21458 C 0.475 -0.2331 0.47518 -0.25162 0.47379 -0.27014 C 0.47292 -0.28217 0.4625 -0.30486 0.45556 -0.31227 C 0.43507 -0.33379 0.46407 -0.29653 0.44723 -0.31898 E">
                                      <p:cBhvr>
                                        <p:cTn id="406" dur="2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7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5400000">
                                      <p:cBhvr>
                                        <p:cTn id="40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9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410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j0074852.wav"/>
                                        </p:tgtEl>
                                      </p:cMediaNode>
                                    </p:audio>
                                    <p:animMotion origin="layout" path="M 0.05417 -0.00509 C 0.06007 -0.00394 0.07709 -0.00162 0.09028 -0.00046 C 0.10348 0.00069 0.11563 0.00231 0.13334 0.00162 C 0.16511 -0.00324 0.1408 0.00023 0.19671 -0.00509 C 0.20452 -0.00579 0.21997 -0.00741 0.21997 -0.00718 C 0.24271 -0.01204 0.26563 -0.01204 0.28837 -0.0162 C 0.304 -0.01921 0.28941 -0.01736 0.30504 -0.02292 C 0.31719 -0.02732 0.33091 -0.02778 0.34341 -0.02963 C 0.35296 -0.03264 0.36025 -0.03843 0.36997 -0.04074 C 0.38091 -0.04792 0.39323 -0.05347 0.40504 -0.05833 C 0.41233 -0.06505 0.41962 -0.07153 0.42674 -0.07847 C 0.4408 -0.09236 0.43126 -0.0875 0.44167 -0.09167 C 0.44966 -0.10278 0.43907 -0.08912 0.45174 -0.1007 C 0.45834 -0.10671 0.46823 -0.12153 0.47674 -0.125 C 0.47969 -0.1375 0.48941 -0.14421 0.49671 -0.15185 C 0.50382 -0.15926 0.50712 -0.17014 0.51337 -0.17847 C 0.51771 -0.19722 0.51146 -0.17431 0.51841 -0.18958 C 0.52101 -0.19514 0.52275 -0.20139 0.52501 -0.20741 C 0.52674 -0.21204 0.5316 -0.2206 0.5316 -0.22037 C 0.55608 -0.34745 0.53994 -0.20093 0.53994 -0.54282 E">
                                      <p:cBhvr>
                                        <p:cTn id="413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4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5400000">
                                      <p:cBhvr>
                                        <p:cTn id="4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6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417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j0074852.wav"/>
                                        </p:tgtEl>
                                      </p:cMediaNode>
                                    </p:audio>
                                    <p:animMotion origin="layout" path="M 0.39167 -0.29305 C 0.39237 -0.33657 0.38664 -0.38889 0.39844 -0.43287 C 0.39757 -0.46366 0.40296 -0.48241 0.39167 -0.50416 C 0.38837 -0.51991 0.38403 -0.52893 0.37848 -0.54398 C 0.37674 -0.54838 0.37119 -0.54907 0.36841 -0.55069 C 0.35886 -0.55602 0.35105 -0.56805 0.34011 -0.56852 C 0.30296 -0.56991 0.26563 -0.57014 0.22848 -0.57083 C 0.22032 -0.57291 0.21719 -0.575 0.21007 -0.57963 C 0.20573 -0.58241 0.20087 -0.58333 0.19671 -0.58634 C 0.18976 -0.59143 0.18403 -0.59768 0.17674 -0.60185 C 0.17466 -0.60301 0.16546 -0.60555 0.16337 -0.60625 C 0.15313 -0.61018 0.1474 -0.61319 0.13681 -0.61528 C 0.12744 -0.62338 0.11563 -0.62592 0.10504 -0.63078 C 0.10278 -0.6331 0.10035 -0.63495 0.09844 -0.6375 C 0.09705 -0.63935 0.09671 -0.64236 0.09513 -0.64398 C 0.09376 -0.64537 0.09323 -0.6493 0.09167 -0.65046 C 0.0882 -0.65301 0.08525 -0.65486 0.08195 -0.65787 C 0.08039 -0.65926 0.08264 -0.65509 0.07501 -0.65717 E">
                                      <p:cBhvr>
                                        <p:cTn id="420" dur="20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1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42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3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424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j0074852.wav"/>
                                        </p:tgtEl>
                                      </p:cMediaNode>
                                    </p:audio>
                                    <p:animMotion origin="layout" path="M 0.47084 -0.37129 C 0.4724 -0.44166 0.48525 -0.53009 0.45417 -0.59352 C 0.45139 -0.60972 0.45469 -0.5956 0.44914 -0.60903 C 0.43716 -0.63842 0.43004 -0.65833 0.40417 -0.66898 C 0.39827 -0.67731 0.404 -0.67106 0.39428 -0.67569 C 0.38317 -0.68102 0.38577 -0.68403 0.37257 -0.6868 C 0.32639 -0.68518 0.32674 -0.68541 0.29584 -0.68009 C 0.27362 -0.66829 0.25157 -0.65648 0.22917 -0.64467 C 0.21806 -0.63889 0.20469 -0.6294 0.19254 -0.62916 C 0.15591 -0.62847 0.1191 -0.62916 0.08247 -0.62916 E">
                                      <p:cBhvr>
                                        <p:cTn id="427" dur="2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8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42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0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431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j0074852.wav"/>
                                        </p:tgtEl>
                                      </p:cMediaNode>
                                    </p:audio>
                                    <p:animMotion origin="layout" path="M 0.44723 -0.31898 C 0.44132 -0.32685 0.44427 -0.32152 0.44046 -0.3368 C 0.43941 -0.3412 0.43716 -0.35023 0.43716 -0.35023 C 0.43872 -0.39004 0.43455 -0.41157 0.46216 -0.43032 C 0.46823 -0.43865 0.47743 -0.44027 0.48386 -0.44791 C 0.49671 -0.46342 0.50521 -0.47939 0.51042 -0.50138 C 0.51302 -0.52731 0.51719 -0.55231 0.50209 -0.57245 C 0.50157 -0.57546 0.50191 -0.57916 0.50052 -0.58125 C 0.49983 -0.58263 0.48907 -0.58564 0.48889 -0.58564 C 0.47639 -0.59027 0.46771 -0.59097 0.45382 -0.59236 C 0.43855 -0.59583 0.43629 -0.60254 0.42379 -0.6125 C 0.42275 -0.61551 0.42223 -0.61898 0.42049 -0.62129 C 0.41927 -0.62291 0.41667 -0.62199 0.41546 -0.62361 C 0.41372 -0.62592 0.41355 -0.62963 0.41216 -0.6324 C 0.40921 -0.63796 0.40625 -0.64004 0.40209 -0.64351 C 0.39948 -0.64884 0.39618 -0.65347 0.39375 -0.65902 C 0.39289 -0.66111 0.39289 -0.66365 0.39219 -0.66574 C 0.38941 -0.67338 0.38559 -0.68101 0.38212 -0.68796 C 0.37709 -0.70995 0.37171 -0.73611 0.35886 -0.75231 C 0.35504 -0.76713 0.36007 -0.74976 0.35209 -0.76805 C 0.34966 -0.77361 0.34896 -0.78125 0.34549 -0.78564 C 0.33629 -0.79791 0.32691 -0.81481 0.31389 -0.81898 C 0.31059 -0.82199 0.30764 -0.82638 0.30382 -0.82801 C 0.29792 -0.83055 0.2908 -0.83287 0.28542 -0.8368 C 0.2783 -0.84213 0.27014 -0.85138 0.26216 -0.85463 C 0.24584 -0.86134 0.22743 -0.86319 0.21042 -0.86574 C 0.19514 -0.87106 0.21355 -0.86527 0.18542 -0.87013 C 0.17396 -0.87222 0.16181 -0.87685 0.15052 -0.87916 C 0.13021 -0.8831 0.10938 -0.87916 0.08889 -0.87916 E">
                                      <p:cBhvr>
                                        <p:cTn id="434" dur="2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5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43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7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438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j0074852.wav"/>
                                        </p:tgtEl>
                                      </p:cMediaNode>
                                    </p:audio>
                                    <p:animMotion origin="layout" path="M 0.53993 -0.54283 C 0.53924 -0.58334 0.54323 -0.64908 0.52483 -0.68959 C 0.52274 -0.71065 0.51754 -0.72986 0.51163 -0.74954 C 0.50816 -0.76088 0.50642 -0.77431 0.50156 -0.78496 C 0.49965 -0.78889 0.49688 -0.79213 0.49497 -0.79607 C 0.49149 -0.81389 0.49636 -0.79699 0.48663 -0.81181 C 0.47674 -0.82709 0.49063 -0.81574 0.47656 -0.825 C 0.47153 -0.83426 0.46684 -0.8463 0.4599 -0.85394 C 0.45295 -0.86158 0.45712 -0.85556 0.44983 -0.86065 C 0.4467 -0.86274 0.44479 -0.86783 0.44149 -0.86945 C 0.43663 -0.87199 0.42708 -0.87431 0.42153 -0.87616 C 0.41823 -0.87709 0.41493 -0.87778 0.41163 -0.87848 C 0.40434 -0.8801 0.38993 -0.88287 0.38993 -0.88287 C 0.37986 -0.88704 0.37031 -0.88982 0.3599 -0.89167 C 0.33767 -0.90186 0.30799 -0.90486 0.2849 -0.90718 C 0.26997 -0.90649 0.25486 -0.90672 0.23993 -0.9051 C 0.23038 -0.90394 0.22118 -0.89977 0.21163 -0.89838 C 0.19948 -0.89306 0.20504 -0.89514 0.19497 -0.89167 C 0.18507 -0.88311 0.18281 -0.88125 0.17153 -0.87848 C 0.16597 -0.87454 0.16024 -0.87315 0.15486 -0.86945 C 0.1434 -0.86181 0.1559 -0.8676 0.14497 -0.86274 C 0.13993 -0.86042 0.12986 -0.85625 0.12986 -0.85625 C 0.12396 -0.84792 0.12969 -0.85417 0.11997 -0.84954 C 0.10243 -0.84098 0.09219 -0.83403 0.07326 -0.83403 E">
                                      <p:cBhvr>
                                        <p:cTn id="441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2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44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4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445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j0074852.wav"/>
                                        </p:tgtEl>
                                      </p:cMediaNode>
                                    </p:audio>
                                    <p:animMotion origin="layout" path="M 0.07396 -0.65879 C 0.04757 -0.65463 0.05521 -0.66666 0.00452 -0.66991 C -0.01822 -0.67315 -0.04045 -0.66018 -0.06371 -0.6618 C -0.12674 -0.66088 -0.19289 -0.68009 -0.2533 -0.65509 C -0.25365 -0.65463 -0.26216 -0.64653 -0.26337 -0.64398 C -0.27084 -0.62731 -0.27657 -0.60856 -0.2816 -0.59051 C -0.28299 -0.58541 -0.28386 -0.58009 -0.2849 -0.575 C -0.28612 -0.56898 -0.28837 -0.55717 -0.28837 -0.55694 C -0.2908 -0.52384 -0.29428 -0.48842 -0.28004 -0.45949 C -0.27761 -0.44676 -0.27257 -0.44004 -0.26667 -0.43055 C -0.26546 -0.42847 -0.26424 -0.42616 -0.26337 -0.42384 C -0.26268 -0.42176 -0.26268 -0.41921 -0.26164 -0.41736 C -0.25747 -0.41041 -0.25278 -0.40393 -0.24827 -0.39722 C -0.2441 -0.39097 -0.23941 -0.38541 -0.2349 -0.3794 C -0.23334 -0.37731 -0.23004 -0.37291 -0.23004 -0.37268 C -0.2283 -0.3662 -0.22726 -0.35926 -0.225 -0.35278 C -0.22414 -0.35046 -0.22257 -0.34861 -0.22171 -0.34606 C -0.22032 -0.3419 -0.21823 -0.33287 -0.21823 -0.33264 C -0.21771 -0.32778 -0.21737 -0.32245 -0.21667 -0.31736 C -0.21546 -0.30856 -0.2099 -0.2993 -0.2099 -0.29051 C -0.2099 -0.28171 -0.2099 -0.27268 -0.2099 -0.26389 E">
                                      <p:cBhvr>
                                        <p:cTn id="448" dur="20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9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45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1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452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j0074852.wav"/>
                                        </p:tgtEl>
                                      </p:cMediaNode>
                                    </p:audio>
                                    <p:animMotion origin="layout" path="M 0.08247 -0.62917 C 0.07587 -0.62986 0.0691 -0.62986 0.06251 -0.63148 C 0.05678 -0.63287 0.05018 -0.63843 0.04428 -0.64028 C 0.03594 -0.65093 0.02674 -0.65139 0.01754 -0.6581 C 0.00139 -0.66991 0.01407 -0.66505 -0.00086 -0.66921 C -0.00815 -0.6757 -0.01562 -0.67801 -0.02413 -0.68033 C -0.03229 -0.68588 -0.0401 -0.69121 -0.04913 -0.69375 C -0.05885 -0.70023 -0.06874 -0.70301 -0.07916 -0.70695 C -0.08836 -0.71042 -0.0802 -0.70764 -0.08906 -0.71366 C -0.09392 -0.7169 -0.10034 -0.71829 -0.10572 -0.72037 C -0.12847 -0.72894 -0.1526 -0.73125 -0.17586 -0.73588 C -0.21041 -0.74283 -0.24427 -0.75185 -0.27916 -0.75579 C -0.28854 -0.75509 -0.29808 -0.75556 -0.30746 -0.75371 C -0.31545 -0.75208 -0.31909 -0.7382 -0.32413 -0.73148 C -0.32552 -0.72963 -0.3276 -0.72871 -0.32916 -0.72708 C -0.33038 -0.7257 -0.33142 -0.72408 -0.33246 -0.72246 C -0.33454 -0.71435 -0.33732 -0.70741 -0.34079 -0.70023 C -0.34357 -0.68634 -0.34583 -0.67222 -0.34739 -0.6581 C -0.346 -0.64306 -0.34548 -0.6375 -0.34079 -0.62477 C -0.3394 -0.61111 -0.33749 -0.59583 -0.3342 -0.58264 C -0.33124 -0.5706 -0.32499 -0.5625 -0.32083 -0.55139 C -0.31527 -0.53658 -0.3092 -0.52315 -0.30243 -0.50926 C -0.29895 -0.50232 -0.29288 -0.5 -0.28906 -0.49375 C -0.28437 -0.48611 -0.28194 -0.47708 -0.27743 -0.46921 C -0.27552 -0.46134 -0.27361 -0.45046 -0.27083 -0.44259 C -0.26909 -0.43773 -0.26597 -0.43496 -0.26579 -0.42917 C -0.26527 -0.40625 -0.26579 -0.38333 -0.26579 -0.36042 E">
                                      <p:cBhvr>
                                        <p:cTn id="455" dur="2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6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45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8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459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j0074852.wav"/>
                                        </p:tgtEl>
                                      </p:cMediaNode>
                                    </p:audio>
                                    <p:animMotion origin="layout" path="M 0.08889 -0.87917 C 0.0198 -0.87801 -0.03698 -0.88195 -0.10121 -0.87037 C -0.10312 -0.86968 -0.10468 -0.86921 -0.10625 -0.86806 C -0.10798 -0.8669 -0.10954 -0.86482 -0.11111 -0.86366 C -0.11441 -0.86181 -0.12118 -0.85926 -0.12118 -0.85926 C -0.1276 -0.85023 -0.14392 -0.84236 -0.15277 -0.83912 C -0.15816 -0.83449 -0.16441 -0.83148 -0.16944 -0.82593 C -0.18281 -0.81134 -0.19652 -0.79653 -0.20954 -0.78148 C -0.21666 -0.77315 -0.22187 -0.76158 -0.22951 -0.75463 C -0.23767 -0.73287 -0.22569 -0.76227 -0.24288 -0.73241 C -0.24739 -0.72454 -0.25104 -0.71713 -0.25625 -0.71019 C -0.25972 -0.69607 -0.25486 -0.70995 -0.26284 -0.70139 C -0.26441 -0.69977 -0.26475 -0.69653 -0.26614 -0.69468 C -0.26927 -0.69051 -0.27309 -0.68773 -0.27621 -0.68357 C -0.27882 -0.67269 -0.2809 -0.66713 -0.28611 -0.65695 C -0.28732 -0.65463 -0.28958 -0.65023 -0.28958 -0.65023 C -0.29149 -0.6419 -0.29427 -0.63519 -0.29791 -0.62801 C -0.29965 -0.6206 -0.3026 -0.61528 -0.30451 -0.6081 C -0.30555 -0.58773 -0.3059 -0.56366 -0.31111 -0.54352 C -0.31232 -0.53912 -0.31354 -0.53472 -0.31458 -0.53033 C -0.31562 -0.52593 -0.31788 -0.5169 -0.31788 -0.5169 C -0.31909 -0.5037 -0.31805 -0.49699 -0.32448 -0.48796 C -0.3302 -0.46644 -0.32951 -0.4632 -0.32951 -0.43704 E">
                                      <p:cBhvr>
                                        <p:cTn id="462" dur="2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3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46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5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466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j0074852.wav"/>
                                        </p:tgtEl>
                                      </p:cMediaNode>
                                    </p:audio>
                                    <p:animMotion origin="layout" path="M 0.07292 -0.83472 C 0.05244 -0.83796 0.04879 -0.8537 0.0349 -0.85347 C -0.06736 -0.85208 -0.16945 -0.85208 -0.27171 -0.85139 C -0.28056 -0.84722 -0.28733 -0.84028 -0.29497 -0.83357 C -0.29983 -0.82917 -0.30157 -0.82245 -0.30678 -0.81806 C -0.30782 -0.81574 -0.30921 -0.81366 -0.31007 -0.81134 C -0.31077 -0.80926 -0.31077 -0.80671 -0.31164 -0.80463 C -0.3125 -0.80278 -0.31407 -0.80185 -0.31511 -0.80023 C -0.32014 -0.7919 -0.32639 -0.78079 -0.33004 -0.7713 C -0.33542 -0.75695 -0.33941 -0.74051 -0.34844 -0.72917 C -0.3507 -0.71945 -0.35487 -0.71134 -0.35834 -0.70255 C -0.36233 -0.69236 -0.36441 -0.68426 -0.37171 -0.67801 C -0.38073 -0.63218 -0.3783 -0.62407 -0.3783 -0.5581 E">
                                      <p:cBhvr>
                                        <p:cTn id="469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0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47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2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473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j0074852.wav"/>
                                        </p:tgtEl>
                                      </p:cMediaNode>
                                    </p:audio>
                                    <p:animMotion origin="layout" path="M -0.2099 -0.26389 C -0.20122 -0.2287 -0.21007 -0.26736 -0.20573 -0.17708 C -0.20539 -0.17037 -0.20226 -0.16389 -0.20139 -0.15717 C -0.19636 -0.11643 -0.1875 -0.0919 -0.16285 -0.05926 C -0.15244 -0.04583 -0.13803 -0.02893 -0.12188 -0.02384 C -0.11494 -0.01898 -0.10851 -0.01528 -0.10035 -0.01273 C -0.08732 -0.00347 -0.08124 -0.00208 -0.06631 0.00278 C -0.04236 0.00486 0.000869999999999999 -0.00046 0.02153 -0.00092 C 0.04219 -0.00139 0.04983 0.00023 0.0573 0.00047 E">
                                      <p:cBhvr>
                                        <p:cTn id="476" dur="20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7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47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9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480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j0074852.wav"/>
                                        </p:tgtEl>
                                      </p:cMediaNode>
                                    </p:audio>
                                    <p:animMotion origin="layout" path="M -0.26579 -0.36041 C -0.26562 -0.34699 -0.28107 -0.2162 -0.25572 -0.16712 C -0.25381 -0.15902 -0.25034 -0.15254 -0.24739 -0.1449 C -0.246 -0.13449 -0.24479 -0.128 -0.23906 -0.12037 C -0.23663 -0.11018 -0.23263 -0.09976 -0.22586 -0.09374 C -0.21163 -0.06597 -0.19444 -0.04606 -0.17239 -0.02939 C -0.16562 -0.0243 -0.15781 -0.02268 -0.15086 -0.01828 C -0.14479 -0.01435 -0.13836 -0.01319 -0.13246 -0.00925 C -0.12152 -0.00185 -0.13402 -0.00694 -0.12083 -0.00277 C -0.0644 0.03588 -0.11666 0.00186 0.05417 0.00186 E">
                                      <p:cBhvr>
                                        <p:cTn id="483" dur="2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4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48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6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487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j0074852.wav"/>
                                        </p:tgtEl>
                                      </p:cMediaNode>
                                    </p:audio>
                                    <p:animMotion origin="layout" path="M -0.32951 -0.43703 C -0.34409 -0.39837 -0.33767 -0.29166 -0.33784 -0.28587 C -0.33611 -0.23587 -0.33524 -0.18981 -0.32621 -0.14143 C -0.32517 -0.13564 -0.32152 -0.13124 -0.31944 -0.12592 C -0.31198 -0.1074 -0.3059 -0.08865 -0.29791 -0.07036 C -0.28906 -0.04999 -0.27621 -0.02036 -0.25781 -0.01273 C -0.24965 -0.00439 -0.23941 -0.00069 -0.23125 0.00741 C -0.22899 0.00973 -0.22708 0.01251 -0.22448 0.01413 C -0.22239 0.01551 -0.22013 0.01528 -0.21788 0.01621 C -0.21614 0.0169 -0.21441 0.01737 -0.21284 0.01852 C -0.19722 0.02894 -0.22309 0.01598 -0.19791 0.02732 C -0.19618 0.02801 -0.19288 0.02964 -0.19288 0.02964 C -0.17569 0.02894 -0.15833 0.02871 -0.14114 0.02732 C -0.13125 0.02663 -0.12378 0.02107 -0.11284 0.02061 C -0.08576 0.01945 -0.0585 0.01922 -0.03125 0.01852 C -0.01024 0.01436 0.01094 0.01251 0.03212 0.0095 C 0.03837 0.00764 0.04445 0.00579 0.05052 0.00301 C 0.05382 0.00163 0.06042 -0.00161 0.06042 -0.00161 C 0.06285 -0.00462 0.06563 -0.01273 0.06875 -0.01273 E">
                                      <p:cBhvr>
                                        <p:cTn id="490" dur="2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49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3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494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j0074852.wav"/>
                                        </p:tgtEl>
                                      </p:cMediaNode>
                                    </p:audio>
                                    <p:animMotion origin="layout" path="M -0.3783 -0.5581 C -0.37534 -0.49028 -0.37812 -0.42222 -0.375 -0.3544 C -0.37465 -0.34792 -0.36961 -0.34306 -0.3684 -0.33681 C -0.36527 -0.32083 -0.36059 -0.30671 -0.35503 -0.2919 C -0.35208 -0.2838 -0.35121 -0.27315 -0.34826 -0.26482 C -0.3408 -0.24491 -0.34357 -0.25833 -0.33663 -0.24259 C -0.32413 -0.21343 -0.30573 -0.17222 -0.28333 -0.15532 C -0.26076 -0.13843 -0.2875 -0.16204 -0.26857 -0.14653 C -0.25416 -0.13495 -0.26354 -0.13958 -0.2533 -0.13519 C -0.24392 -0.12662 -0.25034 -0.13148 -0.2335 -0.12407 C -0.19722 -0.10833 -0.15104 -0.06713 -0.10833 -0.05232 C -0.10086 -0.04583 -0.09305 -0.04653 -0.08524 -0.0412 C -0.075 -0.03403 -0.06319 -0.02847 -0.05173 -0.02546 C -0.03645 -0.01551 -0.01857 -0.01921 -0.00173 -0.01667 C 0.01407 -0.01134 0.03039 -0.00926 0.0467 -0.00764 C 0.05209 -0.00509 0.05 -0.00556 0.05313 -0.00556 E">
                                      <p:cBhvr>
                                        <p:cTn id="497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8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49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61" name=""/>
            <p:cNvSpPr/>
            <p:nvPr/>
          </p:nvSpPr>
          <p:spPr>
            <a:xfrm>
              <a:off x="0" y="0"/>
              <a:ext cx="9144000" cy="6858000"/>
            </a:xfrm>
            <a:prstGeom prst="roundRect">
              <a:avLst>
                <a:gd name="adj" fmla="val 33449"/>
              </a:avLst>
            </a:prstGeom>
            <a:solidFill>
              <a:srgbClr val="c0c0c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981080" y="1676520"/>
              <a:ext cx="4876920" cy="3352680"/>
            </a:xfrm>
            <a:prstGeom prst="roundRect">
              <a:avLst>
                <a:gd name="adj" fmla="val 33449"/>
              </a:avLst>
            </a:prstGeom>
            <a:gradFill rotWithShape="0">
              <a:gsLst>
                <a:gs pos="0">
                  <a:srgbClr val="008000"/>
                </a:gs>
                <a:gs pos="50000">
                  <a:srgbClr val="009900"/>
                </a:gs>
                <a:gs pos="100000">
                  <a:srgbClr val="008000"/>
                </a:gs>
              </a:gsLst>
              <a:lin ang="135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990720" y="762120"/>
              <a:ext cx="6781680" cy="5105160"/>
            </a:xfrm>
            <a:prstGeom prst="roundRect">
              <a:avLst>
                <a:gd name="adj" fmla="val 33449"/>
              </a:avLst>
            </a:prstGeom>
            <a:noFill/>
            <a:ln w="572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4343400" y="502920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3286080" y="5011560"/>
            <a:ext cx="914400" cy="39852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3286080" y="5475240"/>
            <a:ext cx="914400" cy="39204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3276720" y="5992920"/>
            <a:ext cx="923760" cy="40788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4"/>
          <a:stretch/>
        </p:blipFill>
        <p:spPr>
          <a:xfrm>
            <a:off x="3286080" y="6470640"/>
            <a:ext cx="914400" cy="38736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3200400" y="5105520"/>
            <a:ext cx="990720" cy="30456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276720" y="5562720"/>
            <a:ext cx="990360" cy="30456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276720" y="6019920"/>
            <a:ext cx="990360" cy="3808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76720" y="6553080"/>
            <a:ext cx="990360" cy="30492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010280" y="2971800"/>
            <a:ext cx="53352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772400" y="2971800"/>
            <a:ext cx="53352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620120" y="3733920"/>
            <a:ext cx="53316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8381880" y="2743200"/>
            <a:ext cx="53352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114800" y="457200"/>
            <a:ext cx="609480" cy="3808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67080" y="1143000"/>
            <a:ext cx="609840" cy="3808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343400" y="0"/>
            <a:ext cx="609480" cy="3808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191120" y="838080"/>
            <a:ext cx="609480" cy="30492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523880" y="3048120"/>
            <a:ext cx="60984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90720" y="2819520"/>
            <a:ext cx="60948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0880" y="2819520"/>
            <a:ext cx="60984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2438280"/>
            <a:ext cx="609480" cy="60984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200400" y="4343400"/>
            <a:ext cx="24098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Next Lap!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500" dur="indefinite" restart="never" nodeType="tmRoot">
          <p:childTnLst>
            <p:seq>
              <p:cTn id="501" restart="whenNotActive" nodeType="interactiveSeq" fill="hold">
                <p:stCondLst>
                  <p:cond evt="onClick">
                    <p:tgtEl>
                      <p:spTgt spid="169"/>
                    </p:tgtEl>
                  </p:cond>
                </p:stCondLst>
                <p:childTnLst>
                  <p:par>
                    <p:cTn id="502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j0074852.wav"/>
                                        </p:tgtEl>
                                      </p:cMediaNode>
                                    </p:audio>
                                    <p:animMotion origin="layout" path="M 0.0573 -0.00046 C 0.11181 -0.00162 0.33004 0.03403 0.3849 -0.00764 C 0.43976 -0.0493 0.3856 -0.20694 0.38664 -0.25 C 0.38768 -0.29305 0.38959 -0.2794 0.39167 -0.26551 E">
                                      <p:cBhvr>
                                        <p:cTn id="505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6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5400000">
                                      <p:cBhvr>
                                        <p:cTn id="50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8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509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j0074852.wav"/>
                                        </p:tgtEl>
                                      </p:cMediaNode>
                                    </p:audio>
                                    <p:animMotion origin="layout" path="M 0.05504 0.00116 C 0.10973 0.00046 0.17049 0.02824 0.21927 -0.00856 C 0.22466 -0.0125 0.22691 -0.01782 0.23264 -0.02106 C 0.23941 -0.03055 0.24723 -0.03912 0.25625 -0.04329 C 0.26407 -0.05139 0.2698 -0.05463 0.27795 -0.06088 C 0.28507 -0.06597 0.29028 -0.07616 0.29636 -0.0831 C 0.29948 -0.0868 0.30365 -0.08866 0.30643 -0.09305 C 0.31198 -0.10116 0.31389 -0.10926 0.32153 -0.11296 C 0.32969 -0.13148 0.34289 -0.14768 0.35504 -0.16018 C 0.35938 -0.16458 0.36407 -0.16852 0.36858 -0.17268 C 0.37275 -0.17662 0.38195 -0.18241 0.38195 -0.18217 C 0.38976 -0.19421 0.38507 -0.18819 0.39705 -0.19977 C 0.39879 -0.20139 0.40035 -0.20324 0.40209 -0.20486 C 0.40382 -0.20648 0.40712 -0.20995 0.40712 -0.20972 C 0.41164 -0.22014 0.4191 -0.22477 0.42552 -0.23217 C 0.43594 -0.24467 0.44618 -0.25856 0.45747 -0.26944 C 0.475 -0.30903 0.47084 -0.31041 0.47084 -0.37129 E">
                                      <p:cBhvr>
                                        <p:cTn id="512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3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5400000">
                                      <p:cBhvr>
                                        <p:cTn id="51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5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516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j0074852.wav"/>
                                        </p:tgtEl>
                                      </p:cMediaNode>
                                    </p:audio>
                                    <p:animMotion origin="layout" path="M 0.06858 -0.01366 C 0.13681 -0.01481 0.20712 -0.0162 0.27553 -0.02338 C 0.2816 -0.02546 0.28785 -0.02592 0.29393 -0.02801 C 0.30521 -0.03217 0.31598 -0.04097 0.32726 -0.0456 C 0.33421 -0.05231 0.34237 -0.06018 0.35053 -0.06342 C 0.36459 -0.07569 0.38091 -0.08379 0.39549 -0.09467 C 0.41407 -0.10833 0.43125 -0.12523 0.44879 -0.1412 C 0.45469 -0.15254 0.46146 -0.16296 0.46719 -0.17453 C 0.4724 -0.18518 0.47309 -0.20231 0.47553 -0.21458 C 0.475 -0.2331 0.47518 -0.25162 0.47379 -0.27014 C 0.47292 -0.28217 0.4625 -0.30486 0.45556 -0.31227 C 0.43507 -0.33379 0.46407 -0.29653 0.44723 -0.31898 E">
                                      <p:cBhvr>
                                        <p:cTn id="519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0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5400000">
                                      <p:cBhvr>
                                        <p:cTn id="52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2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523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j0074852.wav"/>
                                        </p:tgtEl>
                                      </p:cMediaNode>
                                    </p:audio>
                                    <p:animMotion origin="layout" path="M 0.05417 -0.00509 C 0.06007 -0.00394 0.07709 -0.00162 0.09028 -0.00046 C 0.10348 0.00069 0.11563 0.00231 0.13334 0.00162 C 0.16511 -0.00324 0.1408 0.00023 0.19671 -0.00509 C 0.20452 -0.00579 0.21997 -0.00741 0.21997 -0.00718 C 0.24271 -0.01204 0.26563 -0.01204 0.28837 -0.0162 C 0.304 -0.01921 0.28941 -0.01736 0.30504 -0.02292 C 0.31719 -0.02732 0.33091 -0.02778 0.34341 -0.02963 C 0.35296 -0.03264 0.36025 -0.03843 0.36997 -0.04074 C 0.38091 -0.04792 0.39323 -0.05347 0.40504 -0.05833 C 0.41233 -0.06505 0.41962 -0.07153 0.42674 -0.07847 C 0.4408 -0.09236 0.43126 -0.0875 0.44167 -0.09167 C 0.44966 -0.10278 0.43907 -0.08912 0.45174 -0.1007 C 0.45834 -0.10671 0.46823 -0.12153 0.47674 -0.125 C 0.47969 -0.1375 0.48941 -0.14421 0.49671 -0.15185 C 0.50382 -0.15926 0.50712 -0.17014 0.51337 -0.17847 C 0.51771 -0.19722 0.51146 -0.17431 0.51841 -0.18958 C 0.52101 -0.19514 0.52275 -0.20139 0.52501 -0.20741 C 0.52674 -0.21204 0.5316 -0.2206 0.5316 -0.22037 C 0.55608 -0.34745 0.53994 -0.20093 0.53994 -0.54282 E">
                                      <p:cBhvr>
                                        <p:cTn id="526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7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5400000">
                                      <p:cBhvr>
                                        <p:cTn id="52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9" restart="whenNotActive" nodeType="interactiveSeq" fill="hold">
                <p:stCondLst>
                  <p:cond evt="onClick">
                    <p:tgtEl>
                      <p:spTgt spid="173"/>
                    </p:tgtEl>
                  </p:cond>
                </p:stCondLst>
                <p:childTnLst>
                  <p:par>
                    <p:cTn id="530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j0074852.wav"/>
                                        </p:tgtEl>
                                      </p:cMediaNode>
                                    </p:audio>
                                    <p:animMotion origin="layout" path="M 0.39167 -0.29305 C 0.39237 -0.33657 0.38664 -0.38889 0.39844 -0.43287 C 0.39757 -0.46366 0.40296 -0.48241 0.39167 -0.50416 C 0.38837 -0.51991 0.38403 -0.52893 0.37848 -0.54398 C 0.37674 -0.54838 0.37119 -0.54907 0.36841 -0.55069 C 0.35886 -0.55602 0.35105 -0.56805 0.34011 -0.56852 C 0.30296 -0.56991 0.26563 -0.57014 0.22848 -0.57083 C 0.22032 -0.57291 0.21719 -0.575 0.21007 -0.57963 C 0.20573 -0.58241 0.20087 -0.58333 0.19671 -0.58634 C 0.18976 -0.59143 0.18403 -0.59768 0.17674 -0.60185 C 0.17466 -0.60301 0.16546 -0.60555 0.16337 -0.60625 C 0.15313 -0.61018 0.1474 -0.61319 0.13681 -0.61528 C 0.12744 -0.62338 0.11563 -0.62592 0.10504 -0.63078 C 0.10278 -0.6331 0.10035 -0.63495 0.09844 -0.6375 C 0.09705 -0.63935 0.09671 -0.64236 0.09513 -0.64398 C 0.09376 -0.64537 0.09323 -0.6493 0.09167 -0.65046 C 0.0882 -0.65301 0.08525 -0.65486 0.08195 -0.65787 C 0.08039 -0.65926 0.08264 -0.65509 0.07501 -0.65717 E">
                                      <p:cBhvr>
                                        <p:cTn id="533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4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53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6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537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j0074852.wav"/>
                                        </p:tgtEl>
                                      </p:cMediaNode>
                                    </p:audio>
                                    <p:animMotion origin="layout" path="M 0.47084 -0.37129 C 0.4724 -0.44166 0.48525 -0.53009 0.45417 -0.59352 C 0.45139 -0.60972 0.45469 -0.5956 0.44914 -0.60903 C 0.43716 -0.63842 0.43004 -0.65833 0.40417 -0.66898 C 0.39827 -0.67731 0.404 -0.67106 0.39428 -0.67569 C 0.38317 -0.68102 0.38577 -0.68403 0.37257 -0.6868 C 0.32639 -0.68518 0.32674 -0.68541 0.29584 -0.68009 C 0.27362 -0.66829 0.25157 -0.65648 0.22917 -0.64467 C 0.21806 -0.63889 0.20469 -0.6294 0.19254 -0.62916 C 0.15591 -0.62847 0.1191 -0.62916 0.08247 -0.62916 E">
                                      <p:cBhvr>
                                        <p:cTn id="540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1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54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3" restart="whenNotActive" nodeType="interactiveSeq" fill="hold">
                <p:stCondLst>
                  <p:cond evt="onClick">
                    <p:tgtEl>
                      <p:spTgt spid="175"/>
                    </p:tgtEl>
                  </p:cond>
                </p:stCondLst>
                <p:childTnLst>
                  <p:par>
                    <p:cTn id="544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j0074852.wav"/>
                                        </p:tgtEl>
                                      </p:cMediaNode>
                                    </p:audio>
                                    <p:animMotion origin="layout" path="M 0.44723 -0.31898 C 0.44132 -0.32685 0.44427 -0.32152 0.44046 -0.3368 C 0.43941 -0.3412 0.43716 -0.35023 0.43716 -0.35023 C 0.43872 -0.39004 0.43455 -0.41157 0.46216 -0.43032 C 0.46823 -0.43865 0.47743 -0.44027 0.48386 -0.44791 C 0.49671 -0.46342 0.50521 -0.47939 0.51042 -0.50138 C 0.51302 -0.52731 0.51719 -0.55231 0.50209 -0.57245 C 0.50157 -0.57546 0.50191 -0.57916 0.50052 -0.58125 C 0.49983 -0.58263 0.48907 -0.58564 0.48889 -0.58564 C 0.47639 -0.59027 0.46771 -0.59097 0.45382 -0.59236 C 0.43855 -0.59583 0.43629 -0.60254 0.42379 -0.6125 C 0.42275 -0.61551 0.42223 -0.61898 0.42049 -0.62129 C 0.41927 -0.62291 0.41667 -0.62199 0.41546 -0.62361 C 0.41372 -0.62592 0.41355 -0.62963 0.41216 -0.6324 C 0.40921 -0.63796 0.40625 -0.64004 0.40209 -0.64351 C 0.39948 -0.64884 0.39618 -0.65347 0.39375 -0.65902 C 0.39289 -0.66111 0.39289 -0.66365 0.39219 -0.66574 C 0.38941 -0.67338 0.38559 -0.68101 0.38212 -0.68796 C 0.37709 -0.70995 0.37171 -0.73611 0.35886 -0.75231 C 0.35504 -0.76713 0.36007 -0.74976 0.35209 -0.76805 C 0.34966 -0.77361 0.34896 -0.78125 0.34549 -0.78564 C 0.33629 -0.79791 0.32691 -0.81481 0.31389 -0.81898 C 0.31059 -0.82199 0.30764 -0.82638 0.30382 -0.82801 C 0.29792 -0.83055 0.2908 -0.83287 0.28542 -0.8368 C 0.2783 -0.84213 0.27014 -0.85138 0.26216 -0.85463 C 0.24584 -0.86134 0.22743 -0.86319 0.21042 -0.86574 C 0.19514 -0.87106 0.21355 -0.86527 0.18542 -0.87013 C 0.17396 -0.87222 0.16181 -0.87685 0.15052 -0.87916 C 0.13021 -0.8831 0.10938 -0.87916 0.08889 -0.87916 E">
                                      <p:cBhvr>
                                        <p:cTn id="547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8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54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0" restart="whenNotActive" nodeType="interactiveSeq" fill="hold">
                <p:stCondLst>
                  <p:cond evt="onClick">
                    <p:tgtEl>
                      <p:spTgt spid="176"/>
                    </p:tgtEl>
                  </p:cond>
                </p:stCondLst>
                <p:childTnLst>
                  <p:par>
                    <p:cTn id="551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j0074852.wav"/>
                                        </p:tgtEl>
                                      </p:cMediaNode>
                                    </p:audio>
                                    <p:animMotion origin="layout" path="M 0.53993 -0.54283 C 0.53924 -0.58334 0.54323 -0.64908 0.52483 -0.68959 C 0.52274 -0.71065 0.51754 -0.72986 0.51163 -0.74954 C 0.50816 -0.76088 0.50642 -0.77431 0.50156 -0.78496 C 0.49965 -0.78889 0.49688 -0.79213 0.49497 -0.79607 C 0.49149 -0.81389 0.49636 -0.79699 0.48663 -0.81181 C 0.47674 -0.82709 0.49063 -0.81574 0.47656 -0.825 C 0.47153 -0.83426 0.46684 -0.8463 0.4599 -0.85394 C 0.45295 -0.86158 0.45712 -0.85556 0.44983 -0.86065 C 0.4467 -0.86274 0.44479 -0.86783 0.44149 -0.86945 C 0.43663 -0.87199 0.42708 -0.87431 0.42153 -0.87616 C 0.41823 -0.87709 0.41493 -0.87778 0.41163 -0.87848 C 0.40434 -0.8801 0.38993 -0.88287 0.38993 -0.88287 C 0.37986 -0.88704 0.37031 -0.88982 0.3599 -0.89167 C 0.33767 -0.90186 0.30799 -0.90486 0.2849 -0.90718 C 0.26997 -0.90649 0.25486 -0.90672 0.23993 -0.9051 C 0.23038 -0.90394 0.22118 -0.89977 0.21163 -0.89838 C 0.19948 -0.89306 0.20504 -0.89514 0.19497 -0.89167 C 0.18507 -0.88311 0.18281 -0.88125 0.17153 -0.87848 C 0.16597 -0.87454 0.16024 -0.87315 0.15486 -0.86945 C 0.1434 -0.86181 0.1559 -0.8676 0.14497 -0.86274 C 0.13993 -0.86042 0.12986 -0.85625 0.12986 -0.85625 C 0.12396 -0.84792 0.12969 -0.85417 0.11997 -0.84954 C 0.10243 -0.84098 0.09219 -0.83403 0.07326 -0.83403 E">
                                      <p:cBhvr>
                                        <p:cTn id="554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5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55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7" restart="whenNotActive" nodeType="interactiveSeq" fill="hold">
                <p:stCondLst>
                  <p:cond evt="onClick">
                    <p:tgtEl>
                      <p:spTgt spid="177"/>
                    </p:tgtEl>
                  </p:cond>
                </p:stCondLst>
                <p:childTnLst>
                  <p:par>
                    <p:cTn id="558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j0074852.wav"/>
                                        </p:tgtEl>
                                      </p:cMediaNode>
                                    </p:audio>
                                    <p:animMotion origin="layout" path="M 0.07396 -0.65879 C 0.04757 -0.65463 0.05521 -0.66666 0.00452 -0.66991 C -0.01822 -0.67315 -0.04045 -0.66018 -0.06371 -0.6618 C -0.12674 -0.66088 -0.19289 -0.68009 -0.2533 -0.65509 C -0.25365 -0.65463 -0.26216 -0.64653 -0.26337 -0.64398 C -0.27084 -0.62731 -0.27657 -0.60856 -0.2816 -0.59051 C -0.28299 -0.58541 -0.28386 -0.58009 -0.2849 -0.575 C -0.28612 -0.56898 -0.28837 -0.55717 -0.28837 -0.55694 C -0.2908 -0.52384 -0.29428 -0.48842 -0.28004 -0.45949 C -0.27761 -0.44676 -0.27257 -0.44004 -0.26667 -0.43055 C -0.26546 -0.42847 -0.26424 -0.42616 -0.26337 -0.42384 C -0.26268 -0.42176 -0.26268 -0.41921 -0.26164 -0.41736 C -0.25747 -0.41041 -0.25278 -0.40393 -0.24827 -0.39722 C -0.2441 -0.39097 -0.23941 -0.38541 -0.2349 -0.3794 C -0.23334 -0.37731 -0.23004 -0.37291 -0.23004 -0.37268 C -0.2283 -0.3662 -0.22726 -0.35926 -0.225 -0.35278 C -0.22414 -0.35046 -0.22257 -0.34861 -0.22171 -0.34606 C -0.22032 -0.3419 -0.21823 -0.33287 -0.21823 -0.33264 C -0.21771 -0.32778 -0.21737 -0.32245 -0.21667 -0.31736 C -0.21546 -0.30856 -0.2099 -0.2993 -0.2099 -0.29051 C -0.2099 -0.28171 -0.2099 -0.27268 -0.2099 -0.26389 E">
                                      <p:cBhvr>
                                        <p:cTn id="561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2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56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4" restart="whenNotActive" nodeType="interactiveSeq" fill="hold">
                <p:stCondLst>
                  <p:cond evt="onClick">
                    <p:tgtEl>
                      <p:spTgt spid="178"/>
                    </p:tgtEl>
                  </p:cond>
                </p:stCondLst>
                <p:childTnLst>
                  <p:par>
                    <p:cTn id="565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j0074852.wav"/>
                                        </p:tgtEl>
                                      </p:cMediaNode>
                                    </p:audio>
                                    <p:animMotion origin="layout" path="M 0.08247 -0.62917 C 0.07587 -0.62986 0.0691 -0.62986 0.06251 -0.63148 C 0.05678 -0.63287 0.05018 -0.63843 0.04428 -0.64028 C 0.03594 -0.65093 0.02674 -0.65139 0.01754 -0.6581 C 0.00139 -0.66991 0.01407 -0.66505 -0.00086 -0.66921 C -0.00815 -0.6757 -0.01562 -0.67801 -0.02413 -0.68033 C -0.03229 -0.68588 -0.0401 -0.69121 -0.04913 -0.69375 C -0.05885 -0.70023 -0.06874 -0.70301 -0.07916 -0.70695 C -0.08836 -0.71042 -0.0802 -0.70764 -0.08906 -0.71366 C -0.09392 -0.7169 -0.10034 -0.71829 -0.10572 -0.72037 C -0.12847 -0.72894 -0.1526 -0.73125 -0.17586 -0.73588 C -0.21041 -0.74283 -0.24427 -0.75185 -0.27916 -0.75579 C -0.28854 -0.75509 -0.29808 -0.75556 -0.30746 -0.75371 C -0.31545 -0.75208 -0.31909 -0.7382 -0.32413 -0.73148 C -0.32552 -0.72963 -0.3276 -0.72871 -0.32916 -0.72708 C -0.33038 -0.7257 -0.33142 -0.72408 -0.33246 -0.72246 C -0.33454 -0.71435 -0.33732 -0.70741 -0.34079 -0.70023 C -0.34357 -0.68634 -0.34583 -0.67222 -0.34739 -0.6581 C -0.346 -0.64306 -0.34548 -0.6375 -0.34079 -0.62477 C -0.3394 -0.61111 -0.33749 -0.59583 -0.3342 -0.58264 C -0.33124 -0.5706 -0.32499 -0.5625 -0.32083 -0.55139 C -0.31527 -0.53658 -0.3092 -0.52315 -0.30243 -0.50926 C -0.29895 -0.50232 -0.29288 -0.5 -0.28906 -0.49375 C -0.28437 -0.48611 -0.28194 -0.47708 -0.27743 -0.46921 C -0.27552 -0.46134 -0.27361 -0.45046 -0.27083 -0.44259 C -0.26909 -0.43773 -0.26597 -0.43496 -0.26579 -0.42917 C -0.26527 -0.40625 -0.26579 -0.38333 -0.26579 -0.36042 E">
                                      <p:cBhvr>
                                        <p:cTn id="568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9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57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1" restart="whenNotActive" nodeType="interactiveSeq" fill="hold">
                <p:stCondLst>
                  <p:cond evt="onClick">
                    <p:tgtEl>
                      <p:spTgt spid="179"/>
                    </p:tgtEl>
                  </p:cond>
                </p:stCondLst>
                <p:childTnLst>
                  <p:par>
                    <p:cTn id="572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j0074852.wav"/>
                                        </p:tgtEl>
                                      </p:cMediaNode>
                                    </p:audio>
                                    <p:animMotion origin="layout" path="M 0.08889 -0.87917 C 0.0198 -0.87801 -0.03698 -0.88195 -0.10121 -0.87037 C -0.10312 -0.86968 -0.10468 -0.86921 -0.10625 -0.86806 C -0.10798 -0.8669 -0.10954 -0.86482 -0.11111 -0.86366 C -0.11441 -0.86181 -0.12118 -0.85926 -0.12118 -0.85926 C -0.1276 -0.85023 -0.14392 -0.84236 -0.15277 -0.83912 C -0.15816 -0.83449 -0.16441 -0.83148 -0.16944 -0.82593 C -0.18281 -0.81134 -0.19652 -0.79653 -0.20954 -0.78148 C -0.21666 -0.77315 -0.22187 -0.76158 -0.22951 -0.75463 C -0.23767 -0.73287 -0.22569 -0.76227 -0.24288 -0.73241 C -0.24739 -0.72454 -0.25104 -0.71713 -0.25625 -0.71019 C -0.25972 -0.69607 -0.25486 -0.70995 -0.26284 -0.70139 C -0.26441 -0.69977 -0.26475 -0.69653 -0.26614 -0.69468 C -0.26927 -0.69051 -0.27309 -0.68773 -0.27621 -0.68357 C -0.27882 -0.67269 -0.2809 -0.66713 -0.28611 -0.65695 C -0.28732 -0.65463 -0.28958 -0.65023 -0.28958 -0.65023 C -0.29149 -0.6419 -0.29427 -0.63519 -0.29791 -0.62801 C -0.29965 -0.6206 -0.3026 -0.61528 -0.30451 -0.6081 C -0.30555 -0.58773 -0.3059 -0.56366 -0.31111 -0.54352 C -0.31232 -0.53912 -0.31354 -0.53472 -0.31458 -0.53033 C -0.31562 -0.52593 -0.31788 -0.5169 -0.31788 -0.5169 C -0.31909 -0.5037 -0.31805 -0.49699 -0.32448 -0.48796 C -0.3302 -0.46644 -0.32951 -0.4632 -0.32951 -0.43704 E">
                                      <p:cBhvr>
                                        <p:cTn id="575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6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57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8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579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j0074852.wav"/>
                                        </p:tgtEl>
                                      </p:cMediaNode>
                                    </p:audio>
                                    <p:animMotion origin="layout" path="M 0.07292 -0.83472 C 0.05244 -0.83796 0.04879 -0.8537 0.0349 -0.85347 C -0.06736 -0.85208 -0.16945 -0.85208 -0.27171 -0.85139 C -0.28056 -0.84722 -0.28733 -0.84028 -0.29497 -0.83357 C -0.29983 -0.82917 -0.30157 -0.82245 -0.30678 -0.81806 C -0.30782 -0.81574 -0.30921 -0.81366 -0.31007 -0.81134 C -0.31077 -0.80926 -0.31077 -0.80671 -0.31164 -0.80463 C -0.3125 -0.80278 -0.31407 -0.80185 -0.31511 -0.80023 C -0.32014 -0.7919 -0.32639 -0.78079 -0.33004 -0.7713 C -0.33542 -0.75695 -0.33941 -0.74051 -0.34844 -0.72917 C -0.3507 -0.71945 -0.35487 -0.71134 -0.35834 -0.70255 C -0.36233 -0.69236 -0.36441 -0.68426 -0.37171 -0.67801 C -0.38073 -0.63218 -0.3783 -0.62407 -0.3783 -0.5581 E">
                                      <p:cBhvr>
                                        <p:cTn id="582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3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5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5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586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j0074852.wav"/>
                                        </p:tgtEl>
                                      </p:cMediaNode>
                                    </p:audio>
                                    <p:animMotion origin="layout" path="M -0.2099 -0.26389 C -0.20122 -0.2287 -0.21007 -0.26736 -0.20573 -0.17708 C -0.20539 -0.17037 -0.20226 -0.16389 -0.20139 -0.15717 C -0.19636 -0.11643 -0.1875 -0.0919 -0.16285 -0.05926 C -0.15244 -0.04583 -0.13803 -0.02893 -0.12188 -0.02384 C -0.11494 -0.01898 -0.10851 -0.01528 -0.10035 -0.01273 C -0.08732 -0.00347 -0.08124 -0.00208 -0.06631 0.00278 C -0.04236 0.00486 0.000869999999999999 -0.00046 0.02153 -0.00092 C 0.04219 -0.00139 0.04983 0.00023 0.0573 0.00047 E">
                                      <p:cBhvr>
                                        <p:cTn id="589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0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59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2" restart="whenNotActive" nodeType="interactiveSeq" fill="hold">
                <p:stCondLst>
                  <p:cond evt="onClick">
                    <p:tgtEl>
                      <p:spTgt spid="182"/>
                    </p:tgtEl>
                  </p:cond>
                </p:stCondLst>
                <p:childTnLst>
                  <p:par>
                    <p:cTn id="593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j0074852.wav"/>
                                        </p:tgtEl>
                                      </p:cMediaNode>
                                    </p:audio>
                                    <p:animMotion origin="layout" path="M -0.26579 -0.36041 C -0.26562 -0.34699 -0.28107 -0.2162 -0.25572 -0.16712 C -0.25381 -0.15902 -0.25034 -0.15254 -0.24739 -0.1449 C -0.246 -0.13449 -0.24479 -0.128 -0.23906 -0.12037 C -0.23663 -0.11018 -0.23263 -0.09976 -0.22586 -0.09374 C -0.21163 -0.06597 -0.19444 -0.04606 -0.17239 -0.02939 C -0.16562 -0.0243 -0.15781 -0.02268 -0.15086 -0.01828 C -0.14479 -0.01435 -0.13836 -0.01319 -0.13246 -0.00925 C -0.12152 -0.00185 -0.13402 -0.00694 -0.12083 -0.00277 C -0.0644 0.03588 -0.11666 0.00186 0.05417 0.00186 E">
                                      <p:cBhvr>
                                        <p:cTn id="596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7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59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9" restart="whenNotActive" nodeType="interactiveSeq" fill="hold">
                <p:stCondLst>
                  <p:cond evt="onClick">
                    <p:tgtEl>
                      <p:spTgt spid="183"/>
                    </p:tgtEl>
                  </p:cond>
                </p:stCondLst>
                <p:childTnLst>
                  <p:par>
                    <p:cTn id="600" fill="hold">
                      <p:stCondLst>
                        <p:cond evt="onClick">
                          <p:tgtEl>
                            <p:spTgt spid="183"/>
                          </p:tgtEl>
                        </p:cond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j0074852.wav"/>
                                        </p:tgtEl>
                                      </p:cMediaNode>
                                    </p:audio>
                                    <p:animMotion origin="layout" path="M -0.32951 -0.43703 C -0.34409 -0.39837 -0.33767 -0.29166 -0.33784 -0.28587 C -0.33611 -0.23587 -0.33524 -0.18981 -0.32621 -0.14143 C -0.32517 -0.13564 -0.32152 -0.13124 -0.31944 -0.12592 C -0.31198 -0.1074 -0.3059 -0.08865 -0.29791 -0.07036 C -0.28906 -0.04999 -0.27621 -0.02036 -0.25781 -0.01273 C -0.24965 -0.00439 -0.23941 -0.00069 -0.23125 0.00741 C -0.22899 0.00973 -0.22708 0.01251 -0.22448 0.01413 C -0.22239 0.01551 -0.22013 0.01528 -0.21788 0.01621 C -0.21614 0.0169 -0.21441 0.01737 -0.21284 0.01852 C -0.19722 0.02894 -0.22309 0.01598 -0.19791 0.02732 C -0.19618 0.02801 -0.19288 0.02964 -0.19288 0.02964 C -0.17569 0.02894 -0.15833 0.02871 -0.14114 0.02732 C -0.13125 0.02663 -0.12378 0.02107 -0.11284 0.02061 C -0.08576 0.01945 -0.0585 0.01922 -0.03125 0.01852 C -0.01024 0.01436 0.01094 0.01251 0.03212 0.0095 C 0.03837 0.00764 0.04445 0.00579 0.05052 0.00301 C 0.05382 0.00163 0.06042 -0.00161 0.06042 -0.00161 C 0.06285 -0.00462 0.06563 -0.01273 0.06875 -0.01273 E">
                                      <p:cBhvr>
                                        <p:cTn id="603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4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60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6" restart="whenNotActive" nodeType="interactiveSeq" fill="hold">
                <p:stCondLst>
                  <p:cond evt="onClick">
                    <p:tgtEl>
                      <p:spTgt spid="184"/>
                    </p:tgtEl>
                  </p:cond>
                </p:stCondLst>
                <p:childTnLst>
                  <p:par>
                    <p:cTn id="607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j0074852.wav"/>
                                        </p:tgtEl>
                                      </p:cMediaNode>
                                    </p:audio>
                                    <p:animMotion origin="layout" path="M -0.3783 -0.5581 C -0.37534 -0.49028 -0.37812 -0.42222 -0.375 -0.3544 C -0.37465 -0.34792 -0.36961 -0.34306 -0.3684 -0.33681 C -0.36527 -0.32083 -0.36059 -0.30671 -0.35503 -0.2919 C -0.35208 -0.2838 -0.35121 -0.27315 -0.34826 -0.26482 C -0.3408 -0.24491 -0.34357 -0.25833 -0.33663 -0.24259 C -0.32413 -0.21343 -0.30573 -0.17222 -0.28333 -0.15532 C -0.26076 -0.13843 -0.2875 -0.16204 -0.26857 -0.14653 C -0.25416 -0.13495 -0.26354 -0.13958 -0.2533 -0.13519 C -0.24392 -0.12662 -0.25034 -0.13148 -0.2335 -0.12407 C -0.19722 -0.10833 -0.15104 -0.06713 -0.10833 -0.05232 C -0.10086 -0.04583 -0.09305 -0.04653 -0.08524 -0.0412 C -0.075 -0.03403 -0.06319 -0.02847 -0.05173 -0.02546 C -0.03645 -0.01551 -0.01857 -0.01921 -0.00173 -0.01667 C 0.01407 -0.01134 0.03039 -0.00926 0.0467 -0.00764 C 0.05209 -0.00509 0.05 -0.00556 0.05313 -0.00556 E">
                                      <p:cBhvr>
                                        <p:cTn id="610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1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61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87" name=""/>
            <p:cNvSpPr/>
            <p:nvPr/>
          </p:nvSpPr>
          <p:spPr>
            <a:xfrm>
              <a:off x="0" y="0"/>
              <a:ext cx="9144000" cy="6858000"/>
            </a:xfrm>
            <a:prstGeom prst="roundRect">
              <a:avLst>
                <a:gd name="adj" fmla="val 33449"/>
              </a:avLst>
            </a:prstGeom>
            <a:solidFill>
              <a:srgbClr val="c0c0c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981080" y="1676520"/>
              <a:ext cx="4876920" cy="3352680"/>
            </a:xfrm>
            <a:prstGeom prst="roundRect">
              <a:avLst>
                <a:gd name="adj" fmla="val 33449"/>
              </a:avLst>
            </a:prstGeom>
            <a:gradFill rotWithShape="0">
              <a:gsLst>
                <a:gs pos="0">
                  <a:srgbClr val="008000"/>
                </a:gs>
                <a:gs pos="50000">
                  <a:srgbClr val="009900"/>
                </a:gs>
                <a:gs pos="100000">
                  <a:srgbClr val="008000"/>
                </a:gs>
              </a:gsLst>
              <a:lin ang="135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990720" y="762120"/>
              <a:ext cx="6781680" cy="5105160"/>
            </a:xfrm>
            <a:prstGeom prst="roundRect">
              <a:avLst>
                <a:gd name="adj" fmla="val 33449"/>
              </a:avLst>
            </a:prstGeom>
            <a:noFill/>
            <a:ln w="572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4343400" y="502920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3286080" y="5011560"/>
            <a:ext cx="914400" cy="39852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3286080" y="5475240"/>
            <a:ext cx="914400" cy="3920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3276720" y="5992920"/>
            <a:ext cx="923760" cy="40788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4"/>
          <a:stretch/>
        </p:blipFill>
        <p:spPr>
          <a:xfrm>
            <a:off x="3286080" y="6470640"/>
            <a:ext cx="914400" cy="38736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3200400" y="5105520"/>
            <a:ext cx="990720" cy="30456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276720" y="5562720"/>
            <a:ext cx="990360" cy="30456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276720" y="6019920"/>
            <a:ext cx="990360" cy="3808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276720" y="6553080"/>
            <a:ext cx="990360" cy="30492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010280" y="2971800"/>
            <a:ext cx="53352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772400" y="2971800"/>
            <a:ext cx="53352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620120" y="3733920"/>
            <a:ext cx="53316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8381880" y="2743200"/>
            <a:ext cx="53352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114800" y="457200"/>
            <a:ext cx="609480" cy="3808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267080" y="1143000"/>
            <a:ext cx="609840" cy="3808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343400" y="0"/>
            <a:ext cx="609480" cy="3808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191120" y="838080"/>
            <a:ext cx="609480" cy="30492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523880" y="3048120"/>
            <a:ext cx="60984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990720" y="2819520"/>
            <a:ext cx="60948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0880" y="2819520"/>
            <a:ext cx="60984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2438280"/>
            <a:ext cx="609480" cy="60984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200400" y="4343400"/>
            <a:ext cx="24098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Next Lap!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613" dur="indefinite" restart="never" nodeType="tmRoot">
          <p:childTnLst>
            <p:seq>
              <p:cTn id="614" restart="whenNotActive" nodeType="interactiveSeq" fill="hold">
                <p:stCondLst>
                  <p:cond evt="onClick">
                    <p:tgtEl>
                      <p:spTgt spid="195"/>
                    </p:tgtEl>
                  </p:cond>
                </p:stCondLst>
                <p:childTnLst>
                  <p:par>
                    <p:cTn id="615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j0074852.wav"/>
                                        </p:tgtEl>
                                      </p:cMediaNode>
                                    </p:audio>
                                    <p:animMotion origin="layout" path="M 0.0573 -0.00046 C 0.11181 -0.00162 0.33004 0.03403 0.3849 -0.00764 C 0.43976 -0.0493 0.3856 -0.20694 0.38664 -0.25 C 0.38768 -0.29305 0.38959 -0.2794 0.39167 -0.26551 E">
                                      <p:cBhvr>
                                        <p:cTn id="618" dur="200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9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5400000">
                                      <p:cBhvr>
                                        <p:cTn id="62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1" restart="whenNotActive" nodeType="interactiveSeq" fill="hold">
                <p:stCondLst>
                  <p:cond evt="onClick">
                    <p:tgtEl>
                      <p:spTgt spid="196"/>
                    </p:tgtEl>
                  </p:cond>
                </p:stCondLst>
                <p:childTnLst>
                  <p:par>
                    <p:cTn id="622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j0074852.wav"/>
                                        </p:tgtEl>
                                      </p:cMediaNode>
                                    </p:audio>
                                    <p:animMotion origin="layout" path="M 0.05504 0.00116 C 0.10973 0.00046 0.17049 0.02824 0.21927 -0.00856 C 0.22466 -0.0125 0.22691 -0.01782 0.23264 -0.02106 C 0.23941 -0.03055 0.24723 -0.03912 0.25625 -0.04329 C 0.26407 -0.05139 0.2698 -0.05463 0.27795 -0.06088 C 0.28507 -0.06597 0.29028 -0.07616 0.29636 -0.0831 C 0.29948 -0.0868 0.30365 -0.08866 0.30643 -0.09305 C 0.31198 -0.10116 0.31389 -0.10926 0.32153 -0.11296 C 0.32969 -0.13148 0.34289 -0.14768 0.35504 -0.16018 C 0.35938 -0.16458 0.36407 -0.16852 0.36858 -0.17268 C 0.37275 -0.17662 0.38195 -0.18241 0.38195 -0.18217 C 0.38976 -0.19421 0.38507 -0.18819 0.39705 -0.19977 C 0.39879 -0.20139 0.40035 -0.20324 0.40209 -0.20486 C 0.40382 -0.20648 0.40712 -0.20995 0.40712 -0.20972 C 0.41164 -0.22014 0.4191 -0.22477 0.42552 -0.23217 C 0.43594 -0.24467 0.44618 -0.25856 0.45747 -0.26944 C 0.475 -0.30903 0.47084 -0.31041 0.47084 -0.37129 E">
                                      <p:cBhvr>
                                        <p:cTn id="625" dur="2000" fill="hold"/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6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5400000">
                                      <p:cBhvr>
                                        <p:cTn id="62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8" restart="whenNotActive" nodeType="interactiveSeq" fill="hold">
                <p:stCondLst>
                  <p:cond evt="onClick">
                    <p:tgtEl>
                      <p:spTgt spid="197"/>
                    </p:tgtEl>
                  </p:cond>
                </p:stCondLst>
                <p:childTnLst>
                  <p:par>
                    <p:cTn id="629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j0074852.wav"/>
                                        </p:tgtEl>
                                      </p:cMediaNode>
                                    </p:audio>
                                    <p:animMotion origin="layout" path="M 0.06858 -0.01366 C 0.13681 -0.01481 0.20712 -0.0162 0.27553 -0.02338 C 0.2816 -0.02546 0.28785 -0.02592 0.29393 -0.02801 C 0.30521 -0.03217 0.31598 -0.04097 0.32726 -0.0456 C 0.33421 -0.05231 0.34237 -0.06018 0.35053 -0.06342 C 0.36459 -0.07569 0.38091 -0.08379 0.39549 -0.09467 C 0.41407 -0.10833 0.43125 -0.12523 0.44879 -0.1412 C 0.45469 -0.15254 0.46146 -0.16296 0.46719 -0.17453 C 0.4724 -0.18518 0.47309 -0.20231 0.47553 -0.21458 C 0.475 -0.2331 0.47518 -0.25162 0.47379 -0.27014 C 0.47292 -0.28217 0.4625 -0.30486 0.45556 -0.31227 C 0.43507 -0.33379 0.46407 -0.29653 0.44723 -0.31898 E">
                                      <p:cBhvr>
                                        <p:cTn id="632" dur="2000" fill="hold"/>
                                        <p:tgtEl>
                                          <p:spTgt spid="1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3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5400000">
                                      <p:cBhvr>
                                        <p:cTn id="63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5" restart="whenNotActive" nodeType="interactiveSeq" fill="hold">
                <p:stCondLst>
                  <p:cond evt="onClick">
                    <p:tgtEl>
                      <p:spTgt spid="198"/>
                    </p:tgtEl>
                  </p:cond>
                </p:stCondLst>
                <p:childTnLst>
                  <p:par>
                    <p:cTn id="636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j0074852.wav"/>
                                        </p:tgtEl>
                                      </p:cMediaNode>
                                    </p:audio>
                                    <p:animMotion origin="layout" path="M 0.05417 -0.00509 C 0.06007 -0.00394 0.07709 -0.00162 0.09028 -0.00046 C 0.10348 0.00069 0.11563 0.00231 0.13334 0.00162 C 0.16511 -0.00324 0.1408 0.00023 0.19671 -0.00509 C 0.20452 -0.00579 0.21997 -0.00741 0.21997 -0.00718 C 0.24271 -0.01204 0.26563 -0.01204 0.28837 -0.0162 C 0.304 -0.01921 0.28941 -0.01736 0.30504 -0.02292 C 0.31719 -0.02732 0.33091 -0.02778 0.34341 -0.02963 C 0.35296 -0.03264 0.36025 -0.03843 0.36997 -0.04074 C 0.38091 -0.04792 0.39323 -0.05347 0.40504 -0.05833 C 0.41233 -0.06505 0.41962 -0.07153 0.42674 -0.07847 C 0.4408 -0.09236 0.43126 -0.0875 0.44167 -0.09167 C 0.44966 -0.10278 0.43907 -0.08912 0.45174 -0.1007 C 0.45834 -0.10671 0.46823 -0.12153 0.47674 -0.125 C 0.47969 -0.1375 0.48941 -0.14421 0.49671 -0.15185 C 0.50382 -0.15926 0.50712 -0.17014 0.51337 -0.17847 C 0.51771 -0.19722 0.51146 -0.17431 0.51841 -0.18958 C 0.52101 -0.19514 0.52275 -0.20139 0.52501 -0.20741 C 0.52674 -0.21204 0.5316 -0.2206 0.5316 -0.22037 C 0.55608 -0.34745 0.53994 -0.20093 0.53994 -0.54282 E">
                                      <p:cBhvr>
                                        <p:cTn id="639" dur="2000" fill="hold"/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0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5400000">
                                      <p:cBhvr>
                                        <p:cTn id="6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2" restart="whenNotActive" nodeType="interactiveSeq" fill="hold">
                <p:stCondLst>
                  <p:cond evt="onClick">
                    <p:tgtEl>
                      <p:spTgt spid="199"/>
                    </p:tgtEl>
                  </p:cond>
                </p:stCondLst>
                <p:childTnLst>
                  <p:par>
                    <p:cTn id="643" fill="hold">
                      <p:stCondLst>
                        <p:cond evt="onClick">
                          <p:tgtEl>
                            <p:spTgt spid="199"/>
                          </p:tgtEl>
                        </p:cond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j0074852.wav"/>
                                        </p:tgtEl>
                                      </p:cMediaNode>
                                    </p:audio>
                                    <p:animMotion origin="layout" path="M 0.39167 -0.29305 C 0.39237 -0.33657 0.38664 -0.38889 0.39844 -0.43287 C 0.39757 -0.46366 0.40296 -0.48241 0.39167 -0.50416 C 0.38837 -0.51991 0.38403 -0.52893 0.37848 -0.54398 C 0.37674 -0.54838 0.37119 -0.54907 0.36841 -0.55069 C 0.35886 -0.55602 0.35105 -0.56805 0.34011 -0.56852 C 0.30296 -0.56991 0.26563 -0.57014 0.22848 -0.57083 C 0.22032 -0.57291 0.21719 -0.575 0.21007 -0.57963 C 0.20573 -0.58241 0.20087 -0.58333 0.19671 -0.58634 C 0.18976 -0.59143 0.18403 -0.59768 0.17674 -0.60185 C 0.17466 -0.60301 0.16546 -0.60555 0.16337 -0.60625 C 0.15313 -0.61018 0.1474 -0.61319 0.13681 -0.61528 C 0.12744 -0.62338 0.11563 -0.62592 0.10504 -0.63078 C 0.10278 -0.6331 0.10035 -0.63495 0.09844 -0.6375 C 0.09705 -0.63935 0.09671 -0.64236 0.09513 -0.64398 C 0.09376 -0.64537 0.09323 -0.6493 0.09167 -0.65046 C 0.0882 -0.65301 0.08525 -0.65486 0.08195 -0.65787 C 0.08039 -0.65926 0.08264 -0.65509 0.07501 -0.65717 E">
                                      <p:cBhvr>
                                        <p:cTn id="646" dur="200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7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64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9" restart="whenNotActive" nodeType="interactiveSeq" fill="hold">
                <p:stCondLst>
                  <p:cond evt="onClick">
                    <p:tgtEl>
                      <p:spTgt spid="200"/>
                    </p:tgtEl>
                  </p:cond>
                </p:stCondLst>
                <p:childTnLst>
                  <p:par>
                    <p:cTn id="650" fill="hold">
                      <p:stCondLst>
                        <p:cond evt="onClick">
                          <p:tgtEl>
                            <p:spTgt spid="200"/>
                          </p:tgtEl>
                        </p:cond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j0074852.wav"/>
                                        </p:tgtEl>
                                      </p:cMediaNode>
                                    </p:audio>
                                    <p:animMotion origin="layout" path="M 0.47084 -0.37129 C 0.4724 -0.44166 0.48525 -0.53009 0.45417 -0.59352 C 0.45139 -0.60972 0.45469 -0.5956 0.44914 -0.60903 C 0.43716 -0.63842 0.43004 -0.65833 0.40417 -0.66898 C 0.39827 -0.67731 0.404 -0.67106 0.39428 -0.67569 C 0.38317 -0.68102 0.38577 -0.68403 0.37257 -0.6868 C 0.32639 -0.68518 0.32674 -0.68541 0.29584 -0.68009 C 0.27362 -0.66829 0.25157 -0.65648 0.22917 -0.64467 C 0.21806 -0.63889 0.20469 -0.6294 0.19254 -0.62916 C 0.15591 -0.62847 0.1191 -0.62916 0.08247 -0.62916 E">
                                      <p:cBhvr>
                                        <p:cTn id="653" dur="2000" fill="hold"/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4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65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6" restart="whenNotActive" nodeType="interactiveSeq" fill="hold">
                <p:stCondLst>
                  <p:cond evt="onClick">
                    <p:tgtEl>
                      <p:spTgt spid="201"/>
                    </p:tgtEl>
                  </p:cond>
                </p:stCondLst>
                <p:childTnLst>
                  <p:par>
                    <p:cTn id="657" fill="hold">
                      <p:stCondLst>
                        <p:cond evt="onClick">
                          <p:tgtEl>
                            <p:spTgt spid="201"/>
                          </p:tgtEl>
                        </p:cond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j0074852.wav"/>
                                        </p:tgtEl>
                                      </p:cMediaNode>
                                    </p:audio>
                                    <p:animMotion origin="layout" path="M 0.44723 -0.31898 C 0.44132 -0.32685 0.44427 -0.32152 0.44046 -0.3368 C 0.43941 -0.3412 0.43716 -0.35023 0.43716 -0.35023 C 0.43872 -0.39004 0.43455 -0.41157 0.46216 -0.43032 C 0.46823 -0.43865 0.47743 -0.44027 0.48386 -0.44791 C 0.49671 -0.46342 0.50521 -0.47939 0.51042 -0.50138 C 0.51302 -0.52731 0.51719 -0.55231 0.50209 -0.57245 C 0.50157 -0.57546 0.50191 -0.57916 0.50052 -0.58125 C 0.49983 -0.58263 0.48907 -0.58564 0.48889 -0.58564 C 0.47639 -0.59027 0.46771 -0.59097 0.45382 -0.59236 C 0.43855 -0.59583 0.43629 -0.60254 0.42379 -0.6125 C 0.42275 -0.61551 0.42223 -0.61898 0.42049 -0.62129 C 0.41927 -0.62291 0.41667 -0.62199 0.41546 -0.62361 C 0.41372 -0.62592 0.41355 -0.62963 0.41216 -0.6324 C 0.40921 -0.63796 0.40625 -0.64004 0.40209 -0.64351 C 0.39948 -0.64884 0.39618 -0.65347 0.39375 -0.65902 C 0.39289 -0.66111 0.39289 -0.66365 0.39219 -0.66574 C 0.38941 -0.67338 0.38559 -0.68101 0.38212 -0.68796 C 0.37709 -0.70995 0.37171 -0.73611 0.35886 -0.75231 C 0.35504 -0.76713 0.36007 -0.74976 0.35209 -0.76805 C 0.34966 -0.77361 0.34896 -0.78125 0.34549 -0.78564 C 0.33629 -0.79791 0.32691 -0.81481 0.31389 -0.81898 C 0.31059 -0.82199 0.30764 -0.82638 0.30382 -0.82801 C 0.29792 -0.83055 0.2908 -0.83287 0.28542 -0.8368 C 0.2783 -0.84213 0.27014 -0.85138 0.26216 -0.85463 C 0.24584 -0.86134 0.22743 -0.86319 0.21042 -0.86574 C 0.19514 -0.87106 0.21355 -0.86527 0.18542 -0.87013 C 0.17396 -0.87222 0.16181 -0.87685 0.15052 -0.87916 C 0.13021 -0.8831 0.10938 -0.87916 0.08889 -0.87916 E">
                                      <p:cBhvr>
                                        <p:cTn id="660" dur="2000" fill="hold"/>
                                        <p:tgtEl>
                                          <p:spTgt spid="1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1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66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3" restart="whenNotActive" nodeType="interactiveSeq" fill="hold">
                <p:stCondLst>
                  <p:cond evt="onClick">
                    <p:tgtEl>
                      <p:spTgt spid="202"/>
                    </p:tgtEl>
                  </p:cond>
                </p:stCondLst>
                <p:childTnLst>
                  <p:par>
                    <p:cTn id="664" fill="hold">
                      <p:stCondLst>
                        <p:cond evt="onClick">
                          <p:tgtEl>
                            <p:spTgt spid="202"/>
                          </p:tgtEl>
                        </p:cond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j0074852.wav"/>
                                        </p:tgtEl>
                                      </p:cMediaNode>
                                    </p:audio>
                                    <p:animMotion origin="layout" path="M 0.53993 -0.54283 C 0.53924 -0.58334 0.54323 -0.64908 0.52483 -0.68959 C 0.52274 -0.71065 0.51754 -0.72986 0.51163 -0.74954 C 0.50816 -0.76088 0.50642 -0.77431 0.50156 -0.78496 C 0.49965 -0.78889 0.49688 -0.79213 0.49497 -0.79607 C 0.49149 -0.81389 0.49636 -0.79699 0.48663 -0.81181 C 0.47674 -0.82709 0.49063 -0.81574 0.47656 -0.825 C 0.47153 -0.83426 0.46684 -0.8463 0.4599 -0.85394 C 0.45295 -0.86158 0.45712 -0.85556 0.44983 -0.86065 C 0.4467 -0.86274 0.44479 -0.86783 0.44149 -0.86945 C 0.43663 -0.87199 0.42708 -0.87431 0.42153 -0.87616 C 0.41823 -0.87709 0.41493 -0.87778 0.41163 -0.87848 C 0.40434 -0.8801 0.38993 -0.88287 0.38993 -0.88287 C 0.37986 -0.88704 0.37031 -0.88982 0.3599 -0.89167 C 0.33767 -0.90186 0.30799 -0.90486 0.2849 -0.90718 C 0.26997 -0.90649 0.25486 -0.90672 0.23993 -0.9051 C 0.23038 -0.90394 0.22118 -0.89977 0.21163 -0.89838 C 0.19948 -0.89306 0.20504 -0.89514 0.19497 -0.89167 C 0.18507 -0.88311 0.18281 -0.88125 0.17153 -0.87848 C 0.16597 -0.87454 0.16024 -0.87315 0.15486 -0.86945 C 0.1434 -0.86181 0.1559 -0.8676 0.14497 -0.86274 C 0.13993 -0.86042 0.12986 -0.85625 0.12986 -0.85625 C 0.12396 -0.84792 0.12969 -0.85417 0.11997 -0.84954 C 0.10243 -0.84098 0.09219 -0.83403 0.07326 -0.83403 E">
                                      <p:cBhvr>
                                        <p:cTn id="667" dur="2000" fill="hold"/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8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66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0" restart="whenNotActive" nodeType="interactiveSeq" fill="hold">
                <p:stCondLst>
                  <p:cond evt="onClick">
                    <p:tgtEl>
                      <p:spTgt spid="203"/>
                    </p:tgtEl>
                  </p:cond>
                </p:stCondLst>
                <p:childTnLst>
                  <p:par>
                    <p:cTn id="671" fill="hold">
                      <p:stCondLst>
                        <p:cond evt="onClick">
                          <p:tgtEl>
                            <p:spTgt spid="203"/>
                          </p:tgtEl>
                        </p:cond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j0074852.wav"/>
                                        </p:tgtEl>
                                      </p:cMediaNode>
                                    </p:audio>
                                    <p:animMotion origin="layout" path="M 0.07396 -0.65879 C 0.04757 -0.65463 0.05521 -0.66666 0.00452 -0.66991 C -0.01822 -0.67315 -0.04045 -0.66018 -0.06371 -0.6618 C -0.12674 -0.66088 -0.19289 -0.68009 -0.2533 -0.65509 C -0.25365 -0.65463 -0.26216 -0.64653 -0.26337 -0.64398 C -0.27084 -0.62731 -0.27657 -0.60856 -0.2816 -0.59051 C -0.28299 -0.58541 -0.28386 -0.58009 -0.2849 -0.575 C -0.28612 -0.56898 -0.28837 -0.55717 -0.28837 -0.55694 C -0.2908 -0.52384 -0.29428 -0.48842 -0.28004 -0.45949 C -0.27761 -0.44676 -0.27257 -0.44004 -0.26667 -0.43055 C -0.26546 -0.42847 -0.26424 -0.42616 -0.26337 -0.42384 C -0.26268 -0.42176 -0.26268 -0.41921 -0.26164 -0.41736 C -0.25747 -0.41041 -0.25278 -0.40393 -0.24827 -0.39722 C -0.2441 -0.39097 -0.23941 -0.38541 -0.2349 -0.3794 C -0.23334 -0.37731 -0.23004 -0.37291 -0.23004 -0.37268 C -0.2283 -0.3662 -0.22726 -0.35926 -0.225 -0.35278 C -0.22414 -0.35046 -0.22257 -0.34861 -0.22171 -0.34606 C -0.22032 -0.3419 -0.21823 -0.33287 -0.21823 -0.33264 C -0.21771 -0.32778 -0.21737 -0.32245 -0.21667 -0.31736 C -0.21546 -0.30856 -0.2099 -0.2993 -0.2099 -0.29051 C -0.2099 -0.28171 -0.2099 -0.27268 -0.2099 -0.26389 E">
                                      <p:cBhvr>
                                        <p:cTn id="674" dur="200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5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67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7" restart="whenNotActive" nodeType="interactiveSeq" fill="hold">
                <p:stCondLst>
                  <p:cond evt="onClick">
                    <p:tgtEl>
                      <p:spTgt spid="204"/>
                    </p:tgtEl>
                  </p:cond>
                </p:stCondLst>
                <p:childTnLst>
                  <p:par>
                    <p:cTn id="678" fill="hold">
                      <p:stCondLst>
                        <p:cond evt="onClick">
                          <p:tgtEl>
                            <p:spTgt spid="204"/>
                          </p:tgtEl>
                        </p:cond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j0074852.wav"/>
                                        </p:tgtEl>
                                      </p:cMediaNode>
                                    </p:audio>
                                    <p:animMotion origin="layout" path="M 0.08247 -0.62917 C 0.07587 -0.62986 0.0691 -0.62986 0.06251 -0.63148 C 0.05678 -0.63287 0.05018 -0.63843 0.04428 -0.64028 C 0.03594 -0.65093 0.02674 -0.65139 0.01754 -0.6581 C 0.00139 -0.66991 0.01407 -0.66505 -0.00086 -0.66921 C -0.00815 -0.6757 -0.01562 -0.67801 -0.02413 -0.68033 C -0.03229 -0.68588 -0.0401 -0.69121 -0.04913 -0.69375 C -0.05885 -0.70023 -0.06874 -0.70301 -0.07916 -0.70695 C -0.08836 -0.71042 -0.0802 -0.70764 -0.08906 -0.71366 C -0.09392 -0.7169 -0.10034 -0.71829 -0.10572 -0.72037 C -0.12847 -0.72894 -0.1526 -0.73125 -0.17586 -0.73588 C -0.21041 -0.74283 -0.24427 -0.75185 -0.27916 -0.75579 C -0.28854 -0.75509 -0.29808 -0.75556 -0.30746 -0.75371 C -0.31545 -0.75208 -0.31909 -0.7382 -0.32413 -0.73148 C -0.32552 -0.72963 -0.3276 -0.72871 -0.32916 -0.72708 C -0.33038 -0.7257 -0.33142 -0.72408 -0.33246 -0.72246 C -0.33454 -0.71435 -0.33732 -0.70741 -0.34079 -0.70023 C -0.34357 -0.68634 -0.34583 -0.67222 -0.34739 -0.6581 C -0.346 -0.64306 -0.34548 -0.6375 -0.34079 -0.62477 C -0.3394 -0.61111 -0.33749 -0.59583 -0.3342 -0.58264 C -0.33124 -0.5706 -0.32499 -0.5625 -0.32083 -0.55139 C -0.31527 -0.53658 -0.3092 -0.52315 -0.30243 -0.50926 C -0.29895 -0.50232 -0.29288 -0.5 -0.28906 -0.49375 C -0.28437 -0.48611 -0.28194 -0.47708 -0.27743 -0.46921 C -0.27552 -0.46134 -0.27361 -0.45046 -0.27083 -0.44259 C -0.26909 -0.43773 -0.26597 -0.43496 -0.26579 -0.42917 C -0.26527 -0.40625 -0.26579 -0.38333 -0.26579 -0.36042 E">
                                      <p:cBhvr>
                                        <p:cTn id="681" dur="2000" fill="hold"/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2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68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4" restart="whenNotActive" nodeType="interactiveSeq" fill="hold">
                <p:stCondLst>
                  <p:cond evt="onClick">
                    <p:tgtEl>
                      <p:spTgt spid="205"/>
                    </p:tgtEl>
                  </p:cond>
                </p:stCondLst>
                <p:childTnLst>
                  <p:par>
                    <p:cTn id="685" fill="hold">
                      <p:stCondLst>
                        <p:cond evt="onClick">
                          <p:tgtEl>
                            <p:spTgt spid="205"/>
                          </p:tgtEl>
                        </p:cond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j0074852.wav"/>
                                        </p:tgtEl>
                                      </p:cMediaNode>
                                    </p:audio>
                                    <p:animMotion origin="layout" path="M 0.08889 -0.87917 C 0.0198 -0.87801 -0.03698 -0.88195 -0.10121 -0.87037 C -0.10312 -0.86968 -0.10468 -0.86921 -0.10625 -0.86806 C -0.10798 -0.8669 -0.10954 -0.86482 -0.11111 -0.86366 C -0.11441 -0.86181 -0.12118 -0.85926 -0.12118 -0.85926 C -0.1276 -0.85023 -0.14392 -0.84236 -0.15277 -0.83912 C -0.15816 -0.83449 -0.16441 -0.83148 -0.16944 -0.82593 C -0.18281 -0.81134 -0.19652 -0.79653 -0.20954 -0.78148 C -0.21666 -0.77315 -0.22187 -0.76158 -0.22951 -0.75463 C -0.23767 -0.73287 -0.22569 -0.76227 -0.24288 -0.73241 C -0.24739 -0.72454 -0.25104 -0.71713 -0.25625 -0.71019 C -0.25972 -0.69607 -0.25486 -0.70995 -0.26284 -0.70139 C -0.26441 -0.69977 -0.26475 -0.69653 -0.26614 -0.69468 C -0.26927 -0.69051 -0.27309 -0.68773 -0.27621 -0.68357 C -0.27882 -0.67269 -0.2809 -0.66713 -0.28611 -0.65695 C -0.28732 -0.65463 -0.28958 -0.65023 -0.28958 -0.65023 C -0.29149 -0.6419 -0.29427 -0.63519 -0.29791 -0.62801 C -0.29965 -0.6206 -0.3026 -0.61528 -0.30451 -0.6081 C -0.30555 -0.58773 -0.3059 -0.56366 -0.31111 -0.54352 C -0.31232 -0.53912 -0.31354 -0.53472 -0.31458 -0.53033 C -0.31562 -0.52593 -0.31788 -0.5169 -0.31788 -0.5169 C -0.31909 -0.5037 -0.31805 -0.49699 -0.32448 -0.48796 C -0.3302 -0.46644 -0.32951 -0.4632 -0.32951 -0.43704 E">
                                      <p:cBhvr>
                                        <p:cTn id="688" dur="2000" fill="hold"/>
                                        <p:tgtEl>
                                          <p:spTgt spid="1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9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69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1" restart="whenNotActive" nodeType="interactiveSeq" fill="hold">
                <p:stCondLst>
                  <p:cond evt="onClick">
                    <p:tgtEl>
                      <p:spTgt spid="206"/>
                    </p:tgtEl>
                  </p:cond>
                </p:stCondLst>
                <p:childTnLst>
                  <p:par>
                    <p:cTn id="692" fill="hold">
                      <p:stCondLst>
                        <p:cond evt="onClick">
                          <p:tgtEl>
                            <p:spTgt spid="206"/>
                          </p:tgtEl>
                        </p:cond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j0074852.wav"/>
                                        </p:tgtEl>
                                      </p:cMediaNode>
                                    </p:audio>
                                    <p:animMotion origin="layout" path="M 0.07292 -0.83472 C 0.05244 -0.83796 0.04879 -0.8537 0.0349 -0.85347 C -0.06736 -0.85208 -0.16945 -0.85208 -0.27171 -0.85139 C -0.28056 -0.84722 -0.28733 -0.84028 -0.29497 -0.83357 C -0.29983 -0.82917 -0.30157 -0.82245 -0.30678 -0.81806 C -0.30782 -0.81574 -0.30921 -0.81366 -0.31007 -0.81134 C -0.31077 -0.80926 -0.31077 -0.80671 -0.31164 -0.80463 C -0.3125 -0.80278 -0.31407 -0.80185 -0.31511 -0.80023 C -0.32014 -0.7919 -0.32639 -0.78079 -0.33004 -0.7713 C -0.33542 -0.75695 -0.33941 -0.74051 -0.34844 -0.72917 C -0.3507 -0.71945 -0.35487 -0.71134 -0.35834 -0.70255 C -0.36233 -0.69236 -0.36441 -0.68426 -0.37171 -0.67801 C -0.38073 -0.63218 -0.3783 -0.62407 -0.3783 -0.5581 E">
                                      <p:cBhvr>
                                        <p:cTn id="695" dur="2000" fill="hold"/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6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69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8" restart="whenNotActive" nodeType="interactiveSeq" fill="hold">
                <p:stCondLst>
                  <p:cond evt="onClick">
                    <p:tgtEl>
                      <p:spTgt spid="207"/>
                    </p:tgtEl>
                  </p:cond>
                </p:stCondLst>
                <p:childTnLst>
                  <p:par>
                    <p:cTn id="699" fill="hold">
                      <p:stCondLst>
                        <p:cond evt="onClick">
                          <p:tgtEl>
                            <p:spTgt spid="207"/>
                          </p:tgtEl>
                        </p:cond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j0074852.wav"/>
                                        </p:tgtEl>
                                      </p:cMediaNode>
                                    </p:audio>
                                    <p:animMotion origin="layout" path="M -0.2099 -0.26389 C -0.20122 -0.2287 -0.21007 -0.26736 -0.20573 -0.17708 C -0.20539 -0.17037 -0.20226 -0.16389 -0.20139 -0.15717 C -0.19636 -0.11643 -0.1875 -0.0919 -0.16285 -0.05926 C -0.15244 -0.04583 -0.13803 -0.02893 -0.12188 -0.02384 C -0.11494 -0.01898 -0.10851 -0.01528 -0.10035 -0.01273 C -0.08732 -0.00347 -0.08124 -0.00208 -0.06631 0.00278 C -0.04236 0.00486 0.000869999999999999 -0.00046 0.02153 -0.00092 C 0.04219 -0.00139 0.04983 0.00023 0.0573 0.00047 E">
                                      <p:cBhvr>
                                        <p:cTn id="702" dur="200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03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70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5" restart="whenNotActive" nodeType="interactiveSeq" fill="hold">
                <p:stCondLst>
                  <p:cond evt="onClick">
                    <p:tgtEl>
                      <p:spTgt spid="208"/>
                    </p:tgtEl>
                  </p:cond>
                </p:stCondLst>
                <p:childTnLst>
                  <p:par>
                    <p:cTn id="706" fill="hold">
                      <p:stCondLst>
                        <p:cond evt="onClick">
                          <p:tgtEl>
                            <p:spTgt spid="208"/>
                          </p:tgtEl>
                        </p:cond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j0074852.wav"/>
                                        </p:tgtEl>
                                      </p:cMediaNode>
                                    </p:audio>
                                    <p:animMotion origin="layout" path="M -0.26579 -0.36041 C -0.26562 -0.34699 -0.28107 -0.2162 -0.25572 -0.16712 C -0.25381 -0.15902 -0.25034 -0.15254 -0.24739 -0.1449 C -0.246 -0.13449 -0.24479 -0.128 -0.23906 -0.12037 C -0.23663 -0.11018 -0.23263 -0.09976 -0.22586 -0.09374 C -0.21163 -0.06597 -0.19444 -0.04606 -0.17239 -0.02939 C -0.16562 -0.0243 -0.15781 -0.02268 -0.15086 -0.01828 C -0.14479 -0.01435 -0.13836 -0.01319 -0.13246 -0.00925 C -0.12152 -0.00185 -0.13402 -0.00694 -0.12083 -0.00277 C -0.0644 0.03588 -0.11666 0.00186 0.05417 0.00186 E">
                                      <p:cBhvr>
                                        <p:cTn id="709" dur="2000" fill="hold"/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0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71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2" restart="whenNotActive" nodeType="interactiveSeq" fill="hold">
                <p:stCondLst>
                  <p:cond evt="onClick">
                    <p:tgtEl>
                      <p:spTgt spid="209"/>
                    </p:tgtEl>
                  </p:cond>
                </p:stCondLst>
                <p:childTnLst>
                  <p:par>
                    <p:cTn id="713" fill="hold">
                      <p:stCondLst>
                        <p:cond evt="onClick">
                          <p:tgtEl>
                            <p:spTgt spid="209"/>
                          </p:tgtEl>
                        </p:cond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j0074852.wav"/>
                                        </p:tgtEl>
                                      </p:cMediaNode>
                                    </p:audio>
                                    <p:animMotion origin="layout" path="M -0.32951 -0.43703 C -0.34409 -0.39837 -0.33767 -0.29166 -0.33784 -0.28587 C -0.33611 -0.23587 -0.33524 -0.18981 -0.32621 -0.14143 C -0.32517 -0.13564 -0.32152 -0.13124 -0.31944 -0.12592 C -0.31198 -0.1074 -0.3059 -0.08865 -0.29791 -0.07036 C -0.28906 -0.04999 -0.27621 -0.02036 -0.25781 -0.01273 C -0.24965 -0.00439 -0.23941 -0.00069 -0.23125 0.00741 C -0.22899 0.00973 -0.22708 0.01251 -0.22448 0.01413 C -0.22239 0.01551 -0.22013 0.01528 -0.21788 0.01621 C -0.21614 0.0169 -0.21441 0.01737 -0.21284 0.01852 C -0.19722 0.02894 -0.22309 0.01598 -0.19791 0.02732 C -0.19618 0.02801 -0.19288 0.02964 -0.19288 0.02964 C -0.17569 0.02894 -0.15833 0.02871 -0.14114 0.02732 C -0.13125 0.02663 -0.12378 0.02107 -0.11284 0.02061 C -0.08576 0.01945 -0.0585 0.01922 -0.03125 0.01852 C -0.01024 0.01436 0.01094 0.01251 0.03212 0.0095 C 0.03837 0.00764 0.04445 0.00579 0.05052 0.00301 C 0.05382 0.00163 0.06042 -0.00161 0.06042 -0.00161 C 0.06285 -0.00462 0.06563 -0.01273 0.06875 -0.01273 E">
                                      <p:cBhvr>
                                        <p:cTn id="716" dur="2000" fill="hold"/>
                                        <p:tgtEl>
                                          <p:spTgt spid="1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7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71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9" restart="whenNotActive" nodeType="interactiveSeq" fill="hold">
                <p:stCondLst>
                  <p:cond evt="onClick">
                    <p:tgtEl>
                      <p:spTgt spid="210"/>
                    </p:tgtEl>
                  </p:cond>
                </p:stCondLst>
                <p:childTnLst>
                  <p:par>
                    <p:cTn id="720" fill="hold">
                      <p:stCondLst>
                        <p:cond evt="onClick">
                          <p:tgtEl>
                            <p:spTgt spid="210"/>
                          </p:tgtEl>
                        </p:cond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j0074852.wav"/>
                                        </p:tgtEl>
                                      </p:cMediaNode>
                                    </p:audio>
                                    <p:animMotion origin="layout" path="M -0.3783 -0.5581 C -0.37534 -0.49028 -0.37812 -0.42222 -0.375 -0.3544 C -0.37465 -0.34792 -0.36961 -0.34306 -0.3684 -0.33681 C -0.36527 -0.32083 -0.36059 -0.30671 -0.35503 -0.2919 C -0.35208 -0.2838 -0.35121 -0.27315 -0.34826 -0.26482 C -0.3408 -0.24491 -0.34357 -0.25833 -0.33663 -0.24259 C -0.32413 -0.21343 -0.30573 -0.17222 -0.28333 -0.15532 C -0.26076 -0.13843 -0.2875 -0.16204 -0.26857 -0.14653 C -0.25416 -0.13495 -0.26354 -0.13958 -0.2533 -0.13519 C -0.24392 -0.12662 -0.25034 -0.13148 -0.2335 -0.12407 C -0.19722 -0.10833 -0.15104 -0.06713 -0.10833 -0.05232 C -0.10086 -0.04583 -0.09305 -0.04653 -0.08524 -0.0412 C -0.075 -0.03403 -0.06319 -0.02847 -0.05173 -0.02546 C -0.03645 -0.01551 -0.01857 -0.01921 -0.00173 -0.01667 C 0.01407 -0.01134 0.03039 -0.00926 0.0467 -0.00764 C 0.05209 -0.00509 0.05 -0.00556 0.05313 -0.00556 E">
                                      <p:cBhvr>
                                        <p:cTn id="723" dur="2000" fill="hold"/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24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72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13" name=""/>
            <p:cNvSpPr/>
            <p:nvPr/>
          </p:nvSpPr>
          <p:spPr>
            <a:xfrm>
              <a:off x="0" y="0"/>
              <a:ext cx="9144000" cy="6858000"/>
            </a:xfrm>
            <a:prstGeom prst="roundRect">
              <a:avLst>
                <a:gd name="adj" fmla="val 33449"/>
              </a:avLst>
            </a:prstGeom>
            <a:solidFill>
              <a:srgbClr val="c0c0c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81080" y="1676520"/>
              <a:ext cx="4876920" cy="3352680"/>
            </a:xfrm>
            <a:prstGeom prst="roundRect">
              <a:avLst>
                <a:gd name="adj" fmla="val 33449"/>
              </a:avLst>
            </a:prstGeom>
            <a:gradFill rotWithShape="0">
              <a:gsLst>
                <a:gs pos="0">
                  <a:srgbClr val="008000"/>
                </a:gs>
                <a:gs pos="50000">
                  <a:srgbClr val="009900"/>
                </a:gs>
                <a:gs pos="100000">
                  <a:srgbClr val="008000"/>
                </a:gs>
              </a:gsLst>
              <a:lin ang="135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990720" y="762120"/>
              <a:ext cx="6781680" cy="5105160"/>
            </a:xfrm>
            <a:prstGeom prst="roundRect">
              <a:avLst>
                <a:gd name="adj" fmla="val 33449"/>
              </a:avLst>
            </a:prstGeom>
            <a:noFill/>
            <a:ln w="572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4343400" y="502920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3286080" y="5011560"/>
            <a:ext cx="914400" cy="39852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3286080" y="5475240"/>
            <a:ext cx="914400" cy="39204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3"/>
          <a:stretch/>
        </p:blipFill>
        <p:spPr>
          <a:xfrm>
            <a:off x="3276720" y="5992920"/>
            <a:ext cx="923760" cy="40788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4"/>
          <a:stretch/>
        </p:blipFill>
        <p:spPr>
          <a:xfrm>
            <a:off x="3286080" y="6470640"/>
            <a:ext cx="914400" cy="38736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3200400" y="5105520"/>
            <a:ext cx="990720" cy="30456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276720" y="5562720"/>
            <a:ext cx="990360" cy="30456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276720" y="6019920"/>
            <a:ext cx="990360" cy="3808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276720" y="6553080"/>
            <a:ext cx="990360" cy="30492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010280" y="2971800"/>
            <a:ext cx="53352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772400" y="2971800"/>
            <a:ext cx="53352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620120" y="3733920"/>
            <a:ext cx="53316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381880" y="2743200"/>
            <a:ext cx="53352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114800" y="457200"/>
            <a:ext cx="609480" cy="3808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267080" y="1143000"/>
            <a:ext cx="609840" cy="3808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343400" y="0"/>
            <a:ext cx="609480" cy="3808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191120" y="838080"/>
            <a:ext cx="609480" cy="30492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523880" y="3048120"/>
            <a:ext cx="60984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990720" y="2819520"/>
            <a:ext cx="60948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80880" y="2819520"/>
            <a:ext cx="60984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0" y="2438280"/>
            <a:ext cx="609480" cy="60984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200400" y="4343400"/>
            <a:ext cx="24098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Next Lap!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726" dur="indefinite" restart="never" nodeType="tmRoot">
          <p:childTnLst>
            <p:seq>
              <p:cTn id="727" restart="whenNotActive" nodeType="interactiveSeq" fill="hold">
                <p:stCondLst>
                  <p:cond evt="onClick">
                    <p:tgtEl>
                      <p:spTgt spid="221"/>
                    </p:tgtEl>
                  </p:cond>
                </p:stCondLst>
                <p:childTnLst>
                  <p:par>
                    <p:cTn id="728" fill="hold">
                      <p:stCondLst>
                        <p:cond evt="onClick">
                          <p:tgtEl>
                            <p:spTgt spid="221"/>
                          </p:tgtEl>
                        </p:cond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j0074852.wav"/>
                                        </p:tgtEl>
                                      </p:cMediaNode>
                                    </p:audio>
                                    <p:animMotion origin="layout" path="M 0.0573 -0.00046 C 0.11181 -0.00162 0.33004 0.03403 0.3849 -0.00764 C 0.43976 -0.0493 0.3856 -0.20694 0.38664 -0.25 C 0.38768 -0.29305 0.38959 -0.2794 0.39167 -0.26551 E">
                                      <p:cBhvr>
                                        <p:cTn id="731" dur="2000" fill="hold"/>
                                        <p:tgtEl>
                                          <p:spTgt spid="2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32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5400000">
                                      <p:cBhvr>
                                        <p:cTn id="73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4" restart="whenNotActive" nodeType="interactiveSeq" fill="hold">
                <p:stCondLst>
                  <p:cond evt="onClick">
                    <p:tgtEl>
                      <p:spTgt spid="222"/>
                    </p:tgtEl>
                  </p:cond>
                </p:stCondLst>
                <p:childTnLst>
                  <p:par>
                    <p:cTn id="735" fill="hold">
                      <p:stCondLst>
                        <p:cond evt="onClick">
                          <p:tgtEl>
                            <p:spTgt spid="222"/>
                          </p:tgtEl>
                        </p:cond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j0074852.wav"/>
                                        </p:tgtEl>
                                      </p:cMediaNode>
                                    </p:audio>
                                    <p:animMotion origin="layout" path="M 0.05504 0.00116 C 0.10973 0.00046 0.17049 0.02824 0.21927 -0.00856 C 0.22466 -0.0125 0.22691 -0.01782 0.23264 -0.02106 C 0.23941 -0.03055 0.24723 -0.03912 0.25625 -0.04329 C 0.26407 -0.05139 0.2698 -0.05463 0.27795 -0.06088 C 0.28507 -0.06597 0.29028 -0.07616 0.29636 -0.0831 C 0.29948 -0.0868 0.30365 -0.08866 0.30643 -0.09305 C 0.31198 -0.10116 0.31389 -0.10926 0.32153 -0.11296 C 0.32969 -0.13148 0.34289 -0.14768 0.35504 -0.16018 C 0.35938 -0.16458 0.36407 -0.16852 0.36858 -0.17268 C 0.37275 -0.17662 0.38195 -0.18241 0.38195 -0.18217 C 0.38976 -0.19421 0.38507 -0.18819 0.39705 -0.19977 C 0.39879 -0.20139 0.40035 -0.20324 0.40209 -0.20486 C 0.40382 -0.20648 0.40712 -0.20995 0.40712 -0.20972 C 0.41164 -0.22014 0.4191 -0.22477 0.42552 -0.23217 C 0.43594 -0.24467 0.44618 -0.25856 0.45747 -0.26944 C 0.475 -0.30903 0.47084 -0.31041 0.47084 -0.37129 E">
                                      <p:cBhvr>
                                        <p:cTn id="738" dur="2000" fill="hold"/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39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5400000">
                                      <p:cBhvr>
                                        <p:cTn id="74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1" restart="whenNotActive" nodeType="interactiveSeq" fill="hold">
                <p:stCondLst>
                  <p:cond evt="onClick">
                    <p:tgtEl>
                      <p:spTgt spid="223"/>
                    </p:tgtEl>
                  </p:cond>
                </p:stCondLst>
                <p:childTnLst>
                  <p:par>
                    <p:cTn id="742" fill="hold">
                      <p:stCondLst>
                        <p:cond evt="onClick">
                          <p:tgtEl>
                            <p:spTgt spid="223"/>
                          </p:tgtEl>
                        </p:cond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j0074852.wav"/>
                                        </p:tgtEl>
                                      </p:cMediaNode>
                                    </p:audio>
                                    <p:animMotion origin="layout" path="M 0.06858 -0.01366 C 0.13681 -0.01481 0.20712 -0.0162 0.27553 -0.02338 C 0.2816 -0.02546 0.28785 -0.02592 0.29393 -0.02801 C 0.30521 -0.03217 0.31598 -0.04097 0.32726 -0.0456 C 0.33421 -0.05231 0.34237 -0.06018 0.35053 -0.06342 C 0.36459 -0.07569 0.38091 -0.08379 0.39549 -0.09467 C 0.41407 -0.10833 0.43125 -0.12523 0.44879 -0.1412 C 0.45469 -0.15254 0.46146 -0.16296 0.46719 -0.17453 C 0.4724 -0.18518 0.47309 -0.20231 0.47553 -0.21458 C 0.475 -0.2331 0.47518 -0.25162 0.47379 -0.27014 C 0.47292 -0.28217 0.4625 -0.30486 0.45556 -0.31227 C 0.43507 -0.33379 0.46407 -0.29653 0.44723 -0.31898 E">
                                      <p:cBhvr>
                                        <p:cTn id="745" dur="200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46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5400000">
                                      <p:cBhvr>
                                        <p:cTn id="74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8" restart="whenNotActive" nodeType="interactiveSeq" fill="hold">
                <p:stCondLst>
                  <p:cond evt="onClick">
                    <p:tgtEl>
                      <p:spTgt spid="224"/>
                    </p:tgtEl>
                  </p:cond>
                </p:stCondLst>
                <p:childTnLst>
                  <p:par>
                    <p:cTn id="749" fill="hold">
                      <p:stCondLst>
                        <p:cond evt="onClick">
                          <p:tgtEl>
                            <p:spTgt spid="224"/>
                          </p:tgtEl>
                        </p:cond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j0074852.wav"/>
                                        </p:tgtEl>
                                      </p:cMediaNode>
                                    </p:audio>
                                    <p:animMotion origin="layout" path="M 0.05417 -0.00509 C 0.06007 -0.00394 0.07709 -0.00162 0.09028 -0.00046 C 0.10348 0.00069 0.11563 0.00231 0.13334 0.00162 C 0.16511 -0.00324 0.1408 0.00023 0.19671 -0.00509 C 0.20452 -0.00579 0.21997 -0.00741 0.21997 -0.00718 C 0.24271 -0.01204 0.26563 -0.01204 0.28837 -0.0162 C 0.304 -0.01921 0.28941 -0.01736 0.30504 -0.02292 C 0.31719 -0.02732 0.33091 -0.02778 0.34341 -0.02963 C 0.35296 -0.03264 0.36025 -0.03843 0.36997 -0.04074 C 0.38091 -0.04792 0.39323 -0.05347 0.40504 -0.05833 C 0.41233 -0.06505 0.41962 -0.07153 0.42674 -0.07847 C 0.4408 -0.09236 0.43126 -0.0875 0.44167 -0.09167 C 0.44966 -0.10278 0.43907 -0.08912 0.45174 -0.1007 C 0.45834 -0.10671 0.46823 -0.12153 0.47674 -0.125 C 0.47969 -0.1375 0.48941 -0.14421 0.49671 -0.15185 C 0.50382 -0.15926 0.50712 -0.17014 0.51337 -0.17847 C 0.51771 -0.19722 0.51146 -0.17431 0.51841 -0.18958 C 0.52101 -0.19514 0.52275 -0.20139 0.52501 -0.20741 C 0.52674 -0.21204 0.5316 -0.2206 0.5316 -0.22037 C 0.55608 -0.34745 0.53994 -0.20093 0.53994 -0.54282 E">
                                      <p:cBhvr>
                                        <p:cTn id="752" dur="2000" fill="hold"/>
                                        <p:tgtEl>
                                          <p:spTgt spid="2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3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5400000">
                                      <p:cBhvr>
                                        <p:cTn id="75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5" restart="whenNotActive" nodeType="interactiveSeq" fill="hold">
                <p:stCondLst>
                  <p:cond evt="onClick">
                    <p:tgtEl>
                      <p:spTgt spid="225"/>
                    </p:tgtEl>
                  </p:cond>
                </p:stCondLst>
                <p:childTnLst>
                  <p:par>
                    <p:cTn id="756" fill="hold">
                      <p:stCondLst>
                        <p:cond evt="onClick">
                          <p:tgtEl>
                            <p:spTgt spid="225"/>
                          </p:tgtEl>
                        </p:cond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j0074852.wav"/>
                                        </p:tgtEl>
                                      </p:cMediaNode>
                                    </p:audio>
                                    <p:animMotion origin="layout" path="M 0.39167 -0.29305 C 0.39237 -0.33657 0.38664 -0.38889 0.39844 -0.43287 C 0.39757 -0.46366 0.40296 -0.48241 0.39167 -0.50416 C 0.38837 -0.51991 0.38403 -0.52893 0.37848 -0.54398 C 0.37674 -0.54838 0.37119 -0.54907 0.36841 -0.55069 C 0.35886 -0.55602 0.35105 -0.56805 0.34011 -0.56852 C 0.30296 -0.56991 0.26563 -0.57014 0.22848 -0.57083 C 0.22032 -0.57291 0.21719 -0.575 0.21007 -0.57963 C 0.20573 -0.58241 0.20087 -0.58333 0.19671 -0.58634 C 0.18976 -0.59143 0.18403 -0.59768 0.17674 -0.60185 C 0.17466 -0.60301 0.16546 -0.60555 0.16337 -0.60625 C 0.15313 -0.61018 0.1474 -0.61319 0.13681 -0.61528 C 0.12744 -0.62338 0.11563 -0.62592 0.10504 -0.63078 C 0.10278 -0.6331 0.10035 -0.63495 0.09844 -0.6375 C 0.09705 -0.63935 0.09671 -0.64236 0.09513 -0.64398 C 0.09376 -0.64537 0.09323 -0.6493 0.09167 -0.65046 C 0.0882 -0.65301 0.08525 -0.65486 0.08195 -0.65787 C 0.08039 -0.65926 0.08264 -0.65509 0.07501 -0.65717 E">
                                      <p:cBhvr>
                                        <p:cTn id="759" dur="2000" fill="hold"/>
                                        <p:tgtEl>
                                          <p:spTgt spid="2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60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76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2" restart="whenNotActive" nodeType="interactiveSeq" fill="hold">
                <p:stCondLst>
                  <p:cond evt="onClick">
                    <p:tgtEl>
                      <p:spTgt spid="226"/>
                    </p:tgtEl>
                  </p:cond>
                </p:stCondLst>
                <p:childTnLst>
                  <p:par>
                    <p:cTn id="763" fill="hold">
                      <p:stCondLst>
                        <p:cond evt="onClick">
                          <p:tgtEl>
                            <p:spTgt spid="226"/>
                          </p:tgtEl>
                        </p:cond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j0074852.wav"/>
                                        </p:tgtEl>
                                      </p:cMediaNode>
                                    </p:audio>
                                    <p:animMotion origin="layout" path="M 0.47084 -0.37129 C 0.4724 -0.44166 0.48525 -0.53009 0.45417 -0.59352 C 0.45139 -0.60972 0.45469 -0.5956 0.44914 -0.60903 C 0.43716 -0.63842 0.43004 -0.65833 0.40417 -0.66898 C 0.39827 -0.67731 0.404 -0.67106 0.39428 -0.67569 C 0.38317 -0.68102 0.38577 -0.68403 0.37257 -0.6868 C 0.32639 -0.68518 0.32674 -0.68541 0.29584 -0.68009 C 0.27362 -0.66829 0.25157 -0.65648 0.22917 -0.64467 C 0.21806 -0.63889 0.20469 -0.6294 0.19254 -0.62916 C 0.15591 -0.62847 0.1191 -0.62916 0.08247 -0.62916 E">
                                      <p:cBhvr>
                                        <p:cTn id="766" dur="2000" fill="hold"/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67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76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9" restart="whenNotActive" nodeType="interactiveSeq" fill="hold">
                <p:stCondLst>
                  <p:cond evt="onClick">
                    <p:tgtEl>
                      <p:spTgt spid="227"/>
                    </p:tgtEl>
                  </p:cond>
                </p:stCondLst>
                <p:childTnLst>
                  <p:par>
                    <p:cTn id="770" fill="hold">
                      <p:stCondLst>
                        <p:cond evt="onClick">
                          <p:tgtEl>
                            <p:spTgt spid="227"/>
                          </p:tgtEl>
                        </p:cond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j0074852.wav"/>
                                        </p:tgtEl>
                                      </p:cMediaNode>
                                    </p:audio>
                                    <p:animMotion origin="layout" path="M 0.44723 -0.31898 C 0.44132 -0.32685 0.44427 -0.32152 0.44046 -0.3368 C 0.43941 -0.3412 0.43716 -0.35023 0.43716 -0.35023 C 0.43872 -0.39004 0.43455 -0.41157 0.46216 -0.43032 C 0.46823 -0.43865 0.47743 -0.44027 0.48386 -0.44791 C 0.49671 -0.46342 0.50521 -0.47939 0.51042 -0.50138 C 0.51302 -0.52731 0.51719 -0.55231 0.50209 -0.57245 C 0.50157 -0.57546 0.50191 -0.57916 0.50052 -0.58125 C 0.49983 -0.58263 0.48907 -0.58564 0.48889 -0.58564 C 0.47639 -0.59027 0.46771 -0.59097 0.45382 -0.59236 C 0.43855 -0.59583 0.43629 -0.60254 0.42379 -0.6125 C 0.42275 -0.61551 0.42223 -0.61898 0.42049 -0.62129 C 0.41927 -0.62291 0.41667 -0.62199 0.41546 -0.62361 C 0.41372 -0.62592 0.41355 -0.62963 0.41216 -0.6324 C 0.40921 -0.63796 0.40625 -0.64004 0.40209 -0.64351 C 0.39948 -0.64884 0.39618 -0.65347 0.39375 -0.65902 C 0.39289 -0.66111 0.39289 -0.66365 0.39219 -0.66574 C 0.38941 -0.67338 0.38559 -0.68101 0.38212 -0.68796 C 0.37709 -0.70995 0.37171 -0.73611 0.35886 -0.75231 C 0.35504 -0.76713 0.36007 -0.74976 0.35209 -0.76805 C 0.34966 -0.77361 0.34896 -0.78125 0.34549 -0.78564 C 0.33629 -0.79791 0.32691 -0.81481 0.31389 -0.81898 C 0.31059 -0.82199 0.30764 -0.82638 0.30382 -0.82801 C 0.29792 -0.83055 0.2908 -0.83287 0.28542 -0.8368 C 0.2783 -0.84213 0.27014 -0.85138 0.26216 -0.85463 C 0.24584 -0.86134 0.22743 -0.86319 0.21042 -0.86574 C 0.19514 -0.87106 0.21355 -0.86527 0.18542 -0.87013 C 0.17396 -0.87222 0.16181 -0.87685 0.15052 -0.87916 C 0.13021 -0.8831 0.10938 -0.87916 0.08889 -0.87916 E">
                                      <p:cBhvr>
                                        <p:cTn id="773" dur="200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74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77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6" restart="whenNotActive" nodeType="interactiveSeq" fill="hold">
                <p:stCondLst>
                  <p:cond evt="onClick">
                    <p:tgtEl>
                      <p:spTgt spid="228"/>
                    </p:tgtEl>
                  </p:cond>
                </p:stCondLst>
                <p:childTnLst>
                  <p:par>
                    <p:cTn id="777" fill="hold">
                      <p:stCondLst>
                        <p:cond evt="onClick">
                          <p:tgtEl>
                            <p:spTgt spid="228"/>
                          </p:tgtEl>
                        </p:cond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j0074852.wav"/>
                                        </p:tgtEl>
                                      </p:cMediaNode>
                                    </p:audio>
                                    <p:animMotion origin="layout" path="M 0.53993 -0.54283 C 0.53924 -0.58334 0.54323 -0.64908 0.52483 -0.68959 C 0.52274 -0.71065 0.51754 -0.72986 0.51163 -0.74954 C 0.50816 -0.76088 0.50642 -0.77431 0.50156 -0.78496 C 0.49965 -0.78889 0.49688 -0.79213 0.49497 -0.79607 C 0.49149 -0.81389 0.49636 -0.79699 0.48663 -0.81181 C 0.47674 -0.82709 0.49063 -0.81574 0.47656 -0.825 C 0.47153 -0.83426 0.46684 -0.8463 0.4599 -0.85394 C 0.45295 -0.86158 0.45712 -0.85556 0.44983 -0.86065 C 0.4467 -0.86274 0.44479 -0.86783 0.44149 -0.86945 C 0.43663 -0.87199 0.42708 -0.87431 0.42153 -0.87616 C 0.41823 -0.87709 0.41493 -0.87778 0.41163 -0.87848 C 0.40434 -0.8801 0.38993 -0.88287 0.38993 -0.88287 C 0.37986 -0.88704 0.37031 -0.88982 0.3599 -0.89167 C 0.33767 -0.90186 0.30799 -0.90486 0.2849 -0.90718 C 0.26997 -0.90649 0.25486 -0.90672 0.23993 -0.9051 C 0.23038 -0.90394 0.22118 -0.89977 0.21163 -0.89838 C 0.19948 -0.89306 0.20504 -0.89514 0.19497 -0.89167 C 0.18507 -0.88311 0.18281 -0.88125 0.17153 -0.87848 C 0.16597 -0.87454 0.16024 -0.87315 0.15486 -0.86945 C 0.1434 -0.86181 0.1559 -0.8676 0.14497 -0.86274 C 0.13993 -0.86042 0.12986 -0.85625 0.12986 -0.85625 C 0.12396 -0.84792 0.12969 -0.85417 0.11997 -0.84954 C 0.10243 -0.84098 0.09219 -0.83403 0.07326 -0.83403 E">
                                      <p:cBhvr>
                                        <p:cTn id="780" dur="2000" fill="hold"/>
                                        <p:tgtEl>
                                          <p:spTgt spid="2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81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78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3" restart="whenNotActive" nodeType="interactiveSeq" fill="hold">
                <p:stCondLst>
                  <p:cond evt="onClick">
                    <p:tgtEl>
                      <p:spTgt spid="229"/>
                    </p:tgtEl>
                  </p:cond>
                </p:stCondLst>
                <p:childTnLst>
                  <p:par>
                    <p:cTn id="784" fill="hold">
                      <p:stCondLst>
                        <p:cond evt="onClick">
                          <p:tgtEl>
                            <p:spTgt spid="229"/>
                          </p:tgtEl>
                        </p:cond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j0074852.wav"/>
                                        </p:tgtEl>
                                      </p:cMediaNode>
                                    </p:audio>
                                    <p:animMotion origin="layout" path="M 0.07396 -0.65879 C 0.04757 -0.65463 0.05521 -0.66666 0.00452 -0.66991 C -0.01822 -0.67315 -0.04045 -0.66018 -0.06371 -0.6618 C -0.12674 -0.66088 -0.19289 -0.68009 -0.2533 -0.65509 C -0.25365 -0.65463 -0.26216 -0.64653 -0.26337 -0.64398 C -0.27084 -0.62731 -0.27657 -0.60856 -0.2816 -0.59051 C -0.28299 -0.58541 -0.28386 -0.58009 -0.2849 -0.575 C -0.28612 -0.56898 -0.28837 -0.55717 -0.28837 -0.55694 C -0.2908 -0.52384 -0.29428 -0.48842 -0.28004 -0.45949 C -0.27761 -0.44676 -0.27257 -0.44004 -0.26667 -0.43055 C -0.26546 -0.42847 -0.26424 -0.42616 -0.26337 -0.42384 C -0.26268 -0.42176 -0.26268 -0.41921 -0.26164 -0.41736 C -0.25747 -0.41041 -0.25278 -0.40393 -0.24827 -0.39722 C -0.2441 -0.39097 -0.23941 -0.38541 -0.2349 -0.3794 C -0.23334 -0.37731 -0.23004 -0.37291 -0.23004 -0.37268 C -0.2283 -0.3662 -0.22726 -0.35926 -0.225 -0.35278 C -0.22414 -0.35046 -0.22257 -0.34861 -0.22171 -0.34606 C -0.22032 -0.3419 -0.21823 -0.33287 -0.21823 -0.33264 C -0.21771 -0.32778 -0.21737 -0.32245 -0.21667 -0.31736 C -0.21546 -0.30856 -0.2099 -0.2993 -0.2099 -0.29051 C -0.2099 -0.28171 -0.2099 -0.27268 -0.2099 -0.26389 E">
                                      <p:cBhvr>
                                        <p:cTn id="787" dur="2000" fill="hold"/>
                                        <p:tgtEl>
                                          <p:spTgt spid="2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88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78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0" restart="whenNotActive" nodeType="interactiveSeq" fill="hold">
                <p:stCondLst>
                  <p:cond evt="onClick">
                    <p:tgtEl>
                      <p:spTgt spid="230"/>
                    </p:tgtEl>
                  </p:cond>
                </p:stCondLst>
                <p:childTnLst>
                  <p:par>
                    <p:cTn id="791" fill="hold">
                      <p:stCondLst>
                        <p:cond evt="onClick">
                          <p:tgtEl>
                            <p:spTgt spid="230"/>
                          </p:tgtEl>
                        </p:cond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j0074852.wav"/>
                                        </p:tgtEl>
                                      </p:cMediaNode>
                                    </p:audio>
                                    <p:animMotion origin="layout" path="M 0.08247 -0.62917 C 0.07587 -0.62986 0.0691 -0.62986 0.06251 -0.63148 C 0.05678 -0.63287 0.05018 -0.63843 0.04428 -0.64028 C 0.03594 -0.65093 0.02674 -0.65139 0.01754 -0.6581 C 0.00139 -0.66991 0.01407 -0.66505 -0.00086 -0.66921 C -0.00815 -0.6757 -0.01562 -0.67801 -0.02413 -0.68033 C -0.03229 -0.68588 -0.0401 -0.69121 -0.04913 -0.69375 C -0.05885 -0.70023 -0.06874 -0.70301 -0.07916 -0.70695 C -0.08836 -0.71042 -0.0802 -0.70764 -0.08906 -0.71366 C -0.09392 -0.7169 -0.10034 -0.71829 -0.10572 -0.72037 C -0.12847 -0.72894 -0.1526 -0.73125 -0.17586 -0.73588 C -0.21041 -0.74283 -0.24427 -0.75185 -0.27916 -0.75579 C -0.28854 -0.75509 -0.29808 -0.75556 -0.30746 -0.75371 C -0.31545 -0.75208 -0.31909 -0.7382 -0.32413 -0.73148 C -0.32552 -0.72963 -0.3276 -0.72871 -0.32916 -0.72708 C -0.33038 -0.7257 -0.33142 -0.72408 -0.33246 -0.72246 C -0.33454 -0.71435 -0.33732 -0.70741 -0.34079 -0.70023 C -0.34357 -0.68634 -0.34583 -0.67222 -0.34739 -0.6581 C -0.346 -0.64306 -0.34548 -0.6375 -0.34079 -0.62477 C -0.3394 -0.61111 -0.33749 -0.59583 -0.3342 -0.58264 C -0.33124 -0.5706 -0.32499 -0.5625 -0.32083 -0.55139 C -0.31527 -0.53658 -0.3092 -0.52315 -0.30243 -0.50926 C -0.29895 -0.50232 -0.29288 -0.5 -0.28906 -0.49375 C -0.28437 -0.48611 -0.28194 -0.47708 -0.27743 -0.46921 C -0.27552 -0.46134 -0.27361 -0.45046 -0.27083 -0.44259 C -0.26909 -0.43773 -0.26597 -0.43496 -0.26579 -0.42917 C -0.26527 -0.40625 -0.26579 -0.38333 -0.26579 -0.36042 E">
                                      <p:cBhvr>
                                        <p:cTn id="794" dur="2000" fill="hold"/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5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79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7" restart="whenNotActive" nodeType="interactiveSeq" fill="hold">
                <p:stCondLst>
                  <p:cond evt="onClick">
                    <p:tgtEl>
                      <p:spTgt spid="231"/>
                    </p:tgtEl>
                  </p:cond>
                </p:stCondLst>
                <p:childTnLst>
                  <p:par>
                    <p:cTn id="798" fill="hold">
                      <p:stCondLst>
                        <p:cond evt="onClick">
                          <p:tgtEl>
                            <p:spTgt spid="231"/>
                          </p:tgtEl>
                        </p:cond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j0074852.wav"/>
                                        </p:tgtEl>
                                      </p:cMediaNode>
                                    </p:audio>
                                    <p:animMotion origin="layout" path="M 0.08889 -0.87917 C 0.0198 -0.87801 -0.03698 -0.88195 -0.10121 -0.87037 C -0.10312 -0.86968 -0.10468 -0.86921 -0.10625 -0.86806 C -0.10798 -0.8669 -0.10954 -0.86482 -0.11111 -0.86366 C -0.11441 -0.86181 -0.12118 -0.85926 -0.12118 -0.85926 C -0.1276 -0.85023 -0.14392 -0.84236 -0.15277 -0.83912 C -0.15816 -0.83449 -0.16441 -0.83148 -0.16944 -0.82593 C -0.18281 -0.81134 -0.19652 -0.79653 -0.20954 -0.78148 C -0.21666 -0.77315 -0.22187 -0.76158 -0.22951 -0.75463 C -0.23767 -0.73287 -0.22569 -0.76227 -0.24288 -0.73241 C -0.24739 -0.72454 -0.25104 -0.71713 -0.25625 -0.71019 C -0.25972 -0.69607 -0.25486 -0.70995 -0.26284 -0.70139 C -0.26441 -0.69977 -0.26475 -0.69653 -0.26614 -0.69468 C -0.26927 -0.69051 -0.27309 -0.68773 -0.27621 -0.68357 C -0.27882 -0.67269 -0.2809 -0.66713 -0.28611 -0.65695 C -0.28732 -0.65463 -0.28958 -0.65023 -0.28958 -0.65023 C -0.29149 -0.6419 -0.29427 -0.63519 -0.29791 -0.62801 C -0.29965 -0.6206 -0.3026 -0.61528 -0.30451 -0.6081 C -0.30555 -0.58773 -0.3059 -0.56366 -0.31111 -0.54352 C -0.31232 -0.53912 -0.31354 -0.53472 -0.31458 -0.53033 C -0.31562 -0.52593 -0.31788 -0.5169 -0.31788 -0.5169 C -0.31909 -0.5037 -0.31805 -0.49699 -0.32448 -0.48796 C -0.3302 -0.46644 -0.32951 -0.4632 -0.32951 -0.43704 E">
                                      <p:cBhvr>
                                        <p:cTn id="801" dur="200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02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80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4" restart="whenNotActive" nodeType="interactiveSeq" fill="hold">
                <p:stCondLst>
                  <p:cond evt="onClick">
                    <p:tgtEl>
                      <p:spTgt spid="232"/>
                    </p:tgtEl>
                  </p:cond>
                </p:stCondLst>
                <p:childTnLst>
                  <p:par>
                    <p:cTn id="805" fill="hold">
                      <p:stCondLst>
                        <p:cond evt="onClick">
                          <p:tgtEl>
                            <p:spTgt spid="232"/>
                          </p:tgtEl>
                        </p:cond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j0074852.wav"/>
                                        </p:tgtEl>
                                      </p:cMediaNode>
                                    </p:audio>
                                    <p:animMotion origin="layout" path="M 0.07292 -0.83472 C 0.05244 -0.83796 0.04879 -0.8537 0.0349 -0.85347 C -0.06736 -0.85208 -0.16945 -0.85208 -0.27171 -0.85139 C -0.28056 -0.84722 -0.28733 -0.84028 -0.29497 -0.83357 C -0.29983 -0.82917 -0.30157 -0.82245 -0.30678 -0.81806 C -0.30782 -0.81574 -0.30921 -0.81366 -0.31007 -0.81134 C -0.31077 -0.80926 -0.31077 -0.80671 -0.31164 -0.80463 C -0.3125 -0.80278 -0.31407 -0.80185 -0.31511 -0.80023 C -0.32014 -0.7919 -0.32639 -0.78079 -0.33004 -0.7713 C -0.33542 -0.75695 -0.33941 -0.74051 -0.34844 -0.72917 C -0.3507 -0.71945 -0.35487 -0.71134 -0.35834 -0.70255 C -0.36233 -0.69236 -0.36441 -0.68426 -0.37171 -0.67801 C -0.38073 -0.63218 -0.3783 -0.62407 -0.3783 -0.5581 E">
                                      <p:cBhvr>
                                        <p:cTn id="808" dur="2000" fill="hold"/>
                                        <p:tgtEl>
                                          <p:spTgt spid="2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09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81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1" restart="whenNotActive" nodeType="interactiveSeq" fill="hold">
                <p:stCondLst>
                  <p:cond evt="onClick">
                    <p:tgtEl>
                      <p:spTgt spid="233"/>
                    </p:tgtEl>
                  </p:cond>
                </p:stCondLst>
                <p:childTnLst>
                  <p:par>
                    <p:cTn id="812" fill="hold">
                      <p:stCondLst>
                        <p:cond evt="onClick">
                          <p:tgtEl>
                            <p:spTgt spid="233"/>
                          </p:tgtEl>
                        </p:cond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j0074852.wav"/>
                                        </p:tgtEl>
                                      </p:cMediaNode>
                                    </p:audio>
                                    <p:animMotion origin="layout" path="M -0.2099 -0.26389 C -0.20122 -0.2287 -0.21007 -0.26736 -0.20573 -0.17708 C -0.20539 -0.17037 -0.20226 -0.16389 -0.20139 -0.15717 C -0.19636 -0.11643 -0.1875 -0.0919 -0.16285 -0.05926 C -0.15244 -0.04583 -0.13803 -0.02893 -0.12188 -0.02384 C -0.11494 -0.01898 -0.10851 -0.01528 -0.10035 -0.01273 C -0.08732 -0.00347 -0.08124 -0.00208 -0.06631 0.00278 C -0.04236 0.00486 0.000869999999999999 -0.00046 0.02153 -0.00092 C 0.04219 -0.00139 0.04983 0.00023 0.0573 0.00047 E">
                                      <p:cBhvr>
                                        <p:cTn id="815" dur="2000" fill="hold"/>
                                        <p:tgtEl>
                                          <p:spTgt spid="2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16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81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8" restart="whenNotActive" nodeType="interactiveSeq" fill="hold">
                <p:stCondLst>
                  <p:cond evt="onClick">
                    <p:tgtEl>
                      <p:spTgt spid="234"/>
                    </p:tgtEl>
                  </p:cond>
                </p:stCondLst>
                <p:childTnLst>
                  <p:par>
                    <p:cTn id="819" fill="hold">
                      <p:stCondLst>
                        <p:cond evt="onClick">
                          <p:tgtEl>
                            <p:spTgt spid="234"/>
                          </p:tgtEl>
                        </p:cond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j0074852.wav"/>
                                        </p:tgtEl>
                                      </p:cMediaNode>
                                    </p:audio>
                                    <p:animMotion origin="layout" path="M -0.26579 -0.36041 C -0.26562 -0.34699 -0.28107 -0.2162 -0.25572 -0.16712 C -0.25381 -0.15902 -0.25034 -0.15254 -0.24739 -0.1449 C -0.246 -0.13449 -0.24479 -0.128 -0.23906 -0.12037 C -0.23663 -0.11018 -0.23263 -0.09976 -0.22586 -0.09374 C -0.21163 -0.06597 -0.19444 -0.04606 -0.17239 -0.02939 C -0.16562 -0.0243 -0.15781 -0.02268 -0.15086 -0.01828 C -0.14479 -0.01435 -0.13836 -0.01319 -0.13246 -0.00925 C -0.12152 -0.00185 -0.13402 -0.00694 -0.12083 -0.00277 C -0.0644 0.03588 -0.11666 0.00186 0.05417 0.00186 E">
                                      <p:cBhvr>
                                        <p:cTn id="822" dur="2000" fill="hold"/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23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82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5" restart="whenNotActive" nodeType="interactiveSeq" fill="hold">
                <p:stCondLst>
                  <p:cond evt="onClick">
                    <p:tgtEl>
                      <p:spTgt spid="235"/>
                    </p:tgtEl>
                  </p:cond>
                </p:stCondLst>
                <p:childTnLst>
                  <p:par>
                    <p:cTn id="826" fill="hold">
                      <p:stCondLst>
                        <p:cond evt="onClick">
                          <p:tgtEl>
                            <p:spTgt spid="235"/>
                          </p:tgtEl>
                        </p:cond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j0074852.wav"/>
                                        </p:tgtEl>
                                      </p:cMediaNode>
                                    </p:audio>
                                    <p:animMotion origin="layout" path="M -0.32951 -0.43703 C -0.34409 -0.39837 -0.33767 -0.29166 -0.33784 -0.28587 C -0.33611 -0.23587 -0.33524 -0.18981 -0.32621 -0.14143 C -0.32517 -0.13564 -0.32152 -0.13124 -0.31944 -0.12592 C -0.31198 -0.1074 -0.3059 -0.08865 -0.29791 -0.07036 C -0.28906 -0.04999 -0.27621 -0.02036 -0.25781 -0.01273 C -0.24965 -0.00439 -0.23941 -0.00069 -0.23125 0.00741 C -0.22899 0.00973 -0.22708 0.01251 -0.22448 0.01413 C -0.22239 0.01551 -0.22013 0.01528 -0.21788 0.01621 C -0.21614 0.0169 -0.21441 0.01737 -0.21284 0.01852 C -0.19722 0.02894 -0.22309 0.01598 -0.19791 0.02732 C -0.19618 0.02801 -0.19288 0.02964 -0.19288 0.02964 C -0.17569 0.02894 -0.15833 0.02871 -0.14114 0.02732 C -0.13125 0.02663 -0.12378 0.02107 -0.11284 0.02061 C -0.08576 0.01945 -0.0585 0.01922 -0.03125 0.01852 C -0.01024 0.01436 0.01094 0.01251 0.03212 0.0095 C 0.03837 0.00764 0.04445 0.00579 0.05052 0.00301 C 0.05382 0.00163 0.06042 -0.00161 0.06042 -0.00161 C 0.06285 -0.00462 0.06563 -0.01273 0.06875 -0.01273 E">
                                      <p:cBhvr>
                                        <p:cTn id="829" dur="200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30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83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2" restart="whenNotActive" nodeType="interactiveSeq" fill="hold">
                <p:stCondLst>
                  <p:cond evt="onClick">
                    <p:tgtEl>
                      <p:spTgt spid="236"/>
                    </p:tgtEl>
                  </p:cond>
                </p:stCondLst>
                <p:childTnLst>
                  <p:par>
                    <p:cTn id="833" fill="hold">
                      <p:stCondLst>
                        <p:cond evt="onClick">
                          <p:tgtEl>
                            <p:spTgt spid="236"/>
                          </p:tgtEl>
                        </p:cond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j0074852.wav"/>
                                        </p:tgtEl>
                                      </p:cMediaNode>
                                    </p:audio>
                                    <p:animMotion origin="layout" path="M -0.3783 -0.5581 C -0.37534 -0.49028 -0.37812 -0.42222 -0.375 -0.3544 C -0.37465 -0.34792 -0.36961 -0.34306 -0.3684 -0.33681 C -0.36527 -0.32083 -0.36059 -0.30671 -0.35503 -0.2919 C -0.35208 -0.2838 -0.35121 -0.27315 -0.34826 -0.26482 C -0.3408 -0.24491 -0.34357 -0.25833 -0.33663 -0.24259 C -0.32413 -0.21343 -0.30573 -0.17222 -0.28333 -0.15532 C -0.26076 -0.13843 -0.2875 -0.16204 -0.26857 -0.14653 C -0.25416 -0.13495 -0.26354 -0.13958 -0.2533 -0.13519 C -0.24392 -0.12662 -0.25034 -0.13148 -0.2335 -0.12407 C -0.19722 -0.10833 -0.15104 -0.06713 -0.10833 -0.05232 C -0.10086 -0.04583 -0.09305 -0.04653 -0.08524 -0.0412 C -0.075 -0.03403 -0.06319 -0.02847 -0.05173 -0.02546 C -0.03645 -0.01551 -0.01857 -0.01921 -0.00173 -0.01667 C 0.01407 -0.01134 0.03039 -0.00926 0.0467 -0.00764 C 0.05209 -0.00509 0.05 -0.00556 0.05313 -0.00556 E">
                                      <p:cBhvr>
                                        <p:cTn id="836" dur="2000" fill="hold"/>
                                        <p:tgtEl>
                                          <p:spTgt spid="2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37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83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39" name=""/>
            <p:cNvSpPr/>
            <p:nvPr/>
          </p:nvSpPr>
          <p:spPr>
            <a:xfrm>
              <a:off x="0" y="0"/>
              <a:ext cx="9144000" cy="6858000"/>
            </a:xfrm>
            <a:prstGeom prst="roundRect">
              <a:avLst>
                <a:gd name="adj" fmla="val 33449"/>
              </a:avLst>
            </a:prstGeom>
            <a:solidFill>
              <a:srgbClr val="c0c0c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981080" y="1676520"/>
              <a:ext cx="4876920" cy="3352680"/>
            </a:xfrm>
            <a:prstGeom prst="roundRect">
              <a:avLst>
                <a:gd name="adj" fmla="val 33449"/>
              </a:avLst>
            </a:prstGeom>
            <a:gradFill rotWithShape="0">
              <a:gsLst>
                <a:gs pos="0">
                  <a:srgbClr val="008000"/>
                </a:gs>
                <a:gs pos="50000">
                  <a:srgbClr val="009900"/>
                </a:gs>
                <a:gs pos="100000">
                  <a:srgbClr val="008000"/>
                </a:gs>
              </a:gsLst>
              <a:lin ang="135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990720" y="762120"/>
              <a:ext cx="6781680" cy="5105160"/>
            </a:xfrm>
            <a:prstGeom prst="roundRect">
              <a:avLst>
                <a:gd name="adj" fmla="val 33449"/>
              </a:avLst>
            </a:prstGeom>
            <a:noFill/>
            <a:ln w="572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4343400" y="502920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3286080" y="5011560"/>
            <a:ext cx="914400" cy="39852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3286080" y="5475240"/>
            <a:ext cx="914400" cy="39204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3276720" y="5992920"/>
            <a:ext cx="923760" cy="40788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4"/>
          <a:stretch/>
        </p:blipFill>
        <p:spPr>
          <a:xfrm>
            <a:off x="3286080" y="6470640"/>
            <a:ext cx="914400" cy="387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3200400" y="5105520"/>
            <a:ext cx="990720" cy="30456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276720" y="5562720"/>
            <a:ext cx="990360" cy="30456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276720" y="6019920"/>
            <a:ext cx="990360" cy="3808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276720" y="6553080"/>
            <a:ext cx="990360" cy="30492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010280" y="2971800"/>
            <a:ext cx="53352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772400" y="2971800"/>
            <a:ext cx="53352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620120" y="3733920"/>
            <a:ext cx="53316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8381880" y="2743200"/>
            <a:ext cx="53352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114800" y="457200"/>
            <a:ext cx="609480" cy="3808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267080" y="1143000"/>
            <a:ext cx="609840" cy="3808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343400" y="0"/>
            <a:ext cx="609480" cy="3808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191120" y="838080"/>
            <a:ext cx="609480" cy="30492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523880" y="3048120"/>
            <a:ext cx="60984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990720" y="2819520"/>
            <a:ext cx="60948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80880" y="2819520"/>
            <a:ext cx="609840" cy="60948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0" y="2438280"/>
            <a:ext cx="609480" cy="60984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56676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3200400" y="4343400"/>
            <a:ext cx="24098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Next Lap!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839" dur="indefinite" restart="never" nodeType="tmRoot">
          <p:childTnLst>
            <p:seq>
              <p:cTn id="840" restart="whenNotActive" nodeType="interactiveSeq" fill="hold">
                <p:stCondLst>
                  <p:cond evt="onClick">
                    <p:tgtEl>
                      <p:spTgt spid="247"/>
                    </p:tgtEl>
                  </p:cond>
                </p:stCondLst>
                <p:childTnLst>
                  <p:par>
                    <p:cTn id="841" fill="hold">
                      <p:stCondLst>
                        <p:cond evt="onClick">
                          <p:tgtEl>
                            <p:spTgt spid="247"/>
                          </p:tgtEl>
                        </p:cond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j0074852.wav"/>
                                        </p:tgtEl>
                                      </p:cMediaNode>
                                    </p:audio>
                                    <p:animMotion origin="layout" path="M 0.0573 -0.00046 C 0.11181 -0.00162 0.33004 0.03403 0.3849 -0.00764 C 0.43976 -0.0493 0.3856 -0.20694 0.38664 -0.25 C 0.38768 -0.29305 0.38959 -0.2794 0.39167 -0.26551 E">
                                      <p:cBhvr>
                                        <p:cTn id="844" dur="2000" fill="hold"/>
                                        <p:tgtEl>
                                          <p:spTgt spid="2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45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5400000">
                                      <p:cBhvr>
                                        <p:cTn id="84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7" restart="whenNotActive" nodeType="interactiveSeq" fill="hold">
                <p:stCondLst>
                  <p:cond evt="onClick">
                    <p:tgtEl>
                      <p:spTgt spid="248"/>
                    </p:tgtEl>
                  </p:cond>
                </p:stCondLst>
                <p:childTnLst>
                  <p:par>
                    <p:cTn id="848" fill="hold">
                      <p:stCondLst>
                        <p:cond evt="onClick">
                          <p:tgtEl>
                            <p:spTgt spid="248"/>
                          </p:tgtEl>
                        </p:cond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j0074852.wav"/>
                                        </p:tgtEl>
                                      </p:cMediaNode>
                                    </p:audio>
                                    <p:animMotion origin="layout" path="M 0.05504 0.00116 C 0.10973 0.00046 0.17049 0.02824 0.21927 -0.00856 C 0.22466 -0.0125 0.22691 -0.01782 0.23264 -0.02106 C 0.23941 -0.03055 0.24723 -0.03912 0.25625 -0.04329 C 0.26407 -0.05139 0.2698 -0.05463 0.27795 -0.06088 C 0.28507 -0.06597 0.29028 -0.07616 0.29636 -0.0831 C 0.29948 -0.0868 0.30365 -0.08866 0.30643 -0.09305 C 0.31198 -0.10116 0.31389 -0.10926 0.32153 -0.11296 C 0.32969 -0.13148 0.34289 -0.14768 0.35504 -0.16018 C 0.35938 -0.16458 0.36407 -0.16852 0.36858 -0.17268 C 0.37275 -0.17662 0.38195 -0.18241 0.38195 -0.18217 C 0.38976 -0.19421 0.38507 -0.18819 0.39705 -0.19977 C 0.39879 -0.20139 0.40035 -0.20324 0.40209 -0.20486 C 0.40382 -0.20648 0.40712 -0.20995 0.40712 -0.20972 C 0.41164 -0.22014 0.4191 -0.22477 0.42552 -0.23217 C 0.43594 -0.24467 0.44618 -0.25856 0.45747 -0.26944 C 0.475 -0.30903 0.47084 -0.31041 0.47084 -0.37129 E">
                                      <p:cBhvr>
                                        <p:cTn id="851" dur="2000" fill="hold"/>
                                        <p:tgtEl>
                                          <p:spTgt spid="2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2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5400000">
                                      <p:cBhvr>
                                        <p:cTn id="85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4" restart="whenNotActive" nodeType="interactiveSeq" fill="hold">
                <p:stCondLst>
                  <p:cond evt="onClick">
                    <p:tgtEl>
                      <p:spTgt spid="249"/>
                    </p:tgtEl>
                  </p:cond>
                </p:stCondLst>
                <p:childTnLst>
                  <p:par>
                    <p:cTn id="855" fill="hold">
                      <p:stCondLst>
                        <p:cond evt="onClick">
                          <p:tgtEl>
                            <p:spTgt spid="249"/>
                          </p:tgtEl>
                        </p:cond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j0074852.wav"/>
                                        </p:tgtEl>
                                      </p:cMediaNode>
                                    </p:audio>
                                    <p:animMotion origin="layout" path="M 0.06858 -0.01366 C 0.13681 -0.01481 0.20712 -0.0162 0.27553 -0.02338 C 0.2816 -0.02546 0.28785 -0.02592 0.29393 -0.02801 C 0.30521 -0.03217 0.31598 -0.04097 0.32726 -0.0456 C 0.33421 -0.05231 0.34237 -0.06018 0.35053 -0.06342 C 0.36459 -0.07569 0.38091 -0.08379 0.39549 -0.09467 C 0.41407 -0.10833 0.43125 -0.12523 0.44879 -0.1412 C 0.45469 -0.15254 0.46146 -0.16296 0.46719 -0.17453 C 0.4724 -0.18518 0.47309 -0.20231 0.47553 -0.21458 C 0.475 -0.2331 0.47518 -0.25162 0.47379 -0.27014 C 0.47292 -0.28217 0.4625 -0.30486 0.45556 -0.31227 C 0.43507 -0.33379 0.46407 -0.29653 0.44723 -0.31898 E">
                                      <p:cBhvr>
                                        <p:cTn id="858" dur="2000" fill="hold"/>
                                        <p:tgtEl>
                                          <p:spTgt spid="2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9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5400000">
                                      <p:cBhvr>
                                        <p:cTn id="86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1" restart="whenNotActive" nodeType="interactiveSeq" fill="hold">
                <p:stCondLst>
                  <p:cond evt="onClick">
                    <p:tgtEl>
                      <p:spTgt spid="250"/>
                    </p:tgtEl>
                  </p:cond>
                </p:stCondLst>
                <p:childTnLst>
                  <p:par>
                    <p:cTn id="862" fill="hold">
                      <p:stCondLst>
                        <p:cond evt="onClick">
                          <p:tgtEl>
                            <p:spTgt spid="250"/>
                          </p:tgtEl>
                        </p:cond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j0074852.wav"/>
                                        </p:tgtEl>
                                      </p:cMediaNode>
                                    </p:audio>
                                    <p:animMotion origin="layout" path="M 0.05417 -0.00509 C 0.06007 -0.00394 0.07709 -0.00162 0.09028 -0.00046 C 0.10348 0.00069 0.11563 0.00231 0.13334 0.00162 C 0.16511 -0.00324 0.1408 0.00023 0.19671 -0.00509 C 0.20452 -0.00579 0.21997 -0.00741 0.21997 -0.00718 C 0.24271 -0.01204 0.26563 -0.01204 0.28837 -0.0162 C 0.304 -0.01921 0.28941 -0.01736 0.30504 -0.02292 C 0.31719 -0.02732 0.33091 -0.02778 0.34341 -0.02963 C 0.35296 -0.03264 0.36025 -0.03843 0.36997 -0.04074 C 0.38091 -0.04792 0.39323 -0.05347 0.40504 -0.05833 C 0.41233 -0.06505 0.41962 -0.07153 0.42674 -0.07847 C 0.4408 -0.09236 0.43126 -0.0875 0.44167 -0.09167 C 0.44966 -0.10278 0.43907 -0.08912 0.45174 -0.1007 C 0.45834 -0.10671 0.46823 -0.12153 0.47674 -0.125 C 0.47969 -0.1375 0.48941 -0.14421 0.49671 -0.15185 C 0.50382 -0.15926 0.50712 -0.17014 0.51337 -0.17847 C 0.51771 -0.19722 0.51146 -0.17431 0.51841 -0.18958 C 0.52101 -0.19514 0.52275 -0.20139 0.52501 -0.20741 C 0.52674 -0.21204 0.5316 -0.2206 0.5316 -0.22037 C 0.55608 -0.34745 0.53994 -0.20093 0.53994 -0.54282 E">
                                      <p:cBhvr>
                                        <p:cTn id="865" dur="2000" fill="hold"/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66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5400000">
                                      <p:cBhvr>
                                        <p:cTn id="86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8" restart="whenNotActive" nodeType="interactiveSeq" fill="hold">
                <p:stCondLst>
                  <p:cond evt="onClick">
                    <p:tgtEl>
                      <p:spTgt spid="251"/>
                    </p:tgtEl>
                  </p:cond>
                </p:stCondLst>
                <p:childTnLst>
                  <p:par>
                    <p:cTn id="869" fill="hold">
                      <p:stCondLst>
                        <p:cond evt="onClick">
                          <p:tgtEl>
                            <p:spTgt spid="251"/>
                          </p:tgtEl>
                        </p:cond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j0074852.wav"/>
                                        </p:tgtEl>
                                      </p:cMediaNode>
                                    </p:audio>
                                    <p:animMotion origin="layout" path="M 0.39167 -0.29305 C 0.39237 -0.33657 0.38664 -0.38889 0.39844 -0.43287 C 0.39757 -0.46366 0.40296 -0.48241 0.39167 -0.50416 C 0.38837 -0.51991 0.38403 -0.52893 0.37848 -0.54398 C 0.37674 -0.54838 0.37119 -0.54907 0.36841 -0.55069 C 0.35886 -0.55602 0.35105 -0.56805 0.34011 -0.56852 C 0.30296 -0.56991 0.26563 -0.57014 0.22848 -0.57083 C 0.22032 -0.57291 0.21719 -0.575 0.21007 -0.57963 C 0.20573 -0.58241 0.20087 -0.58333 0.19671 -0.58634 C 0.18976 -0.59143 0.18403 -0.59768 0.17674 -0.60185 C 0.17466 -0.60301 0.16546 -0.60555 0.16337 -0.60625 C 0.15313 -0.61018 0.1474 -0.61319 0.13681 -0.61528 C 0.12744 -0.62338 0.11563 -0.62592 0.10504 -0.63078 C 0.10278 -0.6331 0.10035 -0.63495 0.09844 -0.6375 C 0.09705 -0.63935 0.09671 -0.64236 0.09513 -0.64398 C 0.09376 -0.64537 0.09323 -0.6493 0.09167 -0.65046 C 0.0882 -0.65301 0.08525 -0.65486 0.08195 -0.65787 C 0.08039 -0.65926 0.08264 -0.65509 0.07501 -0.65717 E">
                                      <p:cBhvr>
                                        <p:cTn id="872" dur="2000" fill="hold"/>
                                        <p:tgtEl>
                                          <p:spTgt spid="2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3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87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5" restart="whenNotActive" nodeType="interactiveSeq" fill="hold">
                <p:stCondLst>
                  <p:cond evt="onClick">
                    <p:tgtEl>
                      <p:spTgt spid="252"/>
                    </p:tgtEl>
                  </p:cond>
                </p:stCondLst>
                <p:childTnLst>
                  <p:par>
                    <p:cTn id="876" fill="hold">
                      <p:stCondLst>
                        <p:cond evt="onClick">
                          <p:tgtEl>
                            <p:spTgt spid="252"/>
                          </p:tgtEl>
                        </p:cond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j0074852.wav"/>
                                        </p:tgtEl>
                                      </p:cMediaNode>
                                    </p:audio>
                                    <p:animMotion origin="layout" path="M 0.47084 -0.37129 C 0.4724 -0.44166 0.48525 -0.53009 0.45417 -0.59352 C 0.45139 -0.60972 0.45469 -0.5956 0.44914 -0.60903 C 0.43716 -0.63842 0.43004 -0.65833 0.40417 -0.66898 C 0.39827 -0.67731 0.404 -0.67106 0.39428 -0.67569 C 0.38317 -0.68102 0.38577 -0.68403 0.37257 -0.6868 C 0.32639 -0.68518 0.32674 -0.68541 0.29584 -0.68009 C 0.27362 -0.66829 0.25157 -0.65648 0.22917 -0.64467 C 0.21806 -0.63889 0.20469 -0.6294 0.19254 -0.62916 C 0.15591 -0.62847 0.1191 -0.62916 0.08247 -0.62916 E">
                                      <p:cBhvr>
                                        <p:cTn id="879" dur="2000" fill="hold"/>
                                        <p:tgtEl>
                                          <p:spTgt spid="2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80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88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2" restart="whenNotActive" nodeType="interactiveSeq" fill="hold">
                <p:stCondLst>
                  <p:cond evt="onClick">
                    <p:tgtEl>
                      <p:spTgt spid="253"/>
                    </p:tgtEl>
                  </p:cond>
                </p:stCondLst>
                <p:childTnLst>
                  <p:par>
                    <p:cTn id="883" fill="hold">
                      <p:stCondLst>
                        <p:cond evt="onClick">
                          <p:tgtEl>
                            <p:spTgt spid="253"/>
                          </p:tgtEl>
                        </p:cond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j0074852.wav"/>
                                        </p:tgtEl>
                                      </p:cMediaNode>
                                    </p:audio>
                                    <p:animMotion origin="layout" path="M 0.44723 -0.31898 C 0.44132 -0.32685 0.44427 -0.32152 0.44046 -0.3368 C 0.43941 -0.3412 0.43716 -0.35023 0.43716 -0.35023 C 0.43872 -0.39004 0.43455 -0.41157 0.46216 -0.43032 C 0.46823 -0.43865 0.47743 -0.44027 0.48386 -0.44791 C 0.49671 -0.46342 0.50521 -0.47939 0.51042 -0.50138 C 0.51302 -0.52731 0.51719 -0.55231 0.50209 -0.57245 C 0.50157 -0.57546 0.50191 -0.57916 0.50052 -0.58125 C 0.49983 -0.58263 0.48907 -0.58564 0.48889 -0.58564 C 0.47639 -0.59027 0.46771 -0.59097 0.45382 -0.59236 C 0.43855 -0.59583 0.43629 -0.60254 0.42379 -0.6125 C 0.42275 -0.61551 0.42223 -0.61898 0.42049 -0.62129 C 0.41927 -0.62291 0.41667 -0.62199 0.41546 -0.62361 C 0.41372 -0.62592 0.41355 -0.62963 0.41216 -0.6324 C 0.40921 -0.63796 0.40625 -0.64004 0.40209 -0.64351 C 0.39948 -0.64884 0.39618 -0.65347 0.39375 -0.65902 C 0.39289 -0.66111 0.39289 -0.66365 0.39219 -0.66574 C 0.38941 -0.67338 0.38559 -0.68101 0.38212 -0.68796 C 0.37709 -0.70995 0.37171 -0.73611 0.35886 -0.75231 C 0.35504 -0.76713 0.36007 -0.74976 0.35209 -0.76805 C 0.34966 -0.77361 0.34896 -0.78125 0.34549 -0.78564 C 0.33629 -0.79791 0.32691 -0.81481 0.31389 -0.81898 C 0.31059 -0.82199 0.30764 -0.82638 0.30382 -0.82801 C 0.29792 -0.83055 0.2908 -0.83287 0.28542 -0.8368 C 0.2783 -0.84213 0.27014 -0.85138 0.26216 -0.85463 C 0.24584 -0.86134 0.22743 -0.86319 0.21042 -0.86574 C 0.19514 -0.87106 0.21355 -0.86527 0.18542 -0.87013 C 0.17396 -0.87222 0.16181 -0.87685 0.15052 -0.87916 C 0.13021 -0.8831 0.10938 -0.87916 0.08889 -0.87916 E">
                                      <p:cBhvr>
                                        <p:cTn id="886" dur="2000" fill="hold"/>
                                        <p:tgtEl>
                                          <p:spTgt spid="2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87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88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9" restart="whenNotActive" nodeType="interactiveSeq" fill="hold">
                <p:stCondLst>
                  <p:cond evt="onClick">
                    <p:tgtEl>
                      <p:spTgt spid="254"/>
                    </p:tgtEl>
                  </p:cond>
                </p:stCondLst>
                <p:childTnLst>
                  <p:par>
                    <p:cTn id="890" fill="hold">
                      <p:stCondLst>
                        <p:cond evt="onClick">
                          <p:tgtEl>
                            <p:spTgt spid="254"/>
                          </p:tgtEl>
                        </p:cond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j0074852.wav"/>
                                        </p:tgtEl>
                                      </p:cMediaNode>
                                    </p:audio>
                                    <p:animMotion origin="layout" path="M 0.53993 -0.54283 C 0.53924 -0.58334 0.54323 -0.64908 0.52483 -0.68959 C 0.52274 -0.71065 0.51754 -0.72986 0.51163 -0.74954 C 0.50816 -0.76088 0.50642 -0.77431 0.50156 -0.78496 C 0.49965 -0.78889 0.49688 -0.79213 0.49497 -0.79607 C 0.49149 -0.81389 0.49636 -0.79699 0.48663 -0.81181 C 0.47674 -0.82709 0.49063 -0.81574 0.47656 -0.825 C 0.47153 -0.83426 0.46684 -0.8463 0.4599 -0.85394 C 0.45295 -0.86158 0.45712 -0.85556 0.44983 -0.86065 C 0.4467 -0.86274 0.44479 -0.86783 0.44149 -0.86945 C 0.43663 -0.87199 0.42708 -0.87431 0.42153 -0.87616 C 0.41823 -0.87709 0.41493 -0.87778 0.41163 -0.87848 C 0.40434 -0.8801 0.38993 -0.88287 0.38993 -0.88287 C 0.37986 -0.88704 0.37031 -0.88982 0.3599 -0.89167 C 0.33767 -0.90186 0.30799 -0.90486 0.2849 -0.90718 C 0.26997 -0.90649 0.25486 -0.90672 0.23993 -0.9051 C 0.23038 -0.90394 0.22118 -0.89977 0.21163 -0.89838 C 0.19948 -0.89306 0.20504 -0.89514 0.19497 -0.89167 C 0.18507 -0.88311 0.18281 -0.88125 0.17153 -0.87848 C 0.16597 -0.87454 0.16024 -0.87315 0.15486 -0.86945 C 0.1434 -0.86181 0.1559 -0.8676 0.14497 -0.86274 C 0.13993 -0.86042 0.12986 -0.85625 0.12986 -0.85625 C 0.12396 -0.84792 0.12969 -0.85417 0.11997 -0.84954 C 0.10243 -0.84098 0.09219 -0.83403 0.07326 -0.83403 E">
                                      <p:cBhvr>
                                        <p:cTn id="893" dur="2000" fill="hold"/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4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89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6" restart="whenNotActive" nodeType="interactiveSeq" fill="hold">
                <p:stCondLst>
                  <p:cond evt="onClick">
                    <p:tgtEl>
                      <p:spTgt spid="255"/>
                    </p:tgtEl>
                  </p:cond>
                </p:stCondLst>
                <p:childTnLst>
                  <p:par>
                    <p:cTn id="897" fill="hold">
                      <p:stCondLst>
                        <p:cond evt="onClick">
                          <p:tgtEl>
                            <p:spTgt spid="255"/>
                          </p:tgtEl>
                        </p:cond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j0074852.wav"/>
                                        </p:tgtEl>
                                      </p:cMediaNode>
                                    </p:audio>
                                    <p:animMotion origin="layout" path="M 0.07396 -0.65879 C 0.04757 -0.65463 0.05521 -0.66666 0.00452 -0.66991 C -0.01822 -0.67315 -0.04045 -0.66018 -0.06371 -0.6618 C -0.12674 -0.66088 -0.19289 -0.68009 -0.2533 -0.65509 C -0.25365 -0.65463 -0.26216 -0.64653 -0.26337 -0.64398 C -0.27084 -0.62731 -0.27657 -0.60856 -0.2816 -0.59051 C -0.28299 -0.58541 -0.28386 -0.58009 -0.2849 -0.575 C -0.28612 -0.56898 -0.28837 -0.55717 -0.28837 -0.55694 C -0.2908 -0.52384 -0.29428 -0.48842 -0.28004 -0.45949 C -0.27761 -0.44676 -0.27257 -0.44004 -0.26667 -0.43055 C -0.26546 -0.42847 -0.26424 -0.42616 -0.26337 -0.42384 C -0.26268 -0.42176 -0.26268 -0.41921 -0.26164 -0.41736 C -0.25747 -0.41041 -0.25278 -0.40393 -0.24827 -0.39722 C -0.2441 -0.39097 -0.23941 -0.38541 -0.2349 -0.3794 C -0.23334 -0.37731 -0.23004 -0.37291 -0.23004 -0.37268 C -0.2283 -0.3662 -0.22726 -0.35926 -0.225 -0.35278 C -0.22414 -0.35046 -0.22257 -0.34861 -0.22171 -0.34606 C -0.22032 -0.3419 -0.21823 -0.33287 -0.21823 -0.33264 C -0.21771 -0.32778 -0.21737 -0.32245 -0.21667 -0.31736 C -0.21546 -0.30856 -0.2099 -0.2993 -0.2099 -0.29051 C -0.2099 -0.28171 -0.2099 -0.27268 -0.2099 -0.26389 E">
                                      <p:cBhvr>
                                        <p:cTn id="900" dur="2000" fill="hold"/>
                                        <p:tgtEl>
                                          <p:spTgt spid="2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01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90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3" restart="whenNotActive" nodeType="interactiveSeq" fill="hold">
                <p:stCondLst>
                  <p:cond evt="onClick">
                    <p:tgtEl>
                      <p:spTgt spid="256"/>
                    </p:tgtEl>
                  </p:cond>
                </p:stCondLst>
                <p:childTnLst>
                  <p:par>
                    <p:cTn id="904" fill="hold">
                      <p:stCondLst>
                        <p:cond evt="onClick">
                          <p:tgtEl>
                            <p:spTgt spid="256"/>
                          </p:tgtEl>
                        </p:cond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j0074852.wav"/>
                                        </p:tgtEl>
                                      </p:cMediaNode>
                                    </p:audio>
                                    <p:animMotion origin="layout" path="M 0.08247 -0.62917 C 0.07587 -0.62986 0.0691 -0.62986 0.06251 -0.63148 C 0.05678 -0.63287 0.05018 -0.63843 0.04428 -0.64028 C 0.03594 -0.65093 0.02674 -0.65139 0.01754 -0.6581 C 0.00139 -0.66991 0.01407 -0.66505 -0.00086 -0.66921 C -0.00815 -0.6757 -0.01562 -0.67801 -0.02413 -0.68033 C -0.03229 -0.68588 -0.0401 -0.69121 -0.04913 -0.69375 C -0.05885 -0.70023 -0.06874 -0.70301 -0.07916 -0.70695 C -0.08836 -0.71042 -0.0802 -0.70764 -0.08906 -0.71366 C -0.09392 -0.7169 -0.10034 -0.71829 -0.10572 -0.72037 C -0.12847 -0.72894 -0.1526 -0.73125 -0.17586 -0.73588 C -0.21041 -0.74283 -0.24427 -0.75185 -0.27916 -0.75579 C -0.28854 -0.75509 -0.29808 -0.75556 -0.30746 -0.75371 C -0.31545 -0.75208 -0.31909 -0.7382 -0.32413 -0.73148 C -0.32552 -0.72963 -0.3276 -0.72871 -0.32916 -0.72708 C -0.33038 -0.7257 -0.33142 -0.72408 -0.33246 -0.72246 C -0.33454 -0.71435 -0.33732 -0.70741 -0.34079 -0.70023 C -0.34357 -0.68634 -0.34583 -0.67222 -0.34739 -0.6581 C -0.346 -0.64306 -0.34548 -0.6375 -0.34079 -0.62477 C -0.3394 -0.61111 -0.33749 -0.59583 -0.3342 -0.58264 C -0.33124 -0.5706 -0.32499 -0.5625 -0.32083 -0.55139 C -0.31527 -0.53658 -0.3092 -0.52315 -0.30243 -0.50926 C -0.29895 -0.50232 -0.29288 -0.5 -0.28906 -0.49375 C -0.28437 -0.48611 -0.28194 -0.47708 -0.27743 -0.46921 C -0.27552 -0.46134 -0.27361 -0.45046 -0.27083 -0.44259 C -0.26909 -0.43773 -0.26597 -0.43496 -0.26579 -0.42917 C -0.26527 -0.40625 -0.26579 -0.38333 -0.26579 -0.36042 E">
                                      <p:cBhvr>
                                        <p:cTn id="907" dur="2000" fill="hold"/>
                                        <p:tgtEl>
                                          <p:spTgt spid="2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08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90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0" restart="whenNotActive" nodeType="interactiveSeq" fill="hold">
                <p:stCondLst>
                  <p:cond evt="onClick">
                    <p:tgtEl>
                      <p:spTgt spid="257"/>
                    </p:tgtEl>
                  </p:cond>
                </p:stCondLst>
                <p:childTnLst>
                  <p:par>
                    <p:cTn id="911" fill="hold">
                      <p:stCondLst>
                        <p:cond evt="onClick">
                          <p:tgtEl>
                            <p:spTgt spid="257"/>
                          </p:tgtEl>
                        </p:cond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j0074852.wav"/>
                                        </p:tgtEl>
                                      </p:cMediaNode>
                                    </p:audio>
                                    <p:animMotion origin="layout" path="M 0.08889 -0.87917 C 0.0198 -0.87801 -0.03698 -0.88195 -0.10121 -0.87037 C -0.10312 -0.86968 -0.10468 -0.86921 -0.10625 -0.86806 C -0.10798 -0.8669 -0.10954 -0.86482 -0.11111 -0.86366 C -0.11441 -0.86181 -0.12118 -0.85926 -0.12118 -0.85926 C -0.1276 -0.85023 -0.14392 -0.84236 -0.15277 -0.83912 C -0.15816 -0.83449 -0.16441 -0.83148 -0.16944 -0.82593 C -0.18281 -0.81134 -0.19652 -0.79653 -0.20954 -0.78148 C -0.21666 -0.77315 -0.22187 -0.76158 -0.22951 -0.75463 C -0.23767 -0.73287 -0.22569 -0.76227 -0.24288 -0.73241 C -0.24739 -0.72454 -0.25104 -0.71713 -0.25625 -0.71019 C -0.25972 -0.69607 -0.25486 -0.70995 -0.26284 -0.70139 C -0.26441 -0.69977 -0.26475 -0.69653 -0.26614 -0.69468 C -0.26927 -0.69051 -0.27309 -0.68773 -0.27621 -0.68357 C -0.27882 -0.67269 -0.2809 -0.66713 -0.28611 -0.65695 C -0.28732 -0.65463 -0.28958 -0.65023 -0.28958 -0.65023 C -0.29149 -0.6419 -0.29427 -0.63519 -0.29791 -0.62801 C -0.29965 -0.6206 -0.3026 -0.61528 -0.30451 -0.6081 C -0.30555 -0.58773 -0.3059 -0.56366 -0.31111 -0.54352 C -0.31232 -0.53912 -0.31354 -0.53472 -0.31458 -0.53033 C -0.31562 -0.52593 -0.31788 -0.5169 -0.31788 -0.5169 C -0.31909 -0.5037 -0.31805 -0.49699 -0.32448 -0.48796 C -0.3302 -0.46644 -0.32951 -0.4632 -0.32951 -0.43704 E">
                                      <p:cBhvr>
                                        <p:cTn id="914" dur="2000" fill="hold"/>
                                        <p:tgtEl>
                                          <p:spTgt spid="2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15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91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7" restart="whenNotActive" nodeType="interactiveSeq" fill="hold">
                <p:stCondLst>
                  <p:cond evt="onClick">
                    <p:tgtEl>
                      <p:spTgt spid="258"/>
                    </p:tgtEl>
                  </p:cond>
                </p:stCondLst>
                <p:childTnLst>
                  <p:par>
                    <p:cTn id="918" fill="hold">
                      <p:stCondLst>
                        <p:cond evt="onClick">
                          <p:tgtEl>
                            <p:spTgt spid="258"/>
                          </p:tgtEl>
                        </p:cond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j0074852.wav"/>
                                        </p:tgtEl>
                                      </p:cMediaNode>
                                    </p:audio>
                                    <p:animMotion origin="layout" path="M 0.07292 -0.83472 C 0.05244 -0.83796 0.04879 -0.8537 0.0349 -0.85347 C -0.06736 -0.85208 -0.16945 -0.85208 -0.27171 -0.85139 C -0.28056 -0.84722 -0.28733 -0.84028 -0.29497 -0.83357 C -0.29983 -0.82917 -0.30157 -0.82245 -0.30678 -0.81806 C -0.30782 -0.81574 -0.30921 -0.81366 -0.31007 -0.81134 C -0.31077 -0.80926 -0.31077 -0.80671 -0.31164 -0.80463 C -0.3125 -0.80278 -0.31407 -0.80185 -0.31511 -0.80023 C -0.32014 -0.7919 -0.32639 -0.78079 -0.33004 -0.7713 C -0.33542 -0.75695 -0.33941 -0.74051 -0.34844 -0.72917 C -0.3507 -0.71945 -0.35487 -0.71134 -0.35834 -0.70255 C -0.36233 -0.69236 -0.36441 -0.68426 -0.37171 -0.67801 C -0.38073 -0.63218 -0.3783 -0.62407 -0.3783 -0.5581 E">
                                      <p:cBhvr>
                                        <p:cTn id="921" dur="2000" fill="hold"/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22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92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4" restart="whenNotActive" nodeType="interactiveSeq" fill="hold">
                <p:stCondLst>
                  <p:cond evt="onClick">
                    <p:tgtEl>
                      <p:spTgt spid="259"/>
                    </p:tgtEl>
                  </p:cond>
                </p:stCondLst>
                <p:childTnLst>
                  <p:par>
                    <p:cTn id="925" fill="hold">
                      <p:stCondLst>
                        <p:cond evt="onClick">
                          <p:tgtEl>
                            <p:spTgt spid="259"/>
                          </p:tgtEl>
                        </p:cond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j0074852.wav"/>
                                        </p:tgtEl>
                                      </p:cMediaNode>
                                    </p:audio>
                                    <p:animMotion origin="layout" path="M -0.2099 -0.26389 C -0.20122 -0.2287 -0.21007 -0.26736 -0.20573 -0.17708 C -0.20539 -0.17037 -0.20226 -0.16389 -0.20139 -0.15717 C -0.19636 -0.11643 -0.1875 -0.0919 -0.16285 -0.05926 C -0.15244 -0.04583 -0.13803 -0.02893 -0.12188 -0.02384 C -0.11494 -0.01898 -0.10851 -0.01528 -0.10035 -0.01273 C -0.08732 -0.00347 -0.08124 -0.00208 -0.06631 0.00278 C -0.04236 0.00486 0.000869999999999999 -0.00046 0.02153 -0.00092 C 0.04219 -0.00139 0.04983 0.00023 0.0573 0.00047 E">
                                      <p:cBhvr>
                                        <p:cTn id="928" dur="2000" fill="hold"/>
                                        <p:tgtEl>
                                          <p:spTgt spid="2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29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93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1" restart="whenNotActive" nodeType="interactiveSeq" fill="hold">
                <p:stCondLst>
                  <p:cond evt="onClick">
                    <p:tgtEl>
                      <p:spTgt spid="260"/>
                    </p:tgtEl>
                  </p:cond>
                </p:stCondLst>
                <p:childTnLst>
                  <p:par>
                    <p:cTn id="932" fill="hold">
                      <p:stCondLst>
                        <p:cond evt="onClick">
                          <p:tgtEl>
                            <p:spTgt spid="260"/>
                          </p:tgtEl>
                        </p:cond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j0074852.wav"/>
                                        </p:tgtEl>
                                      </p:cMediaNode>
                                    </p:audio>
                                    <p:animMotion origin="layout" path="M -0.26579 -0.36041 C -0.26562 -0.34699 -0.28107 -0.2162 -0.25572 -0.16712 C -0.25381 -0.15902 -0.25034 -0.15254 -0.24739 -0.1449 C -0.246 -0.13449 -0.24479 -0.128 -0.23906 -0.12037 C -0.23663 -0.11018 -0.23263 -0.09976 -0.22586 -0.09374 C -0.21163 -0.06597 -0.19444 -0.04606 -0.17239 -0.02939 C -0.16562 -0.0243 -0.15781 -0.02268 -0.15086 -0.01828 C -0.14479 -0.01435 -0.13836 -0.01319 -0.13246 -0.00925 C -0.12152 -0.00185 -0.13402 -0.00694 -0.12083 -0.00277 C -0.0644 0.03588 -0.11666 0.00186 0.05417 0.00186 E">
                                      <p:cBhvr>
                                        <p:cTn id="935" dur="2000" fill="hold"/>
                                        <p:tgtEl>
                                          <p:spTgt spid="2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36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93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8" restart="whenNotActive" nodeType="interactiveSeq" fill="hold">
                <p:stCondLst>
                  <p:cond evt="onClick">
                    <p:tgtEl>
                      <p:spTgt spid="261"/>
                    </p:tgtEl>
                  </p:cond>
                </p:stCondLst>
                <p:childTnLst>
                  <p:par>
                    <p:cTn id="939" fill="hold">
                      <p:stCondLst>
                        <p:cond evt="onClick">
                          <p:tgtEl>
                            <p:spTgt spid="261"/>
                          </p:tgtEl>
                        </p:cond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j0074852.wav"/>
                                        </p:tgtEl>
                                      </p:cMediaNode>
                                    </p:audio>
                                    <p:animMotion origin="layout" path="M -0.32951 -0.43703 C -0.34409 -0.39837 -0.33767 -0.29166 -0.33784 -0.28587 C -0.33611 -0.23587 -0.33524 -0.18981 -0.32621 -0.14143 C -0.32517 -0.13564 -0.32152 -0.13124 -0.31944 -0.12592 C -0.31198 -0.1074 -0.3059 -0.08865 -0.29791 -0.07036 C -0.28906 -0.04999 -0.27621 -0.02036 -0.25781 -0.01273 C -0.24965 -0.00439 -0.23941 -0.00069 -0.23125 0.00741 C -0.22899 0.00973 -0.22708 0.01251 -0.22448 0.01413 C -0.22239 0.01551 -0.22013 0.01528 -0.21788 0.01621 C -0.21614 0.0169 -0.21441 0.01737 -0.21284 0.01852 C -0.19722 0.02894 -0.22309 0.01598 -0.19791 0.02732 C -0.19618 0.02801 -0.19288 0.02964 -0.19288 0.02964 C -0.17569 0.02894 -0.15833 0.02871 -0.14114 0.02732 C -0.13125 0.02663 -0.12378 0.02107 -0.11284 0.02061 C -0.08576 0.01945 -0.0585 0.01922 -0.03125 0.01852 C -0.01024 0.01436 0.01094 0.01251 0.03212 0.0095 C 0.03837 0.00764 0.04445 0.00579 0.05052 0.00301 C 0.05382 0.00163 0.06042 -0.00161 0.06042 -0.00161 C 0.06285 -0.00462 0.06563 -0.01273 0.06875 -0.01273 E">
                                      <p:cBhvr>
                                        <p:cTn id="942" dur="2000" fill="hold"/>
                                        <p:tgtEl>
                                          <p:spTgt spid="2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43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94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5" restart="whenNotActive" nodeType="interactiveSeq" fill="hold">
                <p:stCondLst>
                  <p:cond evt="onClick">
                    <p:tgtEl>
                      <p:spTgt spid="262"/>
                    </p:tgtEl>
                  </p:cond>
                </p:stCondLst>
                <p:childTnLst>
                  <p:par>
                    <p:cTn id="946" fill="hold">
                      <p:stCondLst>
                        <p:cond evt="onClick">
                          <p:tgtEl>
                            <p:spTgt spid="262"/>
                          </p:tgtEl>
                        </p:cond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j0074852.wav"/>
                                        </p:tgtEl>
                                      </p:cMediaNode>
                                    </p:audio>
                                    <p:animMotion origin="layout" path="M -0.3783 -0.5581 C -0.37534 -0.49028 -0.37812 -0.42222 -0.375 -0.3544 C -0.37465 -0.34792 -0.36961 -0.34306 -0.3684 -0.33681 C -0.36527 -0.32083 -0.36059 -0.30671 -0.35503 -0.2919 C -0.35208 -0.2838 -0.35121 -0.27315 -0.34826 -0.26482 C -0.3408 -0.24491 -0.34357 -0.25833 -0.33663 -0.24259 C -0.32413 -0.21343 -0.30573 -0.17222 -0.28333 -0.15532 C -0.26076 -0.13843 -0.2875 -0.16204 -0.26857 -0.14653 C -0.25416 -0.13495 -0.26354 -0.13958 -0.2533 -0.13519 C -0.24392 -0.12662 -0.25034 -0.13148 -0.2335 -0.12407 C -0.19722 -0.10833 -0.15104 -0.06713 -0.10833 -0.05232 C -0.10086 -0.04583 -0.09305 -0.04653 -0.08524 -0.0412 C -0.075 -0.03403 -0.06319 -0.02847 -0.05173 -0.02546 C -0.03645 -0.01551 -0.01857 -0.01921 -0.00173 -0.01667 C 0.01407 -0.01134 0.03039 -0.00926 0.0467 -0.00764 C 0.05209 -0.00509 0.05 -0.00556 0.05313 -0.00556 E">
                                      <p:cBhvr>
                                        <p:cTn id="949" dur="2000" fill="hold"/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0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-5400000">
                                      <p:cBhvr>
                                        <p:cTn id="95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2T20:18:06Z</dcterms:created>
  <dc:creator>Clear Creek ISD</dc:creator>
  <dc:description/>
  <dc:language>en-US</dc:language>
  <cp:lastModifiedBy>Clear Creek ISD</cp:lastModifiedBy>
  <dcterms:modified xsi:type="dcterms:W3CDTF">2006-02-06T15:40:42Z</dcterms:modified>
  <cp:revision>12</cp:revision>
  <dc:subject/>
  <dc:title>Slide 1</dc:title>
</cp:coreProperties>
</file>